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21.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24.png" ContentType="image/png"/>
  <Override PartName="/ppt/media/image23.png" ContentType="image/png"/>
  <Override PartName="/ppt/media/image22.wmf" ContentType="image/x-wmf"/>
  <Override PartName="/ppt/media/image21.wmf" ContentType="image/x-wmf"/>
  <Override PartName="/ppt/media/image19.wmf" ContentType="image/x-wmf"/>
  <Override PartName="/ppt/media/image20.wmf" ContentType="image/x-wmf"/>
  <Override PartName="/ppt/media/image32.jpeg" ContentType="image/jpeg"/>
  <Override PartName="/ppt/media/image18.wmf" ContentType="image/x-wmf"/>
  <Override PartName="/ppt/media/image17.wmf" ContentType="image/x-wmf"/>
  <Override PartName="/ppt/media/image5.wmf" ContentType="image/x-wmf"/>
  <Override PartName="/ppt/media/image13.wmf" ContentType="image/x-wmf"/>
  <Override PartName="/ppt/media/image30.png" ContentType="image/png"/>
  <Override PartName="/ppt/media/image33.jpeg" ContentType="image/jpeg"/>
  <Override PartName="/ppt/media/image27.png" ContentType="image/png"/>
  <Override PartName="/ppt/media/image12.wmf" ContentType="image/x-wmf"/>
  <Override PartName="/ppt/media/image8.wmf" ContentType="image/x-wmf"/>
  <Override PartName="/ppt/media/image38.wmf" ContentType="image/x-wmf"/>
  <Override PartName="/ppt/media/image9.wmf" ContentType="image/x-wmf"/>
  <Override PartName="/ppt/media/image34.png" ContentType="image/png"/>
  <Override PartName="/ppt/media/image35.png" ContentType="image/png"/>
  <Override PartName="/ppt/media/image36.png" ContentType="image/png"/>
  <Override PartName="/ppt/media/image7.wmf" ContentType="image/x-wmf"/>
  <Override PartName="/ppt/media/image37.png" ContentType="image/png"/>
  <Override PartName="/ppt/media/image11.wmf" ContentType="image/x-wmf"/>
  <Override PartName="/ppt/media/image26.png" ContentType="image/png"/>
  <Override PartName="/ppt/media/image6.wmf" ContentType="image/x-wmf"/>
  <Override PartName="/ppt/media/image29.wmf" ContentType="image/x-wmf"/>
  <Override PartName="/ppt/media/image31.png" ContentType="image/png"/>
  <Override PartName="/ppt/media/image14.wmf" ContentType="image/x-wmf"/>
  <Override PartName="/ppt/media/image10.wmf" ContentType="image/x-wmf"/>
  <Override PartName="/ppt/media/image25.png" ContentType="image/png"/>
  <Override PartName="/ppt/media/image4.wmf" ContentType="image/x-wmf"/>
  <Override PartName="/ppt/media/image3.wmf" ContentType="image/x-wmf"/>
  <Override PartName="/ppt/media/image2.wmf" ContentType="image/x-wmf"/>
  <Override PartName="/ppt/media/image28.png" ContentType="image/png"/>
  <Override PartName="/ppt/media/image1.wmf" ContentType="image/x-wmf"/>
  <Override PartName="/ppt/media/image15.wmf" ContentType="image/x-wmf"/>
  <Override PartName="/ppt/media/image1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746875" cy="99139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0" y="0"/>
            <a:ext cx="6746400" cy="991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 name="PlaceHolder 1"/>
          <p:cNvSpPr>
            <a:spLocks noGrp="1"/>
          </p:cNvSpPr>
          <p:nvPr>
            <p:ph type="hdr"/>
          </p:nvPr>
        </p:nvSpPr>
        <p:spPr>
          <a:xfrm>
            <a:off x="-360" y="0"/>
            <a:ext cx="2895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 name="PlaceHolder 2"/>
          <p:cNvSpPr>
            <a:spLocks noGrp="1"/>
          </p:cNvSpPr>
          <p:nvPr>
            <p:ph type="dt" idx="3"/>
          </p:nvPr>
        </p:nvSpPr>
        <p:spPr>
          <a:xfrm>
            <a:off x="3809520" y="0"/>
            <a:ext cx="2971800" cy="5335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 name="PlaceHolder 3"/>
          <p:cNvSpPr>
            <a:spLocks noGrp="1"/>
          </p:cNvSpPr>
          <p:nvPr>
            <p:ph type="sldImg"/>
          </p:nvPr>
        </p:nvSpPr>
        <p:spPr>
          <a:xfrm>
            <a:off x="901440" y="761760"/>
            <a:ext cx="4978440" cy="3733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lick to move the slide</a:t>
            </a:r>
            <a:endParaRPr b="0" lang="en-US" sz="2800" spc="-1" strike="noStrike">
              <a:solidFill>
                <a:srgbClr val="3333cc"/>
              </a:solidFill>
              <a:latin typeface="Arial"/>
            </a:endParaRPr>
          </a:p>
        </p:txBody>
      </p:sp>
      <p:sp>
        <p:nvSpPr>
          <p:cNvPr id="56" name="PlaceHolder 4"/>
          <p:cNvSpPr>
            <a:spLocks noGrp="1"/>
          </p:cNvSpPr>
          <p:nvPr>
            <p:ph type="body"/>
          </p:nvPr>
        </p:nvSpPr>
        <p:spPr>
          <a:xfrm>
            <a:off x="914400" y="4723920"/>
            <a:ext cx="4952880" cy="441972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 name="PlaceHolder 5"/>
          <p:cNvSpPr>
            <a:spLocks noGrp="1"/>
          </p:cNvSpPr>
          <p:nvPr>
            <p:ph type="ftr" idx="4"/>
          </p:nvPr>
        </p:nvSpPr>
        <p:spPr>
          <a:xfrm>
            <a:off x="-360" y="9448920"/>
            <a:ext cx="289548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 name="PlaceHolder 6"/>
          <p:cNvSpPr>
            <a:spLocks noGrp="1"/>
          </p:cNvSpPr>
          <p:nvPr>
            <p:ph type="sldNum" idx="5"/>
          </p:nvPr>
        </p:nvSpPr>
        <p:spPr>
          <a:xfrm>
            <a:off x="3809520" y="944892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C983D-1082-417D-ABD8-D354B1E106F6}"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895320" y="743040"/>
            <a:ext cx="4957920" cy="3717720"/>
          </a:xfrm>
          <a:prstGeom prst="rect">
            <a:avLst/>
          </a:prstGeom>
          <a:ln w="0">
            <a:noFill/>
          </a:ln>
        </p:spPr>
      </p:sp>
      <p:sp>
        <p:nvSpPr>
          <p:cNvPr id="523" name="PlaceHolder 2"/>
          <p:cNvSpPr>
            <a:spLocks noGrp="1"/>
          </p:cNvSpPr>
          <p:nvPr>
            <p:ph type="body"/>
          </p:nvPr>
        </p:nvSpPr>
        <p:spPr>
          <a:xfrm>
            <a:off x="899640" y="4708440"/>
            <a:ext cx="4946760" cy="4462560"/>
          </a:xfrm>
          <a:prstGeom prst="rect">
            <a:avLst/>
          </a:prstGeom>
          <a:noFill/>
          <a:ln w="0">
            <a:noFill/>
          </a:ln>
        </p:spPr>
        <p:txBody>
          <a:bodyPr lIns="90000" rIns="90000" tIns="46800" bIns="46800" anchor="ctr" anchorCtr="1">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ôle moteur, confort, sécurité, radio,  en automobile, pacemakers, téléphones portables, FAX, imprimantes, télévision, machines à laver,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ême certains rasoirs électriques contiennent un micro contrôleur avec quelques milliers de lignes de cod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901800" y="762120"/>
            <a:ext cx="4978440" cy="3733560"/>
          </a:xfrm>
          <a:prstGeom prst="rect">
            <a:avLst/>
          </a:prstGeom>
          <a:ln w="0">
            <a:noFill/>
          </a:ln>
        </p:spPr>
      </p:sp>
      <p:sp>
        <p:nvSpPr>
          <p:cNvPr id="543" name="PlaceHolder 2"/>
          <p:cNvSpPr>
            <a:spLocks noGrp="1"/>
          </p:cNvSpPr>
          <p:nvPr>
            <p:ph type="body"/>
          </p:nvPr>
        </p:nvSpPr>
        <p:spPr>
          <a:xfrm>
            <a:off x="914400" y="4723920"/>
            <a:ext cx="4952880" cy="441972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l est le critère plus import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nchronisation des 2 comman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tard le plus faible possibl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901800" y="762120"/>
            <a:ext cx="4978440" cy="3733560"/>
          </a:xfrm>
          <a:prstGeom prst="rect">
            <a:avLst/>
          </a:prstGeom>
          <a:ln w="0">
            <a:noFill/>
          </a:ln>
        </p:spPr>
      </p:sp>
      <p:sp>
        <p:nvSpPr>
          <p:cNvPr id="545" name="PlaceHolder 2"/>
          <p:cNvSpPr>
            <a:spLocks noGrp="1"/>
          </p:cNvSpPr>
          <p:nvPr>
            <p:ph type="body"/>
          </p:nvPr>
        </p:nvSpPr>
        <p:spPr>
          <a:xfrm>
            <a:off x="914400" y="4723920"/>
            <a:ext cx="4952880" cy="4419720"/>
          </a:xfrm>
          <a:prstGeom prst="rect">
            <a:avLst/>
          </a:prstGeom>
          <a:noFill/>
          <a:ln w="0">
            <a:noFill/>
          </a:ln>
        </p:spPr>
        <p:txBody>
          <a:bodyPr lIns="90000" rIns="90000" tIns="46800" bIns="4680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édération des points de v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dre les points de vue consist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 de modèle unifié</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que point de vue a une « bonne » manière d ’exprimer ses élément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mettre l ’expression (graphique) de chaque mét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ner des cadres d ’expression pour permettre les passerel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re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ilité de simuler (faire vivre le modèl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sibilité de générer du code efficace exécutabl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901800" y="762120"/>
            <a:ext cx="4978440" cy="3733560"/>
          </a:xfrm>
          <a:prstGeom prst="rect">
            <a:avLst/>
          </a:prstGeom>
          <a:ln w="0">
            <a:noFill/>
          </a:ln>
        </p:spPr>
      </p:sp>
      <p:sp>
        <p:nvSpPr>
          <p:cNvPr id="547" name="PlaceHolder 2"/>
          <p:cNvSpPr>
            <a:spLocks noGrp="1"/>
          </p:cNvSpPr>
          <p:nvPr>
            <p:ph type="body"/>
          </p:nvPr>
        </p:nvSpPr>
        <p:spPr>
          <a:xfrm>
            <a:off x="914400" y="4723920"/>
            <a:ext cx="4952880" cy="4419720"/>
          </a:xfrm>
          <a:prstGeom prst="rect">
            <a:avLst/>
          </a:prstGeom>
          <a:noFill/>
          <a:ln w="0">
            <a:noFill/>
          </a:ln>
        </p:spPr>
        <p:txBody>
          <a:bodyPr lIns="90000" rIns="90000" tIns="46800" bIns="4680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étérogénéité, maîtr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fac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 rendu</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dre (temporel) actions /réactions extern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e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éfinir des schémas validés au niveau ad ’hoc</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duction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ématique, garantissant la conservation de propriét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dre les points de vue cohérents et intégr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ègles de concep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age d ’informations / Intégrer les modification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 règle de concep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 partageant un cadre de modélisation commu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éfinir des contraintes temporelles justes / en garder la trace et le comportement exter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ser l ’influence temporelle sur la qualité d ’exécu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 simul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 définition de critè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îtriser le contrôle d ’exécution</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901800" y="762120"/>
            <a:ext cx="4978440" cy="3733560"/>
          </a:xfrm>
          <a:prstGeom prst="rect">
            <a:avLst/>
          </a:prstGeom>
          <a:ln w="0">
            <a:noFill/>
          </a:ln>
        </p:spPr>
      </p:sp>
      <p:sp>
        <p:nvSpPr>
          <p:cNvPr id="549" name="PlaceHolder 2"/>
          <p:cNvSpPr>
            <a:spLocks noGrp="1"/>
          </p:cNvSpPr>
          <p:nvPr>
            <p:ph type="body"/>
          </p:nvPr>
        </p:nvSpPr>
        <p:spPr>
          <a:xfrm>
            <a:off x="914400" y="4723920"/>
            <a:ext cx="4952880" cy="4419720"/>
          </a:xfrm>
          <a:prstGeom prst="rect">
            <a:avLst/>
          </a:prstGeom>
          <a:noFill/>
          <a:ln w="0">
            <a:noFill/>
          </a:ln>
        </p:spPr>
        <p:txBody>
          <a:bodyPr lIns="90000" rIns="90000" tIns="46800" bIns="4680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nception Conjointe : b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Quelle architecture minimale permet de respecter les contraintes définies p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l ’automaticien ? (=S, = C, 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Quelles contraintes temporelles max sur mon algorithme l ’architecture matériel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est elle capable de respecter ? Ces contraintes temporelles max sont elles compatib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avec les performances requises de mon système ? (=H, =S,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Peut on remettre en cause le découpage algorithmique pour mieux utiliser l ’architec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a:t>
            </a:r>
            <a:r>
              <a:rPr b="0" lang="fr-FR" sz="1200" spc="-1" strike="noStrike">
                <a:solidFill>
                  <a:srgbClr val="000000"/>
                </a:solidFill>
                <a:latin typeface="Times New Roman"/>
              </a:rPr>
              <a:t>et respecter les contraintes ? (=H,=C, 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mment intégrer ces points de v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Modèles intégr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Simu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Preuve quand applic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Permettre des traductions automatiqu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efficac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nservant des propriété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 Interopérabilité : nécessité de préciser la syntaxe des échang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be : expression du te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3809520" y="944892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F2228-2B2C-481D-8FAE-865C9ED1552E}"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1" name=""/>
          <p:cNvSpPr txBox="1"/>
          <p:nvPr/>
        </p:nvSpPr>
        <p:spPr>
          <a:xfrm>
            <a:off x="-360" y="9448920"/>
            <a:ext cx="289548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2" name=""/>
          <p:cNvSpPr txBox="1"/>
          <p:nvPr/>
        </p:nvSpPr>
        <p:spPr>
          <a:xfrm>
            <a:off x="-360" y="0"/>
            <a:ext cx="2895480" cy="5335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3" name=""/>
          <p:cNvSpPr txBox="1"/>
          <p:nvPr/>
        </p:nvSpPr>
        <p:spPr>
          <a:xfrm>
            <a:off x="3809520" y="0"/>
            <a:ext cx="2971800" cy="533520"/>
          </a:xfrm>
          <a:prstGeom prst="rect">
            <a:avLst/>
          </a:prstGeom>
          <a:noFill/>
          <a:ln w="0">
            <a:noFill/>
          </a:ln>
        </p:spPr>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4" name="PlaceHolder 1"/>
          <p:cNvSpPr>
            <a:spLocks noGrp="1"/>
          </p:cNvSpPr>
          <p:nvPr>
            <p:ph type="body"/>
          </p:nvPr>
        </p:nvSpPr>
        <p:spPr>
          <a:xfrm>
            <a:off x="912600" y="4729320"/>
            <a:ext cx="4956120" cy="4132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555" name="PlaceHolder 2"/>
          <p:cNvSpPr>
            <a:spLocks noGrp="1"/>
          </p:cNvSpPr>
          <p:nvPr>
            <p:ph type="sldImg"/>
          </p:nvPr>
        </p:nvSpPr>
        <p:spPr>
          <a:xfrm>
            <a:off x="909720" y="770040"/>
            <a:ext cx="4959360" cy="371952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809520" y="944892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56C72-19A6-420E-AA2A-74BA851D14E1}"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
          <p:cNvSpPr txBox="1"/>
          <p:nvPr/>
        </p:nvSpPr>
        <p:spPr>
          <a:xfrm>
            <a:off x="-360" y="9448920"/>
            <a:ext cx="289548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6" name=""/>
          <p:cNvSpPr txBox="1"/>
          <p:nvPr/>
        </p:nvSpPr>
        <p:spPr>
          <a:xfrm>
            <a:off x="-360" y="0"/>
            <a:ext cx="2895480" cy="5335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7" name=""/>
          <p:cNvSpPr txBox="1"/>
          <p:nvPr/>
        </p:nvSpPr>
        <p:spPr>
          <a:xfrm>
            <a:off x="3809520" y="0"/>
            <a:ext cx="2971800" cy="533520"/>
          </a:xfrm>
          <a:prstGeom prst="rect">
            <a:avLst/>
          </a:prstGeom>
          <a:noFill/>
          <a:ln w="0">
            <a:noFill/>
          </a:ln>
        </p:spPr>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8" name="PlaceHolder 1"/>
          <p:cNvSpPr>
            <a:spLocks noGrp="1"/>
          </p:cNvSpPr>
          <p:nvPr>
            <p:ph type="body"/>
          </p:nvPr>
        </p:nvSpPr>
        <p:spPr>
          <a:xfrm>
            <a:off x="898200" y="4712760"/>
            <a:ext cx="4949640" cy="4172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529" name="PlaceHolder 2"/>
          <p:cNvSpPr>
            <a:spLocks noGrp="1"/>
          </p:cNvSpPr>
          <p:nvPr>
            <p:ph type="sldImg"/>
          </p:nvPr>
        </p:nvSpPr>
        <p:spPr>
          <a:xfrm>
            <a:off x="903240" y="750960"/>
            <a:ext cx="4938840" cy="370368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09520" y="944892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38433-5EB7-45E2-A197-41D7CBC8289D}"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9448920"/>
            <a:ext cx="289548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
          <p:cNvSpPr txBox="1"/>
          <p:nvPr/>
        </p:nvSpPr>
        <p:spPr>
          <a:xfrm>
            <a:off x="-360" y="0"/>
            <a:ext cx="2895480" cy="5335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3" name=""/>
          <p:cNvSpPr txBox="1"/>
          <p:nvPr/>
        </p:nvSpPr>
        <p:spPr>
          <a:xfrm>
            <a:off x="3809520" y="0"/>
            <a:ext cx="2971800" cy="533520"/>
          </a:xfrm>
          <a:prstGeom prst="rect">
            <a:avLst/>
          </a:prstGeom>
          <a:noFill/>
          <a:ln w="0">
            <a:noFill/>
          </a:ln>
        </p:spPr>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4" name="PlaceHolder 1"/>
          <p:cNvSpPr>
            <a:spLocks noGrp="1"/>
          </p:cNvSpPr>
          <p:nvPr>
            <p:ph type="body"/>
          </p:nvPr>
        </p:nvSpPr>
        <p:spPr>
          <a:xfrm>
            <a:off x="898200" y="4712760"/>
            <a:ext cx="4949640" cy="4172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535" name="PlaceHolder 2"/>
          <p:cNvSpPr>
            <a:spLocks noGrp="1"/>
          </p:cNvSpPr>
          <p:nvPr>
            <p:ph type="sldImg"/>
          </p:nvPr>
        </p:nvSpPr>
        <p:spPr>
          <a:xfrm>
            <a:off x="903240" y="750960"/>
            <a:ext cx="4938840" cy="370368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3809520" y="944892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BA9D1-869E-4072-B40D-7C06BB4D5B3E}"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
          <p:cNvSpPr txBox="1"/>
          <p:nvPr/>
        </p:nvSpPr>
        <p:spPr>
          <a:xfrm>
            <a:off x="-360" y="9448920"/>
            <a:ext cx="289548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8" name=""/>
          <p:cNvSpPr txBox="1"/>
          <p:nvPr/>
        </p:nvSpPr>
        <p:spPr>
          <a:xfrm>
            <a:off x="-360" y="0"/>
            <a:ext cx="2895480" cy="53352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9" name=""/>
          <p:cNvSpPr txBox="1"/>
          <p:nvPr/>
        </p:nvSpPr>
        <p:spPr>
          <a:xfrm>
            <a:off x="3809520" y="0"/>
            <a:ext cx="2971800" cy="533520"/>
          </a:xfrm>
          <a:prstGeom prst="rect">
            <a:avLst/>
          </a:prstGeom>
          <a:noFill/>
          <a:ln w="0">
            <a:noFill/>
          </a:ln>
        </p:spPr>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903240" y="750960"/>
            <a:ext cx="4938840" cy="3703680"/>
          </a:xfrm>
          <a:prstGeom prst="rect">
            <a:avLst/>
          </a:prstGeom>
          <a:ln w="0">
            <a:noFill/>
          </a:ln>
        </p:spPr>
      </p:sp>
      <p:sp>
        <p:nvSpPr>
          <p:cNvPr id="541" name="PlaceHolder 2"/>
          <p:cNvSpPr>
            <a:spLocks noGrp="1"/>
          </p:cNvSpPr>
          <p:nvPr>
            <p:ph type="body"/>
          </p:nvPr>
        </p:nvSpPr>
        <p:spPr>
          <a:xfrm>
            <a:off x="898200" y="4712760"/>
            <a:ext cx="4949640" cy="4172040"/>
          </a:xfrm>
          <a:prstGeom prst="rect">
            <a:avLst/>
          </a:prstGeom>
          <a:noFill/>
          <a:ln w="0">
            <a:noFill/>
          </a:ln>
        </p:spPr>
        <p:txBody>
          <a:bodyPr lIns="90000" rIns="90000" tIns="46800" bIns="4680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n embedded real-time computer system is part of a well-specified larger system, an </a:t>
            </a:r>
            <a:r>
              <a:rPr b="1" i="1" lang="en-GB" sz="1200" spc="-1" strike="noStrike">
                <a:solidFill>
                  <a:srgbClr val="000000"/>
                </a:solidFill>
                <a:latin typeface="Times New Roman"/>
              </a:rPr>
              <a:t>intelligent product. </a:t>
            </a:r>
            <a:r>
              <a:rPr b="1" lang="en-GB" sz="1200" spc="-1" strike="noStrike">
                <a:solidFill>
                  <a:srgbClr val="000000"/>
                </a:solidFill>
                <a:latin typeface="Times New Roman"/>
              </a:rPr>
              <a:t>An intelligent product normally consists of a  mechanical subsystem, the controlling embedded computer, and a man-machine interface.</a:t>
            </a:r>
            <a:br>
              <a:rPr sz="1200"/>
            </a:br>
            <a:r>
              <a:rPr b="1" lang="en-GB" sz="1200" spc="-1" strike="noStrike">
                <a:solidFill>
                  <a:srgbClr val="000000"/>
                </a:solidFill>
                <a:latin typeface="Times New Roman"/>
              </a:rPr>
              <a:t>The static configuration, known </a:t>
            </a:r>
            <a:r>
              <a:rPr b="1" i="1" lang="en-GB" sz="1200" spc="-1" strike="noStrike">
                <a:solidFill>
                  <a:srgbClr val="000000"/>
                </a:solidFill>
                <a:latin typeface="Times New Roman"/>
              </a:rPr>
              <a:t>a priori, </a:t>
            </a:r>
            <a:r>
              <a:rPr b="1" lang="en-GB" sz="1200" spc="-1" strike="noStrike">
                <a:solidFill>
                  <a:srgbClr val="000000"/>
                </a:solidFill>
                <a:latin typeface="Times New Roman"/>
              </a:rPr>
              <a:t>of the intelligent product can be used to reduce the resource requirements and increase the robustness of the embedded computer system.</a:t>
            </a:r>
            <a:br>
              <a:rPr sz="1200"/>
            </a:br>
            <a:r>
              <a:rPr b="1" lang="en-GB" sz="1200" spc="-1" strike="noStrike">
                <a:solidFill>
                  <a:srgbClr val="000000"/>
                </a:solidFill>
                <a:latin typeface="Times New Roman"/>
              </a:rPr>
              <a:t>An industrial plant automation system is normally unique. Compared to development cost, the production cost (hardware cost) of a plant automation system is less important.</a:t>
            </a:r>
            <a:br>
              <a:rPr sz="1200"/>
            </a:br>
            <a:r>
              <a:rPr b="1" lang="en-GB" sz="1200" spc="-1" strike="noStrike">
                <a:solidFill>
                  <a:srgbClr val="000000"/>
                </a:solidFill>
                <a:latin typeface="Times New Roman"/>
              </a:rPr>
              <a:t>The embedded system market is expected to grow significantly during the next ten years. Compared with other information technology markets, this market will offer the best employment opportunities for the computer engineers of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ver decreasing price/performance ratio of microcontrollers makes it economically attractive to replace the conventional mechanical or electronic control system within many products by an embedded real-time computer system. There are numerous examples of products with embedded computer systems : engine controllers in cars, heart pacemakers, FAX machines, cellular phones, computers printers, television sets, washing machines, even some electric razors contain a microcontroller with some thousand instructions of software code [Ran 94]. Because the external interfaces of the product, and in particular, the man-machine interfaces, often remain unchanged relative to the previous product generation, it is often not visible from the outside that a real-time computer system is controlling the product behavi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9F06525-B84D-491D-874F-751EF65BE62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38" name="PlaceHolder 2"/>
          <p:cNvSpPr>
            <a:spLocks noGrp="1"/>
          </p:cNvSpPr>
          <p:nvPr>
            <p:ph/>
          </p:nvPr>
        </p:nvSpPr>
        <p:spPr>
          <a:xfrm>
            <a:off x="1523880" y="990360"/>
            <a:ext cx="746784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3"/>
          <p:cNvSpPr>
            <a:spLocks noGrp="1"/>
          </p:cNvSpPr>
          <p:nvPr>
            <p:ph/>
          </p:nvPr>
        </p:nvSpPr>
        <p:spPr>
          <a:xfrm>
            <a:off x="1523880" y="3935880"/>
            <a:ext cx="746784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9F77CC7-F95A-4A36-9F5F-F136439A38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5238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41" name="PlaceHolder 2"/>
          <p:cNvSpPr>
            <a:spLocks noGrp="1"/>
          </p:cNvSpPr>
          <p:nvPr>
            <p:ph/>
          </p:nvPr>
        </p:nvSpPr>
        <p:spPr>
          <a:xfrm>
            <a:off x="1523880" y="990360"/>
            <a:ext cx="364428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3"/>
          <p:cNvSpPr>
            <a:spLocks noGrp="1"/>
          </p:cNvSpPr>
          <p:nvPr>
            <p:ph/>
          </p:nvPr>
        </p:nvSpPr>
        <p:spPr>
          <a:xfrm>
            <a:off x="5350680" y="990360"/>
            <a:ext cx="364428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 name="PlaceHolder 4"/>
          <p:cNvSpPr>
            <a:spLocks noGrp="1"/>
          </p:cNvSpPr>
          <p:nvPr>
            <p:ph/>
          </p:nvPr>
        </p:nvSpPr>
        <p:spPr>
          <a:xfrm>
            <a:off x="1523880" y="3935880"/>
            <a:ext cx="364428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4" name="PlaceHolder 5"/>
          <p:cNvSpPr>
            <a:spLocks noGrp="1"/>
          </p:cNvSpPr>
          <p:nvPr>
            <p:ph/>
          </p:nvPr>
        </p:nvSpPr>
        <p:spPr>
          <a:xfrm>
            <a:off x="5350680" y="3935880"/>
            <a:ext cx="364428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30A0170-33E1-4F69-BA68-1B1E8C0899A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5238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46" name="PlaceHolder 2"/>
          <p:cNvSpPr>
            <a:spLocks noGrp="1"/>
          </p:cNvSpPr>
          <p:nvPr>
            <p:ph/>
          </p:nvPr>
        </p:nvSpPr>
        <p:spPr>
          <a:xfrm>
            <a:off x="1523880" y="990360"/>
            <a:ext cx="240444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7" name="PlaceHolder 3"/>
          <p:cNvSpPr>
            <a:spLocks noGrp="1"/>
          </p:cNvSpPr>
          <p:nvPr>
            <p:ph/>
          </p:nvPr>
        </p:nvSpPr>
        <p:spPr>
          <a:xfrm>
            <a:off x="4048920" y="990360"/>
            <a:ext cx="240444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8" name="PlaceHolder 4"/>
          <p:cNvSpPr>
            <a:spLocks noGrp="1"/>
          </p:cNvSpPr>
          <p:nvPr>
            <p:ph/>
          </p:nvPr>
        </p:nvSpPr>
        <p:spPr>
          <a:xfrm>
            <a:off x="6573960" y="990360"/>
            <a:ext cx="240444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9" name="PlaceHolder 5"/>
          <p:cNvSpPr>
            <a:spLocks noGrp="1"/>
          </p:cNvSpPr>
          <p:nvPr>
            <p:ph/>
          </p:nvPr>
        </p:nvSpPr>
        <p:spPr>
          <a:xfrm>
            <a:off x="1523880" y="3935880"/>
            <a:ext cx="240444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0" name="PlaceHolder 6"/>
          <p:cNvSpPr>
            <a:spLocks noGrp="1"/>
          </p:cNvSpPr>
          <p:nvPr>
            <p:ph/>
          </p:nvPr>
        </p:nvSpPr>
        <p:spPr>
          <a:xfrm>
            <a:off x="4048920" y="3935880"/>
            <a:ext cx="240444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1" name="PlaceHolder 7"/>
          <p:cNvSpPr>
            <a:spLocks noGrp="1"/>
          </p:cNvSpPr>
          <p:nvPr>
            <p:ph/>
          </p:nvPr>
        </p:nvSpPr>
        <p:spPr>
          <a:xfrm>
            <a:off x="6573960" y="3935880"/>
            <a:ext cx="240444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8B7703A-1D5E-4CB3-B0E1-9B9BF402E3E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17" name="PlaceHolder 2"/>
          <p:cNvSpPr>
            <a:spLocks noGrp="1"/>
          </p:cNvSpPr>
          <p:nvPr>
            <p:ph type="subTitle"/>
          </p:nvPr>
        </p:nvSpPr>
        <p:spPr>
          <a:xfrm>
            <a:off x="1523880" y="990360"/>
            <a:ext cx="7467840" cy="56386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66C6CE1-51F4-49EF-B2AC-E0B239325D8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19" name="PlaceHolder 2"/>
          <p:cNvSpPr>
            <a:spLocks noGrp="1"/>
          </p:cNvSpPr>
          <p:nvPr>
            <p:ph/>
          </p:nvPr>
        </p:nvSpPr>
        <p:spPr>
          <a:xfrm>
            <a:off x="1523880" y="990360"/>
            <a:ext cx="7467840" cy="563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847455C-17C4-49CA-844C-4DF912728E8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8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21" name="PlaceHolder 2"/>
          <p:cNvSpPr>
            <a:spLocks noGrp="1"/>
          </p:cNvSpPr>
          <p:nvPr>
            <p:ph/>
          </p:nvPr>
        </p:nvSpPr>
        <p:spPr>
          <a:xfrm>
            <a:off x="1523880" y="990360"/>
            <a:ext cx="3644280" cy="563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5350680" y="990360"/>
            <a:ext cx="3644280" cy="563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FFF706-DD16-4E05-85B4-31C9A9D2FD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15238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DC53E5-A312-4BF7-86B3-DCA50A8F70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1523880" y="76320"/>
            <a:ext cx="7467840" cy="3532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DFE630-A5E4-4F86-8273-52CE7C9FBF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26" name="PlaceHolder 2"/>
          <p:cNvSpPr>
            <a:spLocks noGrp="1"/>
          </p:cNvSpPr>
          <p:nvPr>
            <p:ph/>
          </p:nvPr>
        </p:nvSpPr>
        <p:spPr>
          <a:xfrm>
            <a:off x="1523880" y="990360"/>
            <a:ext cx="364428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3"/>
          <p:cNvSpPr>
            <a:spLocks noGrp="1"/>
          </p:cNvSpPr>
          <p:nvPr>
            <p:ph/>
          </p:nvPr>
        </p:nvSpPr>
        <p:spPr>
          <a:xfrm>
            <a:off x="5350680" y="990360"/>
            <a:ext cx="3644280" cy="563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8" name="PlaceHolder 4"/>
          <p:cNvSpPr>
            <a:spLocks noGrp="1"/>
          </p:cNvSpPr>
          <p:nvPr>
            <p:ph/>
          </p:nvPr>
        </p:nvSpPr>
        <p:spPr>
          <a:xfrm>
            <a:off x="1523880" y="3935880"/>
            <a:ext cx="364428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5F2719-8B71-41D6-8E76-919D84556C0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30" name="PlaceHolder 2"/>
          <p:cNvSpPr>
            <a:spLocks noGrp="1"/>
          </p:cNvSpPr>
          <p:nvPr>
            <p:ph/>
          </p:nvPr>
        </p:nvSpPr>
        <p:spPr>
          <a:xfrm>
            <a:off x="1523880" y="990360"/>
            <a:ext cx="3644280" cy="563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1" name="PlaceHolder 3"/>
          <p:cNvSpPr>
            <a:spLocks noGrp="1"/>
          </p:cNvSpPr>
          <p:nvPr>
            <p:ph/>
          </p:nvPr>
        </p:nvSpPr>
        <p:spPr>
          <a:xfrm>
            <a:off x="5350680" y="990360"/>
            <a:ext cx="364428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2" name="PlaceHolder 4"/>
          <p:cNvSpPr>
            <a:spLocks noGrp="1"/>
          </p:cNvSpPr>
          <p:nvPr>
            <p:ph/>
          </p:nvPr>
        </p:nvSpPr>
        <p:spPr>
          <a:xfrm>
            <a:off x="5350680" y="3935880"/>
            <a:ext cx="364428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B5D08A-D089-4076-85F3-B223FB3D64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34" name="PlaceHolder 2"/>
          <p:cNvSpPr>
            <a:spLocks noGrp="1"/>
          </p:cNvSpPr>
          <p:nvPr>
            <p:ph/>
          </p:nvPr>
        </p:nvSpPr>
        <p:spPr>
          <a:xfrm>
            <a:off x="1523880" y="990360"/>
            <a:ext cx="364428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3"/>
          <p:cNvSpPr>
            <a:spLocks noGrp="1"/>
          </p:cNvSpPr>
          <p:nvPr>
            <p:ph/>
          </p:nvPr>
        </p:nvSpPr>
        <p:spPr>
          <a:xfrm>
            <a:off x="5350680" y="990360"/>
            <a:ext cx="364428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 name="PlaceHolder 4"/>
          <p:cNvSpPr>
            <a:spLocks noGrp="1"/>
          </p:cNvSpPr>
          <p:nvPr>
            <p:ph/>
          </p:nvPr>
        </p:nvSpPr>
        <p:spPr>
          <a:xfrm>
            <a:off x="1523880" y="3935880"/>
            <a:ext cx="7467840" cy="2689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1283AB2-0407-413A-BE86-F90713C250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image" Target="../media/image2.wmf"/><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lick to edit the title text format</a:t>
            </a:r>
            <a:endParaRPr b="0" lang="en-US" sz="2800" spc="-1" strike="noStrike">
              <a:solidFill>
                <a:srgbClr val="3333cc"/>
              </a:solidFill>
              <a:latin typeface="Arial"/>
            </a:endParaRPr>
          </a:p>
        </p:txBody>
      </p:sp>
      <p:sp>
        <p:nvSpPr>
          <p:cNvPr id="1" name="PlaceHolder 2"/>
          <p:cNvSpPr>
            <a:spLocks noGrp="1"/>
          </p:cNvSpPr>
          <p:nvPr>
            <p:ph type="body"/>
          </p:nvPr>
        </p:nvSpPr>
        <p:spPr>
          <a:xfrm>
            <a:off x="1523880" y="990360"/>
            <a:ext cx="7467840" cy="5638680"/>
          </a:xfrm>
          <a:prstGeom prst="rect">
            <a:avLst/>
          </a:prstGeom>
          <a:noFill/>
          <a:ln w="0">
            <a:noFill/>
          </a:ln>
        </p:spPr>
        <p:txBody>
          <a:bodyPr lIns="90000" rIns="90000" tIns="46800" bIns="46800" anchor="t">
            <a:normAutofit/>
          </a:bodyPr>
          <a:p>
            <a:pPr marL="287280" indent="-287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574560" indent="-9684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52560" indent="-187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330200" indent="-182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709640" indent="-182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709640" indent="-182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709640" indent="-182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0" y="4724280"/>
            <a:ext cx="1371600" cy="1067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838080" y="586728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ACA89-57EF-408F-801B-FA5EE66FB2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0" y="0"/>
            <a:ext cx="1434960" cy="6858000"/>
          </a:xfrm>
          <a:prstGeom prst="rect">
            <a:avLst/>
          </a:prstGeom>
          <a:gradFill rotWithShape="0">
            <a:gsLst>
              <a:gs pos="0">
                <a:srgbClr val="00cc99"/>
              </a:gs>
              <a:gs pos="50000">
                <a:srgbClr val="b1eedf"/>
              </a:gs>
              <a:gs pos="100000">
                <a:srgbClr val="00cc99"/>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372960" y="5805360"/>
          <a:ext cx="604800" cy="581040"/>
        </p:xfrm>
        <a:graphic>
          <a:graphicData uri="http://schemas.openxmlformats.org/presentationml/2006/ole">
            <p:oleObj r:id="rId2" spid="">
              <p:embed/>
              <p:pic>
                <p:nvPicPr>
                  <p:cNvPr id="6" name="" descr=""/>
                  <p:cNvPicPr/>
                  <p:nvPr/>
                </p:nvPicPr>
                <p:blipFill>
                  <a:blip r:embed="rId3"/>
                  <a:stretch/>
                </p:blipFill>
                <p:spPr>
                  <a:xfrm>
                    <a:off x="372960" y="5805360"/>
                    <a:ext cx="604800" cy="581040"/>
                  </a:xfrm>
                  <a:prstGeom prst="rect">
                    <a:avLst/>
                  </a:prstGeom>
                  <a:ln w="0">
                    <a:noFill/>
                  </a:ln>
                </p:spPr>
              </p:pic>
            </p:oleObj>
          </a:graphicData>
        </a:graphic>
      </p:graphicFrame>
      <p:sp>
        <p:nvSpPr>
          <p:cNvPr id="7" name=""/>
          <p:cNvSpPr/>
          <p:nvPr/>
        </p:nvSpPr>
        <p:spPr>
          <a:xfrm>
            <a:off x="0" y="5257800"/>
            <a:ext cx="1231920" cy="365760"/>
          </a:xfrm>
          <a:prstGeom prst="rect">
            <a:avLst/>
          </a:prstGeom>
          <a:noFill/>
          <a:ln w="0">
            <a:noFill/>
          </a:ln>
        </p:spPr>
        <p:style>
          <a:lnRef idx="0"/>
          <a:fillRef idx="0"/>
          <a:effectRef idx="0"/>
          <a:fontRef idx="minor"/>
        </p:style>
        <p:txBody>
          <a:bodyPr lIns="90360" rIns="90360" tIns="44280" bIns="4428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C A E M</a:t>
            </a:r>
            <a:endParaRPr b="0" lang="en-US" sz="1400" spc="-1" strike="noStrike">
              <a:solidFill>
                <a:srgbClr val="000000"/>
              </a:solidFill>
              <a:latin typeface="Times New Roman"/>
            </a:endParaRPr>
          </a:p>
        </p:txBody>
      </p:sp>
      <p:sp>
        <p:nvSpPr>
          <p:cNvPr id="8" name=""/>
          <p:cNvSpPr/>
          <p:nvPr/>
        </p:nvSpPr>
        <p:spPr>
          <a:xfrm>
            <a:off x="109800" y="6407280"/>
            <a:ext cx="126972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Book Antiqua"/>
              </a:rPr>
              <a:t>11-déc.-2001</a:t>
            </a:r>
            <a:endParaRPr b="0" lang="en-US" sz="1400" spc="-1" strike="noStrike">
              <a:solidFill>
                <a:srgbClr val="000000"/>
              </a:solidFill>
              <a:latin typeface="Times New Roman"/>
            </a:endParaRPr>
          </a:p>
        </p:txBody>
      </p:sp>
      <p:pic>
        <p:nvPicPr>
          <p:cNvPr id="9" name="" descr=""/>
          <p:cNvPicPr/>
          <p:nvPr/>
        </p:nvPicPr>
        <p:blipFill>
          <a:blip r:embed="rId4"/>
          <a:stretch/>
        </p:blipFill>
        <p:spPr>
          <a:xfrm>
            <a:off x="0" y="0"/>
            <a:ext cx="712800" cy="816120"/>
          </a:xfrm>
          <a:prstGeom prst="rect">
            <a:avLst/>
          </a:prstGeom>
          <a:ln w="0">
            <a:noFill/>
          </a:ln>
        </p:spPr>
      </p:pic>
      <p:pic>
        <p:nvPicPr>
          <p:cNvPr id="10" name="" descr=""/>
          <p:cNvPicPr/>
          <p:nvPr/>
        </p:nvPicPr>
        <p:blipFill>
          <a:blip r:embed="rId5"/>
          <a:stretch/>
        </p:blipFill>
        <p:spPr>
          <a:xfrm>
            <a:off x="533520" y="0"/>
            <a:ext cx="965160" cy="1054080"/>
          </a:xfrm>
          <a:prstGeom prst="rect">
            <a:avLst/>
          </a:prstGeom>
          <a:ln w="0">
            <a:noFill/>
          </a:ln>
        </p:spPr>
      </p:pic>
      <p:sp>
        <p:nvSpPr>
          <p:cNvPr id="11" name=""/>
          <p:cNvSpPr/>
          <p:nvPr/>
        </p:nvSpPr>
        <p:spPr>
          <a:xfrm>
            <a:off x="823680" y="587844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mG</a:t>
            </a:r>
            <a:endParaRPr b="0" lang="en-US" sz="1400" spc="-1" strike="noStrike">
              <a:solidFill>
                <a:srgbClr val="000000"/>
              </a:solidFill>
              <a:latin typeface="Times New Roman"/>
            </a:endParaRPr>
          </a:p>
        </p:txBody>
      </p:sp>
      <p:grpSp>
        <p:nvGrpSpPr>
          <p:cNvPr id="12" name=""/>
          <p:cNvGrpSpPr/>
          <p:nvPr/>
        </p:nvGrpSpPr>
        <p:grpSpPr>
          <a:xfrm>
            <a:off x="0" y="685800"/>
            <a:ext cx="1066680" cy="1053720"/>
            <a:chOff x="0" y="685800"/>
            <a:chExt cx="1066680" cy="1053720"/>
          </a:xfrm>
        </p:grpSpPr>
        <p:pic>
          <p:nvPicPr>
            <p:cNvPr id="13" name="" descr=""/>
            <p:cNvPicPr/>
            <p:nvPr/>
          </p:nvPicPr>
          <p:blipFill>
            <a:blip r:embed="rId6"/>
            <a:stretch/>
          </p:blipFill>
          <p:spPr>
            <a:xfrm>
              <a:off x="133200" y="685800"/>
              <a:ext cx="933480" cy="987120"/>
            </a:xfrm>
            <a:prstGeom prst="rect">
              <a:avLst/>
            </a:prstGeom>
            <a:ln w="0">
              <a:noFill/>
            </a:ln>
          </p:spPr>
        </p:pic>
        <p:pic>
          <p:nvPicPr>
            <p:cNvPr id="14" name="" descr=""/>
            <p:cNvPicPr/>
            <p:nvPr/>
          </p:nvPicPr>
          <p:blipFill>
            <a:blip r:embed="rId7"/>
            <a:stretch/>
          </p:blipFill>
          <p:spPr>
            <a:xfrm>
              <a:off x="0" y="1188720"/>
              <a:ext cx="619200" cy="550800"/>
            </a:xfrm>
            <a:prstGeom prst="rect">
              <a:avLst/>
            </a:prstGeom>
            <a:ln w="0">
              <a:noFill/>
            </a:ln>
          </p:spPr>
        </p:pic>
      </p:grpSp>
      <p:sp>
        <p:nvSpPr>
          <p:cNvPr id="15" name=""/>
          <p:cNvSpPr/>
          <p:nvPr/>
        </p:nvSpPr>
        <p:spPr>
          <a:xfrm>
            <a:off x="1523880" y="914400"/>
            <a:ext cx="7467840" cy="0"/>
          </a:xfrm>
          <a:prstGeom prst="line">
            <a:avLst/>
          </a:prstGeom>
          <a:ln w="5724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image" Target="../media/image11.wmf"/><Relationship Id="rId8" Type="http://schemas.openxmlformats.org/officeDocument/2006/relationships/image" Target="../media/image12.wmf"/><Relationship Id="rId9" Type="http://schemas.openxmlformats.org/officeDocument/2006/relationships/image" Target="../media/image13.wmf"/><Relationship Id="rId10" Type="http://schemas.openxmlformats.org/officeDocument/2006/relationships/image" Target="../media/image14.wmf"/><Relationship Id="rId11" Type="http://schemas.openxmlformats.org/officeDocument/2006/relationships/image" Target="../media/image15.wmf"/><Relationship Id="rId12" Type="http://schemas.openxmlformats.org/officeDocument/2006/relationships/image" Target="../media/image16.wmf"/><Relationship Id="rId13" Type="http://schemas.openxmlformats.org/officeDocument/2006/relationships/image" Target="../media/image17.wmf"/><Relationship Id="rId14" Type="http://schemas.openxmlformats.org/officeDocument/2006/relationships/image" Target="../media/image18.wmf"/><Relationship Id="rId15" Type="http://schemas.openxmlformats.org/officeDocument/2006/relationships/image" Target="../media/image19.wmf"/><Relationship Id="rId16" Type="http://schemas.openxmlformats.org/officeDocument/2006/relationships/image" Target="../media/image20.wmf"/><Relationship Id="rId17" Type="http://schemas.openxmlformats.org/officeDocument/2006/relationships/image" Target="../media/image21.wmf"/><Relationship Id="rId18" Type="http://schemas.openxmlformats.org/officeDocument/2006/relationships/image" Target="../media/image22.wmf"/><Relationship Id="rId19" Type="http://schemas.openxmlformats.org/officeDocument/2006/relationships/slideLayout" Target="../slideLayouts/slideLayout3.xml"/><Relationship Id="rId20"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3.jpeg"/><Relationship Id="rId3" Type="http://schemas.openxmlformats.org/officeDocument/2006/relationships/image" Target="../media/image32.jpeg"/><Relationship Id="rId4" Type="http://schemas.openxmlformats.org/officeDocument/2006/relationships/image" Target="../media/image37.png"/><Relationship Id="rId5" Type="http://schemas.openxmlformats.org/officeDocument/2006/relationships/image" Target="../media/image37.png"/><Relationship Id="rId6" Type="http://schemas.openxmlformats.org/officeDocument/2006/relationships/image" Target="../media/image37.png"/><Relationship Id="rId7" Type="http://schemas.openxmlformats.org/officeDocument/2006/relationships/image" Target="../media/image37.png"/><Relationship Id="rId8" Type="http://schemas.openxmlformats.org/officeDocument/2006/relationships/image" Target="../media/image37.png"/><Relationship Id="rId9" Type="http://schemas.openxmlformats.org/officeDocument/2006/relationships/image" Target="../media/image37.png"/><Relationship Id="rId10" Type="http://schemas.openxmlformats.org/officeDocument/2006/relationships/image" Target="../media/image9.wmf"/><Relationship Id="rId11" Type="http://schemas.openxmlformats.org/officeDocument/2006/relationships/image" Target="../media/image37.png"/><Relationship Id="rId12" Type="http://schemas.openxmlformats.org/officeDocument/2006/relationships/image" Target="../media/image37.png"/><Relationship Id="rId13" Type="http://schemas.openxmlformats.org/officeDocument/2006/relationships/slideLayout" Target="../slideLayouts/slideLayout5.xml"/><Relationship Id="rId1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7.png"/><Relationship Id="rId3" Type="http://schemas.openxmlformats.org/officeDocument/2006/relationships/image" Target="../media/image37.png"/><Relationship Id="rId4" Type="http://schemas.openxmlformats.org/officeDocument/2006/relationships/image" Target="../media/image37.png"/><Relationship Id="rId5" Type="http://schemas.openxmlformats.org/officeDocument/2006/relationships/image" Target="../media/image37.png"/><Relationship Id="rId6" Type="http://schemas.openxmlformats.org/officeDocument/2006/relationships/image" Target="../media/image37.png"/><Relationship Id="rId7"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447560" y="380880"/>
            <a:ext cx="7543800" cy="3200400"/>
          </a:xfrm>
          <a:prstGeom prst="rect">
            <a:avLst/>
          </a:prstGeom>
          <a:gradFill rotWithShape="0">
            <a:gsLst>
              <a:gs pos="0">
                <a:srgbClr val="b2b2b2"/>
              </a:gs>
              <a:gs pos="100000">
                <a:srgbClr val="808080"/>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Développement des </a:t>
            </a:r>
            <a:br>
              <a:rPr sz="4000"/>
            </a:br>
            <a:r>
              <a:rPr b="0" lang="en-US" sz="4000" spc="-1" strike="noStrike">
                <a:solidFill>
                  <a:srgbClr val="3333cc"/>
                </a:solidFill>
                <a:latin typeface="Arial"/>
              </a:rPr>
              <a:t>systèmes embarqués</a:t>
            </a:r>
            <a:br>
              <a:rPr sz="4000"/>
            </a:br>
            <a:br>
              <a:rPr sz="4000"/>
            </a:br>
            <a:r>
              <a:rPr b="0" lang="en-US" sz="4000" spc="-1" strike="noStrike">
                <a:solidFill>
                  <a:srgbClr val="3333cc"/>
                </a:solidFill>
                <a:latin typeface="Arial"/>
              </a:rPr>
              <a:t>Conception conjointe</a:t>
            </a:r>
            <a:br>
              <a:rPr sz="4000"/>
            </a:br>
            <a:r>
              <a:rPr b="0" lang="en-US" sz="4000" spc="-1" strike="noStrike">
                <a:solidFill>
                  <a:srgbClr val="3333cc"/>
                </a:solidFill>
                <a:latin typeface="Arial"/>
              </a:rPr>
              <a:t>Automatique/ exécutif /matériel</a:t>
            </a:r>
            <a:endParaRPr b="0" lang="en-US" sz="4000" spc="-1" strike="noStrike">
              <a:solidFill>
                <a:srgbClr val="3333cc"/>
              </a:solidFill>
              <a:latin typeface="Arial"/>
            </a:endParaRPr>
          </a:p>
        </p:txBody>
      </p:sp>
      <p:sp>
        <p:nvSpPr>
          <p:cNvPr id="60" name="PlaceHolder 2"/>
          <p:cNvSpPr>
            <a:spLocks noGrp="1"/>
          </p:cNvSpPr>
          <p:nvPr>
            <p:ph type="subTitle"/>
          </p:nvPr>
        </p:nvSpPr>
        <p:spPr>
          <a:xfrm>
            <a:off x="1371600" y="3886200"/>
            <a:ext cx="73152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Jean-Marie Gilliot</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Rémy Kocik - Arben Cela</a:t>
            </a:r>
            <a:endParaRPr b="0" lang="en-US" sz="2800" spc="-1" strike="noStrike">
              <a:solidFill>
                <a:srgbClr val="000000"/>
              </a:solidFill>
              <a:latin typeface="Times New Roman"/>
            </a:endParaRPr>
          </a:p>
          <a:p>
            <a:pPr indent="0" algn="ctr">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Groupe ESIEE</a:t>
            </a:r>
            <a:endParaRPr b="0" lang="en-US" sz="24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gilliotj@esiee.fr - http://www.esiee.fr/~gilliotj</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1633680" y="1521000"/>
            <a:ext cx="4113000" cy="3508200"/>
          </a:xfrm>
          <a:prstGeom prst="bevel">
            <a:avLst>
              <a:gd name="adj" fmla="val 2690"/>
            </a:avLst>
          </a:prstGeom>
          <a:solidFill>
            <a:srgbClr val="ccffcc">
              <a:alpha val="50000"/>
            </a:srgbClr>
          </a:solidFill>
          <a:ln w="25560">
            <a:solidFill>
              <a:srgbClr val="000000"/>
            </a:solidFill>
            <a:prstDash val="dash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PlaceHolder 1"/>
          <p:cNvSpPr>
            <a:spLocks noGrp="1"/>
          </p:cNvSpPr>
          <p:nvPr>
            <p:ph type="title"/>
          </p:nvPr>
        </p:nvSpPr>
        <p:spPr>
          <a:xfrm>
            <a:off x="15238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Eléments d ’un Système embarqué</a:t>
            </a:r>
            <a:endParaRPr b="0" lang="en-US" sz="2800" spc="-1" strike="noStrike">
              <a:solidFill>
                <a:srgbClr val="3333cc"/>
              </a:solidFill>
              <a:latin typeface="Arial"/>
            </a:endParaRPr>
          </a:p>
        </p:txBody>
      </p:sp>
      <p:pic>
        <p:nvPicPr>
          <p:cNvPr id="147" name="Satelite01" descr=""/>
          <p:cNvPicPr/>
          <p:nvPr/>
        </p:nvPicPr>
        <p:blipFill>
          <a:blip r:embed="rId1"/>
          <a:stretch/>
        </p:blipFill>
        <p:spPr>
          <a:xfrm>
            <a:off x="6629400" y="3581280"/>
            <a:ext cx="1676520" cy="1162080"/>
          </a:xfrm>
          <a:prstGeom prst="rect">
            <a:avLst/>
          </a:prstGeom>
          <a:ln w="0">
            <a:noFill/>
          </a:ln>
        </p:spPr>
      </p:pic>
      <p:sp>
        <p:nvSpPr>
          <p:cNvPr id="148" name=""/>
          <p:cNvSpPr/>
          <p:nvPr/>
        </p:nvSpPr>
        <p:spPr>
          <a:xfrm flipV="1">
            <a:off x="4419720" y="4343040"/>
            <a:ext cx="2895480" cy="228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flipV="1">
            <a:off x="4724280" y="3657600"/>
            <a:ext cx="2438640" cy="76320"/>
          </a:xfrm>
          <a:prstGeom prst="line">
            <a:avLst/>
          </a:prstGeom>
          <a:ln w="19080">
            <a:solidFill>
              <a:srgbClr val="000000"/>
            </a:solidFill>
            <a:miter/>
            <a:tailEnd len="med" type="arrow"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50" name=""/>
          <p:cNvSpPr/>
          <p:nvPr/>
        </p:nvSpPr>
        <p:spPr>
          <a:xfrm>
            <a:off x="1447920" y="1066680"/>
            <a:ext cx="7086600" cy="4953240"/>
          </a:xfrm>
          <a:prstGeom prst="downArrowCallout">
            <a:avLst>
              <a:gd name="adj1" fmla="val 15766"/>
              <a:gd name="adj2" fmla="val 18009"/>
              <a:gd name="adj3" fmla="val 11995"/>
              <a:gd name="adj4" fmla="val 82991"/>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429560" y="5942520"/>
            <a:ext cx="71056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ût, fonctionnalités, performances, sûreté de fonctionnement, coût</a:t>
            </a:r>
            <a:endParaRPr b="0" lang="en-US" sz="2000" spc="-1" strike="noStrike">
              <a:solidFill>
                <a:srgbClr val="000000"/>
              </a:solidFill>
              <a:latin typeface="Times New Roman"/>
            </a:endParaRPr>
          </a:p>
        </p:txBody>
      </p:sp>
      <p:sp>
        <p:nvSpPr>
          <p:cNvPr id="152" name=""/>
          <p:cNvSpPr/>
          <p:nvPr/>
        </p:nvSpPr>
        <p:spPr>
          <a:xfrm>
            <a:off x="64440" y="1933920"/>
            <a:ext cx="1280880" cy="764280"/>
          </a:xfrm>
          <a:custGeom>
            <a:avLst/>
            <a:gdLst/>
            <a:ahLst/>
            <a:rect l="l" t="t" r="r" b="b"/>
            <a:pathLst>
              <a:path stroke="0" w="21600" h="21600">
                <a:moveTo>
                  <a:pt x="0" y="0"/>
                </a:moveTo>
                <a:lnTo>
                  <a:pt x="21600" y="0"/>
                </a:lnTo>
                <a:lnTo>
                  <a:pt x="21600" y="21600"/>
                </a:lnTo>
                <a:lnTo>
                  <a:pt x="0" y="21600"/>
                </a:lnTo>
                <a:close/>
              </a:path>
              <a:path w="21600" h="21600">
                <a:moveTo>
                  <a:pt x="25363" y="-9142"/>
                </a:moveTo>
                <a:lnTo>
                  <a:pt x="22768" y="2901"/>
                </a:lnTo>
              </a:path>
              <a:path w="21600" h="21600">
                <a:moveTo>
                  <a:pt x="22768" y="0"/>
                </a:moveTo>
                <a:lnTo>
                  <a:pt x="22768" y="21600"/>
                </a:lnTo>
              </a:path>
            </a:pathLst>
          </a:custGeom>
          <a:noFill/>
          <a:ln w="28440">
            <a:solidFill>
              <a:srgbClr val="9933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ystème</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mbarqué</a:t>
            </a:r>
            <a:endParaRPr b="0" lang="en-US" sz="2200" spc="-1" strike="noStrike">
              <a:solidFill>
                <a:srgbClr val="000000"/>
              </a:solidFill>
              <a:latin typeface="Times New Roman"/>
            </a:endParaRPr>
          </a:p>
        </p:txBody>
      </p:sp>
      <p:grpSp>
        <p:nvGrpSpPr>
          <p:cNvPr id="153" name=""/>
          <p:cNvGrpSpPr/>
          <p:nvPr/>
        </p:nvGrpSpPr>
        <p:grpSpPr>
          <a:xfrm>
            <a:off x="0" y="1752480"/>
            <a:ext cx="4371840" cy="1661760"/>
            <a:chOff x="0" y="1752480"/>
            <a:chExt cx="4371840" cy="1661760"/>
          </a:xfrm>
        </p:grpSpPr>
        <p:grpSp>
          <p:nvGrpSpPr>
            <p:cNvPr id="154" name=""/>
            <p:cNvGrpSpPr/>
            <p:nvPr/>
          </p:nvGrpSpPr>
          <p:grpSpPr>
            <a:xfrm>
              <a:off x="1933560" y="1752480"/>
              <a:ext cx="2438280" cy="1143000"/>
              <a:chOff x="1933560" y="1752480"/>
              <a:chExt cx="2438280" cy="1143000"/>
            </a:xfrm>
          </p:grpSpPr>
          <p:sp>
            <p:nvSpPr>
              <p:cNvPr id="155" name=""/>
              <p:cNvSpPr/>
              <p:nvPr/>
            </p:nvSpPr>
            <p:spPr>
              <a:xfrm>
                <a:off x="1933560" y="1752480"/>
                <a:ext cx="2438280" cy="1143000"/>
              </a:xfrm>
              <a:prstGeom prst="roundRect">
                <a:avLst>
                  <a:gd name="adj" fmla="val 16667"/>
                </a:avLst>
              </a:prstGeom>
              <a:solidFill>
                <a:srgbClr val="ffff99">
                  <a:alpha val="50000"/>
                </a:srgbClr>
              </a:solidFill>
              <a:ln cap="rnd" w="255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314440" y="1904760"/>
                <a:ext cx="380880" cy="228600"/>
              </a:xfrm>
              <a:prstGeom prst="flowChartAlternateProcess">
                <a:avLst/>
              </a:prstGeom>
              <a:solidFill>
                <a:srgbClr val="8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923920" y="1904760"/>
                <a:ext cx="381240" cy="228600"/>
              </a:xfrm>
              <a:prstGeom prst="flowChartAlternateProcess">
                <a:avLst/>
              </a:prstGeom>
              <a:solidFill>
                <a:srgbClr val="8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533760" y="1904760"/>
                <a:ext cx="380880" cy="228600"/>
              </a:xfrm>
              <a:prstGeom prst="flowChartAlternateProcess">
                <a:avLst/>
              </a:prstGeom>
              <a:solidFill>
                <a:srgbClr val="8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923920" y="2209680"/>
                <a:ext cx="381240" cy="228600"/>
              </a:xfrm>
              <a:prstGeom prst="flowChartAlternateProcess">
                <a:avLst/>
              </a:prstGeom>
              <a:solidFill>
                <a:srgbClr val="8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3381120" y="2514240"/>
                <a:ext cx="381240" cy="228600"/>
              </a:xfrm>
              <a:prstGeom prst="flowChartAlternateProcess">
                <a:avLst/>
              </a:prstGeom>
              <a:solidFill>
                <a:srgbClr val="8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619360" y="2514240"/>
                <a:ext cx="380880" cy="228600"/>
              </a:xfrm>
              <a:prstGeom prst="flowChartAlternateProcess">
                <a:avLst/>
              </a:prstGeom>
              <a:solidFill>
                <a:srgbClr val="8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695320" y="205704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305160" y="2057040"/>
                <a:ext cx="2286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3000240" y="2666880"/>
                <a:ext cx="38088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305160" y="2133360"/>
                <a:ext cx="444240" cy="266760"/>
              </a:xfrm>
              <a:custGeom>
                <a:avLst/>
                <a:gdLst/>
                <a:ahLst/>
                <a:rect l="l" t="t" r="r" b="b"/>
                <a:pathLst>
                  <a:path w="280" h="168">
                    <a:moveTo>
                      <a:pt x="240" y="0"/>
                    </a:moveTo>
                    <a:cubicBezTo>
                      <a:pt x="260" y="60"/>
                      <a:pt x="280" y="120"/>
                      <a:pt x="240" y="144"/>
                    </a:cubicBezTo>
                    <a:cubicBezTo>
                      <a:pt x="200" y="168"/>
                      <a:pt x="100" y="156"/>
                      <a:pt x="0" y="144"/>
                    </a:cubicBezTo>
                  </a:path>
                </a:pathLst>
              </a:custGeom>
              <a:noFill/>
              <a:ln w="284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6" name=""/>
              <p:cNvSpPr/>
              <p:nvPr/>
            </p:nvSpPr>
            <p:spPr>
              <a:xfrm>
                <a:off x="2543040" y="2133360"/>
                <a:ext cx="380880" cy="228600"/>
              </a:xfrm>
              <a:custGeom>
                <a:avLst/>
                <a:gdLst/>
                <a:ahLst/>
                <a:rect l="l" t="t" r="r" b="b"/>
                <a:pathLst>
                  <a:path w="240" h="144">
                    <a:moveTo>
                      <a:pt x="240" y="144"/>
                    </a:moveTo>
                    <a:cubicBezTo>
                      <a:pt x="164" y="132"/>
                      <a:pt x="88" y="120"/>
                      <a:pt x="48" y="96"/>
                    </a:cubicBezTo>
                    <a:cubicBezTo>
                      <a:pt x="8" y="72"/>
                      <a:pt x="4" y="36"/>
                      <a:pt x="0" y="0"/>
                    </a:cubicBezTo>
                  </a:path>
                </a:pathLst>
              </a:custGeom>
              <a:noFill/>
              <a:ln w="284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7" name=""/>
              <p:cNvSpPr/>
              <p:nvPr/>
            </p:nvSpPr>
            <p:spPr>
              <a:xfrm>
                <a:off x="2390760" y="2133360"/>
                <a:ext cx="228600" cy="457200"/>
              </a:xfrm>
              <a:custGeom>
                <a:avLst/>
                <a:gdLst/>
                <a:ahLst/>
                <a:rect l="l" t="t" r="r" b="b"/>
                <a:pathLst>
                  <a:path w="144" h="288">
                    <a:moveTo>
                      <a:pt x="0" y="0"/>
                    </a:moveTo>
                    <a:cubicBezTo>
                      <a:pt x="12" y="96"/>
                      <a:pt x="24" y="192"/>
                      <a:pt x="48" y="240"/>
                    </a:cubicBezTo>
                    <a:cubicBezTo>
                      <a:pt x="72" y="288"/>
                      <a:pt x="108" y="288"/>
                      <a:pt x="144" y="288"/>
                    </a:cubicBezTo>
                  </a:path>
                </a:pathLst>
              </a:custGeom>
              <a:noFill/>
              <a:ln w="284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8" name=""/>
              <p:cNvSpPr/>
              <p:nvPr/>
            </p:nvSpPr>
            <p:spPr>
              <a:xfrm>
                <a:off x="3914640" y="1981080"/>
                <a:ext cx="228600" cy="0"/>
              </a:xfrm>
              <a:prstGeom prst="line">
                <a:avLst/>
              </a:prstGeom>
              <a:ln w="28440">
                <a:solidFill>
                  <a:srgbClr val="000000"/>
                </a:solidFill>
                <a:miter/>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762360" y="2590560"/>
                <a:ext cx="228600" cy="0"/>
              </a:xfrm>
              <a:prstGeom prst="line">
                <a:avLst/>
              </a:prstGeom>
              <a:ln w="28440">
                <a:solidFill>
                  <a:srgbClr val="000000"/>
                </a:solidFill>
                <a:miter/>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085840" y="1981080"/>
                <a:ext cx="228600" cy="0"/>
              </a:xfrm>
              <a:prstGeom prst="line">
                <a:avLst/>
              </a:prstGeom>
              <a:ln w="28440">
                <a:solidFill>
                  <a:srgbClr val="000000"/>
                </a:solidFill>
                <a:miter/>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1" name=""/>
            <p:cNvSpPr/>
            <p:nvPr/>
          </p:nvSpPr>
          <p:spPr>
            <a:xfrm>
              <a:off x="0" y="2985120"/>
              <a:ext cx="1628640" cy="429120"/>
            </a:xfrm>
            <a:custGeom>
              <a:avLst/>
              <a:gdLst/>
              <a:ahLst/>
              <a:rect l="l" t="t" r="r" b="b"/>
              <a:pathLst>
                <a:path stroke="0" w="21600" h="21600">
                  <a:moveTo>
                    <a:pt x="0" y="0"/>
                  </a:moveTo>
                  <a:lnTo>
                    <a:pt x="21600" y="0"/>
                  </a:lnTo>
                  <a:lnTo>
                    <a:pt x="21600" y="21600"/>
                  </a:lnTo>
                  <a:lnTo>
                    <a:pt x="0" y="21600"/>
                  </a:lnTo>
                  <a:close/>
                </a:path>
                <a:path w="21600" h="21600">
                  <a:moveTo>
                    <a:pt x="32145" y="-48306"/>
                  </a:moveTo>
                  <a:lnTo>
                    <a:pt x="22611" y="5419"/>
                  </a:lnTo>
                </a:path>
                <a:path w="21600" h="21600">
                  <a:moveTo>
                    <a:pt x="22611" y="0"/>
                  </a:moveTo>
                  <a:lnTo>
                    <a:pt x="22611" y="21600"/>
                  </a:lnTo>
                </a:path>
              </a:pathLst>
            </a:custGeom>
            <a:noFill/>
            <a:ln w="28440">
              <a:solidFill>
                <a:srgbClr val="9933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lgorithmes</a:t>
              </a:r>
              <a:endParaRPr b="0" lang="en-US" sz="2200" spc="-1" strike="noStrike">
                <a:solidFill>
                  <a:srgbClr val="000000"/>
                </a:solidFill>
                <a:latin typeface="Times New Roman"/>
              </a:endParaRPr>
            </a:p>
          </p:txBody>
        </p:sp>
      </p:grpSp>
      <p:grpSp>
        <p:nvGrpSpPr>
          <p:cNvPr id="172" name=""/>
          <p:cNvGrpSpPr/>
          <p:nvPr/>
        </p:nvGrpSpPr>
        <p:grpSpPr>
          <a:xfrm>
            <a:off x="0" y="3124080"/>
            <a:ext cx="5181480" cy="1814040"/>
            <a:chOff x="0" y="3124080"/>
            <a:chExt cx="5181480" cy="1814040"/>
          </a:xfrm>
        </p:grpSpPr>
        <p:grpSp>
          <p:nvGrpSpPr>
            <p:cNvPr id="173" name=""/>
            <p:cNvGrpSpPr/>
            <p:nvPr/>
          </p:nvGrpSpPr>
          <p:grpSpPr>
            <a:xfrm>
              <a:off x="3200400" y="3124080"/>
              <a:ext cx="1981080" cy="1676160"/>
              <a:chOff x="3200400" y="3124080"/>
              <a:chExt cx="1981080" cy="1676160"/>
            </a:xfrm>
          </p:grpSpPr>
          <p:sp>
            <p:nvSpPr>
              <p:cNvPr id="174" name=""/>
              <p:cNvSpPr/>
              <p:nvPr/>
            </p:nvSpPr>
            <p:spPr>
              <a:xfrm>
                <a:off x="3200400" y="3124080"/>
                <a:ext cx="1981080" cy="1676160"/>
              </a:xfrm>
              <a:prstGeom prst="ellipse">
                <a:avLst/>
              </a:prstGeom>
              <a:solidFill>
                <a:srgbClr val="c0c0c0">
                  <a:alpha val="50000"/>
                </a:srgbClr>
              </a:solidFill>
              <a:ln w="2232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505320" y="3504960"/>
                <a:ext cx="533160" cy="228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4267080" y="3504960"/>
                <a:ext cx="533520" cy="228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962520" y="4038480"/>
                <a:ext cx="533160" cy="228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962520" y="4419360"/>
                <a:ext cx="533160" cy="228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505320" y="3884400"/>
                <a:ext cx="1220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3809880" y="373356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4495680" y="373356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191120" y="3885840"/>
                <a:ext cx="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4191120" y="426708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4" name=""/>
            <p:cNvSpPr/>
            <p:nvPr/>
          </p:nvSpPr>
          <p:spPr>
            <a:xfrm>
              <a:off x="0" y="4509000"/>
              <a:ext cx="1628640" cy="429120"/>
            </a:xfrm>
            <a:custGeom>
              <a:avLst/>
              <a:gdLst/>
              <a:ahLst/>
              <a:rect l="l" t="t" r="r" b="b"/>
              <a:pathLst>
                <a:path stroke="0" w="21600" h="21600">
                  <a:moveTo>
                    <a:pt x="0" y="0"/>
                  </a:moveTo>
                  <a:lnTo>
                    <a:pt x="21600" y="0"/>
                  </a:lnTo>
                  <a:lnTo>
                    <a:pt x="21600" y="21600"/>
                  </a:lnTo>
                  <a:lnTo>
                    <a:pt x="0" y="21600"/>
                  </a:lnTo>
                  <a:close/>
                </a:path>
                <a:path w="21600" h="21600">
                  <a:moveTo>
                    <a:pt x="46231" y="-44304"/>
                  </a:moveTo>
                  <a:lnTo>
                    <a:pt x="22611" y="5419"/>
                  </a:lnTo>
                </a:path>
                <a:path w="21600" h="21600">
                  <a:moveTo>
                    <a:pt x="22611" y="0"/>
                  </a:moveTo>
                  <a:lnTo>
                    <a:pt x="22611" y="21600"/>
                  </a:lnTo>
                </a:path>
              </a:pathLst>
            </a:custGeom>
            <a:noFill/>
            <a:ln w="28440">
              <a:solidFill>
                <a:srgbClr val="9933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rchitecture</a:t>
              </a:r>
              <a:endParaRPr b="0" lang="en-US" sz="2200" spc="-1" strike="noStrike">
                <a:solidFill>
                  <a:srgbClr val="000000"/>
                </a:solidFill>
                <a:latin typeface="Times New Roman"/>
              </a:endParaRPr>
            </a:p>
          </p:txBody>
        </p:sp>
      </p:grpSp>
      <p:grpSp>
        <p:nvGrpSpPr>
          <p:cNvPr id="185" name=""/>
          <p:cNvGrpSpPr/>
          <p:nvPr/>
        </p:nvGrpSpPr>
        <p:grpSpPr>
          <a:xfrm>
            <a:off x="1981080" y="1217520"/>
            <a:ext cx="5819760" cy="3049560"/>
            <a:chOff x="1981080" y="1217520"/>
            <a:chExt cx="5819760" cy="3049560"/>
          </a:xfrm>
        </p:grpSpPr>
        <p:sp>
          <p:nvSpPr>
            <p:cNvPr id="186" name=""/>
            <p:cNvSpPr/>
            <p:nvPr/>
          </p:nvSpPr>
          <p:spPr>
            <a:xfrm>
              <a:off x="1981080" y="2895480"/>
              <a:ext cx="1295280" cy="1371600"/>
            </a:xfrm>
            <a:prstGeom prst="line">
              <a:avLst/>
            </a:prstGeom>
            <a:ln cap="rnd" w="2844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267080" y="1828800"/>
              <a:ext cx="838080" cy="1752480"/>
            </a:xfrm>
            <a:prstGeom prst="line">
              <a:avLst/>
            </a:prstGeom>
            <a:ln cap="rnd" w="2844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6171840" y="1217520"/>
              <a:ext cx="1629000" cy="1769760"/>
            </a:xfrm>
            <a:custGeom>
              <a:avLst/>
              <a:gdLst/>
              <a:ahLst/>
              <a:rect l="l" t="t" r="r" b="b"/>
              <a:pathLst>
                <a:path stroke="0" w="21600" h="21600">
                  <a:moveTo>
                    <a:pt x="0" y="0"/>
                  </a:moveTo>
                  <a:lnTo>
                    <a:pt x="21600" y="0"/>
                  </a:lnTo>
                  <a:lnTo>
                    <a:pt x="21600" y="21600"/>
                  </a:lnTo>
                  <a:lnTo>
                    <a:pt x="0" y="21600"/>
                  </a:lnTo>
                  <a:close/>
                </a:path>
                <a:path w="21600" h="21600">
                  <a:moveTo>
                    <a:pt x="-21199" y="17014"/>
                  </a:moveTo>
                  <a:lnTo>
                    <a:pt x="-1011" y="1690"/>
                  </a:lnTo>
                </a:path>
                <a:path w="21600" h="21600">
                  <a:moveTo>
                    <a:pt x="-1011" y="0"/>
                  </a:moveTo>
                  <a:lnTo>
                    <a:pt x="-1011" y="21600"/>
                  </a:lnTo>
                </a:path>
              </a:pathLst>
            </a:custGeom>
            <a:noFill/>
            <a:ln w="28440">
              <a:solidFill>
                <a:srgbClr val="9933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raductio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jection</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mp;</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rôle</a:t>
              </a:r>
              <a:endParaRPr b="0" lang="en-US" sz="2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 ’exécution</a:t>
              </a:r>
              <a:endParaRPr b="0" lang="en-US" sz="2200" spc="-1" strike="noStrike">
                <a:solidFill>
                  <a:srgbClr val="000000"/>
                </a:solidFill>
                <a:latin typeface="Times New Roman"/>
              </a:endParaRPr>
            </a:p>
          </p:txBody>
        </p:sp>
      </p:grpSp>
      <p:sp>
        <p:nvSpPr>
          <p:cNvPr id="189" name=""/>
          <p:cNvSpPr/>
          <p:nvPr/>
        </p:nvSpPr>
        <p:spPr>
          <a:xfrm>
            <a:off x="7238880" y="3061080"/>
            <a:ext cx="1629000" cy="429120"/>
          </a:xfrm>
          <a:custGeom>
            <a:avLst/>
            <a:gdLst/>
            <a:ahLst/>
            <a:rect l="l" t="t" r="r" b="b"/>
            <a:pathLst>
              <a:path stroke="0" w="21600" h="21600">
                <a:moveTo>
                  <a:pt x="0" y="0"/>
                </a:moveTo>
                <a:lnTo>
                  <a:pt x="21600" y="0"/>
                </a:lnTo>
                <a:lnTo>
                  <a:pt x="21600" y="21600"/>
                </a:lnTo>
                <a:lnTo>
                  <a:pt x="0" y="21600"/>
                </a:lnTo>
                <a:close/>
              </a:path>
              <a:path w="21600" h="21600">
                <a:moveTo>
                  <a:pt x="-2038" y="35415"/>
                </a:moveTo>
                <a:lnTo>
                  <a:pt x="-1011" y="5419"/>
                </a:lnTo>
              </a:path>
              <a:path w="21600" h="21600">
                <a:moveTo>
                  <a:pt x="-1011" y="0"/>
                </a:moveTo>
                <a:lnTo>
                  <a:pt x="-1011" y="21600"/>
                </a:lnTo>
              </a:path>
            </a:pathLst>
          </a:custGeom>
          <a:noFill/>
          <a:ln w="28440">
            <a:solidFill>
              <a:srgbClr val="9933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rocédé</a:t>
            </a:r>
            <a:endParaRPr b="0" lang="en-US" sz="2200" spc="-1" strike="noStrike">
              <a:solidFill>
                <a:srgbClr val="000000"/>
              </a:solidFill>
              <a:latin typeface="Times New Roman"/>
            </a:endParaRPr>
          </a:p>
        </p:txBody>
      </p:sp>
      <p:sp>
        <p:nvSpPr>
          <p:cNvPr id="190" name=""/>
          <p:cNvSpPr/>
          <p:nvPr/>
        </p:nvSpPr>
        <p:spPr>
          <a:xfrm>
            <a:off x="5259240" y="2865600"/>
            <a:ext cx="1524240" cy="838080"/>
          </a:xfrm>
          <a:prstGeom prst="line">
            <a:avLst/>
          </a:prstGeom>
          <a:ln w="28440">
            <a:solidFill>
              <a:srgbClr val="339966"/>
            </a:solidFill>
            <a:miter/>
            <a:headEnd len="lg" type="oval" w="lg"/>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5238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Architecture</a:t>
            </a:r>
            <a:endParaRPr b="0" lang="en-US" sz="2800" spc="-1" strike="noStrike">
              <a:solidFill>
                <a:srgbClr val="3333cc"/>
              </a:solidFill>
              <a:latin typeface="Arial"/>
            </a:endParaRPr>
          </a:p>
        </p:txBody>
      </p:sp>
      <p:sp>
        <p:nvSpPr>
          <p:cNvPr id="192" name="PlaceHolder 2"/>
          <p:cNvSpPr>
            <a:spLocks noGrp="1"/>
          </p:cNvSpPr>
          <p:nvPr>
            <p:ph/>
          </p:nvPr>
        </p:nvSpPr>
        <p:spPr>
          <a:xfrm>
            <a:off x="1523880" y="990360"/>
            <a:ext cx="7467840" cy="5638680"/>
          </a:xfrm>
          <a:prstGeom prst="rect">
            <a:avLst/>
          </a:prstGeom>
          <a:noFill/>
          <a:ln w="0">
            <a:noFill/>
          </a:ln>
        </p:spPr>
        <p:txBody>
          <a:bodyPr lIns="90000" rIns="90000" tIns="46800" bIns="46800" anchor="t">
            <a:normAutofit/>
          </a:bodyPr>
          <a:p>
            <a:pPr marL="287280" indent="-287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Eléments</a:t>
            </a:r>
            <a:endParaRPr b="0" lang="en-US" sz="28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rocesseurs</a:t>
            </a:r>
            <a:endParaRPr b="0" lang="en-US" sz="24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Réseaux dédiés (Can, TTA ..)</a:t>
            </a:r>
            <a:endParaRPr b="0" lang="en-US" sz="24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PGA</a:t>
            </a:r>
            <a:endParaRPr b="0" lang="en-US" sz="2400" spc="-1" strike="noStrike">
              <a:solidFill>
                <a:srgbClr val="000000"/>
              </a:solidFill>
              <a:latin typeface="Times New Roman"/>
            </a:endParaRPr>
          </a:p>
          <a:p>
            <a:pPr marL="287280" indent="-287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Caractéristiques</a:t>
            </a:r>
            <a:endParaRPr b="0" lang="en-US" sz="28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emps d ’exécution d ’un algorithme</a:t>
            </a:r>
            <a:endParaRPr b="0" lang="en-US" sz="24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emps de communication</a:t>
            </a:r>
            <a:endParaRPr b="0" lang="en-US" sz="24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onnexions avec l’environnement</a:t>
            </a:r>
            <a:endParaRPr b="0" lang="en-US" sz="2400" spc="-1" strike="noStrike">
              <a:solidFill>
                <a:srgbClr val="000000"/>
              </a:solidFill>
              <a:latin typeface="Times New Roman"/>
            </a:endParaRPr>
          </a:p>
        </p:txBody>
      </p:sp>
      <p:grpSp>
        <p:nvGrpSpPr>
          <p:cNvPr id="193" name=""/>
          <p:cNvGrpSpPr/>
          <p:nvPr/>
        </p:nvGrpSpPr>
        <p:grpSpPr>
          <a:xfrm>
            <a:off x="6858000" y="1219320"/>
            <a:ext cx="1981080" cy="1676160"/>
            <a:chOff x="6858000" y="1219320"/>
            <a:chExt cx="1981080" cy="1676160"/>
          </a:xfrm>
        </p:grpSpPr>
        <p:sp>
          <p:nvSpPr>
            <p:cNvPr id="194" name=""/>
            <p:cNvSpPr/>
            <p:nvPr/>
          </p:nvSpPr>
          <p:spPr>
            <a:xfrm>
              <a:off x="6858000" y="1219320"/>
              <a:ext cx="1981080" cy="1676160"/>
            </a:xfrm>
            <a:prstGeom prst="ellipse">
              <a:avLst/>
            </a:prstGeom>
            <a:solidFill>
              <a:srgbClr val="c0c0c0">
                <a:alpha val="50000"/>
              </a:srgbClr>
            </a:solidFill>
            <a:ln w="2232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162920" y="1600200"/>
              <a:ext cx="533160" cy="228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7924680" y="1600200"/>
              <a:ext cx="533520" cy="228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7620120" y="2133720"/>
              <a:ext cx="533160" cy="228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7620120" y="2514600"/>
              <a:ext cx="533160" cy="22860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162920" y="1979640"/>
              <a:ext cx="12207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467480" y="182880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8153280" y="1828800"/>
              <a:ext cx="0" cy="1522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7848720" y="1981080"/>
              <a:ext cx="0" cy="152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7848720" y="2362320"/>
              <a:ext cx="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4" name=""/>
          <p:cNvSpPr/>
          <p:nvPr/>
        </p:nvSpPr>
        <p:spPr>
          <a:xfrm>
            <a:off x="3600" y="2590920"/>
            <a:ext cx="1453320" cy="228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Systèmes embarqué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aractéris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cc0000"/>
                </a:solidFill>
                <a:latin typeface="Times New Roman"/>
              </a:rPr>
              <a:t>Elé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Conception d’un S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ycle en V</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Intégr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ycle en spira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Points de v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automatiq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logici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matéri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Intégr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8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ontrôle d ’exécution</a:t>
            </a:r>
            <a:endParaRPr b="0" lang="en-US" sz="2800" spc="-1" strike="noStrike">
              <a:solidFill>
                <a:srgbClr val="3333cc"/>
              </a:solidFill>
              <a:latin typeface="Arial"/>
            </a:endParaRPr>
          </a:p>
        </p:txBody>
      </p:sp>
      <p:sp>
        <p:nvSpPr>
          <p:cNvPr id="206" name="PlaceHolder 2"/>
          <p:cNvSpPr>
            <a:spLocks noGrp="1"/>
          </p:cNvSpPr>
          <p:nvPr>
            <p:ph/>
          </p:nvPr>
        </p:nvSpPr>
        <p:spPr>
          <a:xfrm>
            <a:off x="1523880" y="990360"/>
            <a:ext cx="7467840" cy="5638680"/>
          </a:xfrm>
          <a:prstGeom prst="rect">
            <a:avLst/>
          </a:prstGeom>
          <a:noFill/>
          <a:ln w="0">
            <a:noFill/>
          </a:ln>
        </p:spPr>
        <p:txBody>
          <a:bodyPr lIns="90000" rIns="90000" tIns="46800" bIns="46800" anchor="t">
            <a:normAutofit/>
          </a:bodyPr>
          <a:p>
            <a:pPr marL="287280" indent="-287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Gérer </a:t>
            </a:r>
            <a:endParaRPr b="0" lang="en-US" sz="28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éroulement des fonctions / tâches / threads</a:t>
            </a:r>
            <a:endParaRPr b="0" lang="en-US" sz="24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ynchronisation</a:t>
            </a:r>
            <a:endParaRPr b="0" lang="en-US" sz="24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ommunication</a:t>
            </a:r>
            <a:endParaRPr b="0" lang="en-US" sz="2400" spc="-1" strike="noStrike">
              <a:solidFill>
                <a:srgbClr val="000000"/>
              </a:solidFill>
              <a:latin typeface="Times New Roman"/>
            </a:endParaRPr>
          </a:p>
          <a:p>
            <a:pPr lvl="2" marL="952560" indent="-18756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bufferisée</a:t>
            </a:r>
            <a:endParaRPr b="0" lang="en-US" sz="2000" spc="-1" strike="noStrike">
              <a:solidFill>
                <a:srgbClr val="000000"/>
              </a:solidFill>
              <a:latin typeface="Times New Roman"/>
            </a:endParaRPr>
          </a:p>
          <a:p>
            <a:pPr lvl="2" marL="952560" indent="-18756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ynchronisée</a:t>
            </a:r>
            <a:endParaRPr b="0" lang="en-US" sz="20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nterruptions</a:t>
            </a:r>
            <a:endParaRPr b="0" lang="en-US" sz="2400" spc="-1" strike="noStrike">
              <a:solidFill>
                <a:srgbClr val="000000"/>
              </a:solidFill>
              <a:latin typeface="Times New Roman"/>
            </a:endParaRPr>
          </a:p>
          <a:p>
            <a:pPr marL="287280" indent="-287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Ex :</a:t>
            </a:r>
            <a:endParaRPr b="0" lang="en-US" sz="28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ystème d ’exploitation COTS</a:t>
            </a:r>
            <a:endParaRPr b="0" lang="en-US" sz="24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xécutif ad ’hoc </a:t>
            </a:r>
            <a:endParaRPr b="0" lang="en-US" sz="2400" spc="-1" strike="noStrike">
              <a:solidFill>
                <a:srgbClr val="000000"/>
              </a:solidFill>
              <a:latin typeface="Times New Roman"/>
            </a:endParaRPr>
          </a:p>
          <a:p>
            <a:pPr lvl="1" marL="574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574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
          <p:cNvSpPr/>
          <p:nvPr/>
        </p:nvSpPr>
        <p:spPr>
          <a:xfrm>
            <a:off x="3600" y="2590920"/>
            <a:ext cx="1453320" cy="228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Systèmes embarqué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aractéris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cc0000"/>
                </a:solidFill>
                <a:latin typeface="Times New Roman"/>
              </a:rPr>
              <a:t>Elé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Conception d’un S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ycle en V</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Intégr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ycle en spira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Points de v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automatiq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logici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matéri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Intégr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5238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Système échantillonné périodique</a:t>
            </a:r>
            <a:endParaRPr b="0" lang="en-US" sz="2800" spc="-1" strike="noStrike">
              <a:solidFill>
                <a:srgbClr val="3333cc"/>
              </a:solidFill>
              <a:latin typeface="Arial"/>
            </a:endParaRPr>
          </a:p>
        </p:txBody>
      </p:sp>
      <p:sp>
        <p:nvSpPr>
          <p:cNvPr id="209" name="PlaceHolder 2"/>
          <p:cNvSpPr>
            <a:spLocks noGrp="1"/>
          </p:cNvSpPr>
          <p:nvPr>
            <p:ph/>
          </p:nvPr>
        </p:nvSpPr>
        <p:spPr>
          <a:xfrm>
            <a:off x="1523880" y="990360"/>
            <a:ext cx="7467840" cy="563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0" name=""/>
          <p:cNvSpPr/>
          <p:nvPr/>
        </p:nvSpPr>
        <p:spPr>
          <a:xfrm>
            <a:off x="1752480" y="3200400"/>
            <a:ext cx="6934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514600" y="2666880"/>
            <a:ext cx="0" cy="5335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581280" y="2666880"/>
            <a:ext cx="0" cy="5335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4648320" y="2666880"/>
            <a:ext cx="0" cy="5335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715000" y="2666880"/>
            <a:ext cx="0" cy="5335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648320" y="2666880"/>
            <a:ext cx="0" cy="5335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715000" y="2666880"/>
            <a:ext cx="0" cy="5335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781680" y="2666880"/>
            <a:ext cx="0" cy="5335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7848720" y="2666880"/>
            <a:ext cx="0" cy="5335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752480" y="4648320"/>
            <a:ext cx="6934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514600" y="4114800"/>
            <a:ext cx="0" cy="5335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292640" y="4114800"/>
            <a:ext cx="0" cy="5335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070680" y="4114800"/>
            <a:ext cx="0" cy="5335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848720" y="4114800"/>
            <a:ext cx="0" cy="5335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1752480" y="1828800"/>
            <a:ext cx="6934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514600" y="1295280"/>
            <a:ext cx="0" cy="5335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181480" y="1295280"/>
            <a:ext cx="0" cy="5335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7848720" y="1295280"/>
            <a:ext cx="0" cy="53352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2819520" y="5118480"/>
            <a:ext cx="1552320" cy="1099440"/>
          </a:xfrm>
          <a:custGeom>
            <a:avLst/>
            <a:gdLst/>
            <a:ahLst/>
            <a:rect l="l" t="t" r="r" b="b"/>
            <a:pathLst>
              <a:path stroke="0" w="21600" h="21600">
                <a:moveTo>
                  <a:pt x="0" y="0"/>
                </a:moveTo>
                <a:lnTo>
                  <a:pt x="21600" y="0"/>
                </a:lnTo>
                <a:lnTo>
                  <a:pt x="21600" y="21600"/>
                </a:lnTo>
                <a:lnTo>
                  <a:pt x="0" y="21600"/>
                </a:lnTo>
                <a:close/>
              </a:path>
              <a:path w="21600" h="21600">
                <a:moveTo>
                  <a:pt x="-4237" y="-10012"/>
                </a:moveTo>
                <a:lnTo>
                  <a:pt x="-1060" y="2194"/>
                </a:lnTo>
              </a:path>
              <a:path w="21600" h="21600">
                <a:moveTo>
                  <a:pt x="-1060" y="0"/>
                </a:moveTo>
                <a:lnTo>
                  <a:pt x="-1060" y="21600"/>
                </a:lnTo>
              </a:path>
            </a:pathLst>
          </a:custGeom>
          <a:noFill/>
          <a:ln w="28440">
            <a:solidFill>
              <a:srgbClr val="9933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cquisition</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lcul</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ortie</a:t>
            </a:r>
            <a:endParaRPr b="0" lang="en-US" sz="2200" spc="-1" strike="noStrike">
              <a:solidFill>
                <a:srgbClr val="000000"/>
              </a:solidFill>
              <a:latin typeface="Times New Roman"/>
            </a:endParaRPr>
          </a:p>
        </p:txBody>
      </p:sp>
      <p:sp>
        <p:nvSpPr>
          <p:cNvPr id="229" name=""/>
          <p:cNvSpPr/>
          <p:nvPr/>
        </p:nvSpPr>
        <p:spPr>
          <a:xfrm>
            <a:off x="4568400" y="5881680"/>
            <a:ext cx="3042360" cy="82548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égularité</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ard nul ou constant</a:t>
            </a:r>
            <a:endParaRPr b="0" lang="en-US" sz="2400" spc="-1" strike="noStrike">
              <a:solidFill>
                <a:srgbClr val="000000"/>
              </a:solidFill>
              <a:latin typeface="Times New Roman"/>
            </a:endParaRPr>
          </a:p>
        </p:txBody>
      </p:sp>
      <p:sp>
        <p:nvSpPr>
          <p:cNvPr id="230" name=""/>
          <p:cNvSpPr/>
          <p:nvPr/>
        </p:nvSpPr>
        <p:spPr>
          <a:xfrm>
            <a:off x="3600" y="2590920"/>
            <a:ext cx="1453320" cy="228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Systèmes embarqué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aractéris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cc0000"/>
                </a:solidFill>
                <a:latin typeface="Times New Roman"/>
              </a:rPr>
              <a:t>Elé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Conception d’un S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ycle en V</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Intégr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ycle en spira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Points de v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automatiq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logici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matéri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Intégr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5238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ontrôle d ’exécution</a:t>
            </a:r>
            <a:endParaRPr b="0" lang="en-US" sz="2800" spc="-1" strike="noStrike">
              <a:solidFill>
                <a:srgbClr val="3333cc"/>
              </a:solidFill>
              <a:latin typeface="Arial"/>
            </a:endParaRPr>
          </a:p>
        </p:txBody>
      </p:sp>
      <p:graphicFrame>
        <p:nvGraphicFramePr>
          <p:cNvPr id="232" name=""/>
          <p:cNvGraphicFramePr/>
          <p:nvPr/>
        </p:nvGraphicFramePr>
        <p:xfrm>
          <a:off x="1407960" y="2438280"/>
          <a:ext cx="7888320" cy="4038840"/>
        </p:xfrm>
        <a:graphic>
          <a:graphicData uri="http://schemas.openxmlformats.org/presentationml/2006/ole">
            <p:oleObj r:id="rId1" spid="">
              <p:embed/>
              <p:pic>
                <p:nvPicPr>
                  <p:cNvPr id="233" name="" descr=""/>
                  <p:cNvPicPr/>
                  <p:nvPr/>
                </p:nvPicPr>
                <p:blipFill>
                  <a:blip r:embed="rId2"/>
                  <a:stretch/>
                </p:blipFill>
                <p:spPr>
                  <a:xfrm>
                    <a:off x="1407960" y="2438280"/>
                    <a:ext cx="7888320" cy="4038840"/>
                  </a:xfrm>
                  <a:prstGeom prst="rect">
                    <a:avLst/>
                  </a:prstGeom>
                  <a:ln w="0">
                    <a:noFill/>
                  </a:ln>
                </p:spPr>
              </p:pic>
            </p:oleObj>
          </a:graphicData>
        </a:graphic>
      </p:graphicFrame>
      <p:sp>
        <p:nvSpPr>
          <p:cNvPr id="234" name="PlaceHolder 2"/>
          <p:cNvSpPr>
            <a:spLocks noGrp="1"/>
          </p:cNvSpPr>
          <p:nvPr>
            <p:ph/>
          </p:nvPr>
        </p:nvSpPr>
        <p:spPr>
          <a:xfrm>
            <a:off x="1523880" y="990360"/>
            <a:ext cx="7467840" cy="5638680"/>
          </a:xfrm>
          <a:prstGeom prst="rect">
            <a:avLst/>
          </a:prstGeom>
          <a:noFill/>
          <a:ln w="0">
            <a:noFill/>
          </a:ln>
        </p:spPr>
        <p:txBody>
          <a:bodyPr lIns="90000" rIns="90000" tIns="46800" bIns="46800" anchor="t">
            <a:normAutofit/>
          </a:bodyPr>
          <a:p>
            <a:pPr marL="287280" indent="-287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Exemple d ’ordonnancement  sur un processeur</a:t>
            </a:r>
            <a:endParaRPr b="0" lang="en-US" sz="28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EDF sous RTLinux)</a:t>
            </a:r>
            <a:endParaRPr b="0" lang="en-US" sz="2400" spc="-1" strike="noStrike">
              <a:solidFill>
                <a:srgbClr val="000000"/>
              </a:solidFill>
              <a:latin typeface="Times New Roman"/>
            </a:endParaRPr>
          </a:p>
          <a:p>
            <a:pPr lvl="1" marL="574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élai, période, utilisation CPU</a:t>
            </a:r>
            <a:endParaRPr b="0" lang="en-US" sz="2400" spc="-1" strike="noStrike">
              <a:solidFill>
                <a:srgbClr val="000000"/>
              </a:solidFill>
              <a:latin typeface="Times New Roman"/>
            </a:endParaRPr>
          </a:p>
        </p:txBody>
      </p:sp>
      <p:sp>
        <p:nvSpPr>
          <p:cNvPr id="235" name=""/>
          <p:cNvSpPr/>
          <p:nvPr/>
        </p:nvSpPr>
        <p:spPr>
          <a:xfrm>
            <a:off x="3600" y="2590920"/>
            <a:ext cx="1453320" cy="228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Systèmes embarqué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aractéris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cc0000"/>
                </a:solidFill>
                <a:latin typeface="Times New Roman"/>
              </a:rPr>
              <a:t>Elé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Conception d’un S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ycle en V</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Intégr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ycle en spira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Points de v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automatiq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logici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matéri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Intégration</a:t>
            </a:r>
            <a:endParaRPr b="0" lang="en-US" sz="1200" spc="-1" strike="noStrike">
              <a:solidFill>
                <a:srgbClr val="000000"/>
              </a:solidFill>
              <a:latin typeface="Times New Roman"/>
            </a:endParaRPr>
          </a:p>
        </p:txBody>
      </p:sp>
      <p:grpSp>
        <p:nvGrpSpPr>
          <p:cNvPr id="236" name=""/>
          <p:cNvGrpSpPr/>
          <p:nvPr/>
        </p:nvGrpSpPr>
        <p:grpSpPr>
          <a:xfrm>
            <a:off x="7848720" y="5486400"/>
            <a:ext cx="1047240" cy="1219320"/>
            <a:chOff x="7848720" y="5486400"/>
            <a:chExt cx="1047240" cy="1219320"/>
          </a:xfrm>
        </p:grpSpPr>
        <p:pic>
          <p:nvPicPr>
            <p:cNvPr id="237" name="digiPenguiClock_b" descr=""/>
            <p:cNvPicPr/>
            <p:nvPr/>
          </p:nvPicPr>
          <p:blipFill>
            <a:blip r:embed="rId3"/>
            <a:stretch/>
          </p:blipFill>
          <p:spPr>
            <a:xfrm>
              <a:off x="7848720" y="5627160"/>
              <a:ext cx="282600" cy="257400"/>
            </a:xfrm>
            <a:prstGeom prst="rect">
              <a:avLst/>
            </a:prstGeom>
            <a:ln w="0">
              <a:noFill/>
            </a:ln>
          </p:spPr>
        </p:pic>
        <p:pic>
          <p:nvPicPr>
            <p:cNvPr id="238" name="digiPengui_05" descr=""/>
            <p:cNvPicPr/>
            <p:nvPr/>
          </p:nvPicPr>
          <p:blipFill>
            <a:blip r:embed="rId4"/>
            <a:stretch/>
          </p:blipFill>
          <p:spPr>
            <a:xfrm>
              <a:off x="7848720" y="5884560"/>
              <a:ext cx="282600" cy="821160"/>
            </a:xfrm>
            <a:prstGeom prst="rect">
              <a:avLst/>
            </a:prstGeom>
            <a:ln w="0">
              <a:noFill/>
            </a:ln>
          </p:spPr>
        </p:pic>
        <p:pic>
          <p:nvPicPr>
            <p:cNvPr id="239" name="digiPengui_04" descr=""/>
            <p:cNvPicPr/>
            <p:nvPr/>
          </p:nvPicPr>
          <p:blipFill>
            <a:blip r:embed="rId5"/>
            <a:stretch/>
          </p:blipFill>
          <p:spPr>
            <a:xfrm>
              <a:off x="8114760" y="5627160"/>
              <a:ext cx="781200" cy="257400"/>
            </a:xfrm>
            <a:prstGeom prst="rect">
              <a:avLst/>
            </a:prstGeom>
            <a:ln w="0">
              <a:noFill/>
            </a:ln>
          </p:spPr>
        </p:pic>
        <p:pic>
          <p:nvPicPr>
            <p:cNvPr id="240" name="digiPengui_06" descr=""/>
            <p:cNvPicPr/>
            <p:nvPr/>
          </p:nvPicPr>
          <p:blipFill>
            <a:blip r:embed="rId6"/>
            <a:stretch/>
          </p:blipFill>
          <p:spPr>
            <a:xfrm>
              <a:off x="8114760" y="5884560"/>
              <a:ext cx="781200" cy="821160"/>
            </a:xfrm>
            <a:prstGeom prst="rect">
              <a:avLst/>
            </a:prstGeom>
            <a:ln w="0">
              <a:noFill/>
            </a:ln>
          </p:spPr>
        </p:pic>
        <p:pic>
          <p:nvPicPr>
            <p:cNvPr id="241" name="digiPengui_02" descr=""/>
            <p:cNvPicPr/>
            <p:nvPr/>
          </p:nvPicPr>
          <p:blipFill>
            <a:blip r:embed="rId7"/>
            <a:stretch/>
          </p:blipFill>
          <p:spPr>
            <a:xfrm>
              <a:off x="8114760" y="5486400"/>
              <a:ext cx="781200" cy="16560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238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Quelques caractéristiques temporelles</a:t>
            </a:r>
            <a:endParaRPr b="0" lang="en-US" sz="2800" spc="-1" strike="noStrike">
              <a:solidFill>
                <a:srgbClr val="3333cc"/>
              </a:solidFill>
              <a:latin typeface="Arial"/>
            </a:endParaRPr>
          </a:p>
        </p:txBody>
      </p:sp>
      <p:grpSp>
        <p:nvGrpSpPr>
          <p:cNvPr id="243" name=""/>
          <p:cNvGrpSpPr/>
          <p:nvPr/>
        </p:nvGrpSpPr>
        <p:grpSpPr>
          <a:xfrm>
            <a:off x="2971800" y="4267080"/>
            <a:ext cx="3604680" cy="829800"/>
            <a:chOff x="2971800" y="4267080"/>
            <a:chExt cx="3604680" cy="829800"/>
          </a:xfrm>
        </p:grpSpPr>
        <p:sp>
          <p:nvSpPr>
            <p:cNvPr id="244" name=""/>
            <p:cNvSpPr/>
            <p:nvPr/>
          </p:nvSpPr>
          <p:spPr>
            <a:xfrm>
              <a:off x="2971800" y="5088600"/>
              <a:ext cx="3602880" cy="8280"/>
            </a:xfrm>
            <a:prstGeom prst="line">
              <a:avLst/>
            </a:prstGeom>
            <a:ln w="19080">
              <a:solidFill>
                <a:srgbClr val="000000"/>
              </a:solidFill>
              <a:miter/>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45" name=""/>
            <p:cNvSpPr/>
            <p:nvPr/>
          </p:nvSpPr>
          <p:spPr>
            <a:xfrm>
              <a:off x="2971800" y="4267080"/>
              <a:ext cx="1800" cy="821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3297600" y="4267080"/>
              <a:ext cx="1800" cy="821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3790440" y="4267080"/>
              <a:ext cx="2160" cy="821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951720" y="4267080"/>
              <a:ext cx="3960" cy="821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281840" y="4267080"/>
              <a:ext cx="2160" cy="821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608000" y="4267080"/>
              <a:ext cx="1800" cy="821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771080" y="4267080"/>
              <a:ext cx="1800" cy="821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934160" y="4267080"/>
              <a:ext cx="1800" cy="821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264280" y="4267080"/>
              <a:ext cx="2160" cy="821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920560" y="4267080"/>
              <a:ext cx="1800" cy="821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6407640" y="4267080"/>
              <a:ext cx="1800" cy="821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574680" y="4267080"/>
              <a:ext cx="1800" cy="8215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7" name=""/>
          <p:cNvSpPr/>
          <p:nvPr/>
        </p:nvSpPr>
        <p:spPr>
          <a:xfrm>
            <a:off x="3444840" y="2822400"/>
            <a:ext cx="4097520" cy="74880"/>
          </a:xfrm>
          <a:custGeom>
            <a:avLst/>
            <a:gdLst/>
            <a:ahLst/>
            <a:rect l="l" t="t" r="r" b="b"/>
            <a:pathLst>
              <a:path w="5163" h="94">
                <a:moveTo>
                  <a:pt x="25" y="0"/>
                </a:moveTo>
                <a:lnTo>
                  <a:pt x="17" y="0"/>
                </a:lnTo>
                <a:lnTo>
                  <a:pt x="11" y="2"/>
                </a:lnTo>
                <a:lnTo>
                  <a:pt x="2" y="12"/>
                </a:lnTo>
                <a:lnTo>
                  <a:pt x="0" y="17"/>
                </a:lnTo>
                <a:lnTo>
                  <a:pt x="0" y="31"/>
                </a:lnTo>
                <a:lnTo>
                  <a:pt x="2" y="36"/>
                </a:lnTo>
                <a:lnTo>
                  <a:pt x="6" y="42"/>
                </a:lnTo>
                <a:lnTo>
                  <a:pt x="11" y="46"/>
                </a:lnTo>
                <a:lnTo>
                  <a:pt x="17" y="48"/>
                </a:lnTo>
                <a:lnTo>
                  <a:pt x="25" y="50"/>
                </a:lnTo>
                <a:lnTo>
                  <a:pt x="5138" y="94"/>
                </a:lnTo>
                <a:lnTo>
                  <a:pt x="5144" y="92"/>
                </a:lnTo>
                <a:lnTo>
                  <a:pt x="5149" y="90"/>
                </a:lnTo>
                <a:lnTo>
                  <a:pt x="5155" y="86"/>
                </a:lnTo>
                <a:lnTo>
                  <a:pt x="5159" y="80"/>
                </a:lnTo>
                <a:lnTo>
                  <a:pt x="5161" y="75"/>
                </a:lnTo>
                <a:lnTo>
                  <a:pt x="5163" y="69"/>
                </a:lnTo>
                <a:lnTo>
                  <a:pt x="5161" y="61"/>
                </a:lnTo>
                <a:lnTo>
                  <a:pt x="5159" y="56"/>
                </a:lnTo>
                <a:lnTo>
                  <a:pt x="5149" y="46"/>
                </a:lnTo>
                <a:lnTo>
                  <a:pt x="5144" y="44"/>
                </a:lnTo>
                <a:lnTo>
                  <a:pt x="5138" y="44"/>
                </a:lnTo>
                <a:lnTo>
                  <a:pt x="25"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58" name=""/>
          <p:cNvSpPr/>
          <p:nvPr/>
        </p:nvSpPr>
        <p:spPr>
          <a:xfrm>
            <a:off x="7364520" y="2773440"/>
            <a:ext cx="210960" cy="206280"/>
          </a:xfrm>
          <a:custGeom>
            <a:avLst/>
            <a:gdLst/>
            <a:ahLst/>
            <a:rect l="l" t="t" r="r" b="b"/>
            <a:pathLst>
              <a:path w="266" h="261">
                <a:moveTo>
                  <a:pt x="2" y="0"/>
                </a:moveTo>
                <a:lnTo>
                  <a:pt x="266" y="132"/>
                </a:lnTo>
                <a:lnTo>
                  <a:pt x="0" y="261"/>
                </a:lnTo>
                <a:lnTo>
                  <a:pt x="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7345440" y="2741760"/>
            <a:ext cx="274680" cy="268200"/>
          </a:xfrm>
          <a:custGeom>
            <a:avLst/>
            <a:gdLst/>
            <a:ahLst/>
            <a:rect l="l" t="t" r="r" b="b"/>
            <a:pathLst>
              <a:path w="346" h="340">
                <a:moveTo>
                  <a:pt x="51" y="40"/>
                </a:moveTo>
                <a:lnTo>
                  <a:pt x="15" y="61"/>
                </a:lnTo>
                <a:lnTo>
                  <a:pt x="279" y="193"/>
                </a:lnTo>
                <a:lnTo>
                  <a:pt x="279" y="149"/>
                </a:lnTo>
                <a:lnTo>
                  <a:pt x="13" y="279"/>
                </a:lnTo>
                <a:lnTo>
                  <a:pt x="50" y="301"/>
                </a:lnTo>
                <a:lnTo>
                  <a:pt x="51" y="40"/>
                </a:lnTo>
                <a:lnTo>
                  <a:pt x="2" y="0"/>
                </a:lnTo>
                <a:lnTo>
                  <a:pt x="0" y="340"/>
                </a:lnTo>
                <a:lnTo>
                  <a:pt x="346" y="172"/>
                </a:lnTo>
                <a:lnTo>
                  <a:pt x="2" y="0"/>
                </a:lnTo>
                <a:lnTo>
                  <a:pt x="51"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859200" y="2570040"/>
            <a:ext cx="1797120" cy="282600"/>
          </a:xfrm>
          <a:prstGeom prst="rect">
            <a:avLst/>
          </a:prstGeom>
          <a:solidFill>
            <a:srgbClr val="c0c0c0"/>
          </a:solid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flipH="1" flipV="1">
            <a:off x="3587760" y="2043000"/>
            <a:ext cx="9360" cy="79848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3529080" y="2705040"/>
            <a:ext cx="131760" cy="136440"/>
          </a:xfrm>
          <a:custGeom>
            <a:avLst/>
            <a:gdLst/>
            <a:ahLst/>
            <a:rect l="l" t="t" r="r" b="b"/>
            <a:pathLst>
              <a:path w="167" h="171">
                <a:moveTo>
                  <a:pt x="167" y="0"/>
                </a:moveTo>
                <a:lnTo>
                  <a:pt x="87" y="171"/>
                </a:lnTo>
                <a:lnTo>
                  <a:pt x="0" y="2"/>
                </a:lnTo>
                <a:lnTo>
                  <a:pt x="83" y="87"/>
                </a:lnTo>
                <a:lnTo>
                  <a:pt x="167" y="0"/>
                </a:lnTo>
                <a:close/>
              </a:path>
            </a:pathLst>
          </a:custGeom>
          <a:solidFill>
            <a:srgbClr val="000000"/>
          </a:solid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flipV="1">
            <a:off x="6504120" y="2850840"/>
            <a:ext cx="1440" cy="785880"/>
          </a:xfrm>
          <a:prstGeom prst="line">
            <a:avLst/>
          </a:prstGeom>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6435720" y="3500280"/>
            <a:ext cx="131760" cy="136800"/>
          </a:xfrm>
          <a:custGeom>
            <a:avLst/>
            <a:gdLst/>
            <a:ahLst/>
            <a:rect l="l" t="t" r="r" b="b"/>
            <a:pathLst>
              <a:path w="167" h="171">
                <a:moveTo>
                  <a:pt x="167" y="0"/>
                </a:moveTo>
                <a:lnTo>
                  <a:pt x="87" y="171"/>
                </a:lnTo>
                <a:lnTo>
                  <a:pt x="0" y="2"/>
                </a:lnTo>
                <a:lnTo>
                  <a:pt x="83" y="87"/>
                </a:lnTo>
                <a:lnTo>
                  <a:pt x="167" y="0"/>
                </a:lnTo>
                <a:close/>
              </a:path>
            </a:pathLst>
          </a:custGeom>
          <a:solidFill>
            <a:srgbClr val="000000"/>
          </a:solidFill>
          <a:ln cap="sq"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228400" y="2055960"/>
            <a:ext cx="1224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bservation </a:t>
            </a:r>
            <a:endParaRPr b="0" lang="en-US" sz="1600" spc="-1" strike="noStrike">
              <a:solidFill>
                <a:srgbClr val="000000"/>
              </a:solidFill>
              <a:latin typeface="Times New Roman"/>
            </a:endParaRPr>
          </a:p>
        </p:txBody>
      </p:sp>
      <p:sp>
        <p:nvSpPr>
          <p:cNvPr id="266" name=""/>
          <p:cNvSpPr/>
          <p:nvPr/>
        </p:nvSpPr>
        <p:spPr>
          <a:xfrm>
            <a:off x="6759360" y="3311640"/>
            <a:ext cx="665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ortie</a:t>
            </a:r>
            <a:endParaRPr b="0" lang="en-US" sz="1600" spc="-1" strike="noStrike">
              <a:solidFill>
                <a:srgbClr val="000000"/>
              </a:solidFill>
              <a:latin typeface="Times New Roman"/>
            </a:endParaRPr>
          </a:p>
        </p:txBody>
      </p:sp>
      <p:sp>
        <p:nvSpPr>
          <p:cNvPr id="267" name=""/>
          <p:cNvSpPr/>
          <p:nvPr/>
        </p:nvSpPr>
        <p:spPr>
          <a:xfrm rot="5400000">
            <a:off x="4901040" y="1592640"/>
            <a:ext cx="222120" cy="2846520"/>
          </a:xfrm>
          <a:custGeom>
            <a:avLst/>
            <a:gdLst>
              <a:gd name="textAreaLeft" fmla="*/ 0 w 222120"/>
              <a:gd name="textAreaRight" fmla="*/ 80280 w 222120"/>
              <a:gd name="textAreaTop" fmla="*/ 74880 h 2846520"/>
              <a:gd name="textAreaBottom" fmla="*/ 2771640 h 2846520"/>
            </a:gdLst>
            <a:ahLst/>
            <a:rect l="textAreaLeft" t="textAreaTop" r="textAreaRight" b="textAreaBottom"/>
            <a:pathLst>
              <a:path w="21600" h="21600">
                <a:moveTo>
                  <a:pt x="0" y="0"/>
                </a:moveTo>
                <a:cubicBezTo>
                  <a:pt x="5400" y="0"/>
                  <a:pt x="10800" y="912"/>
                  <a:pt x="10800" y="1824"/>
                </a:cubicBezTo>
                <a:lnTo>
                  <a:pt x="10800" y="8976"/>
                </a:lnTo>
                <a:cubicBezTo>
                  <a:pt x="10800" y="9888"/>
                  <a:pt x="16200" y="10800"/>
                  <a:pt x="21600" y="10800"/>
                </a:cubicBezTo>
                <a:cubicBezTo>
                  <a:pt x="16200" y="10800"/>
                  <a:pt x="10800" y="11712"/>
                  <a:pt x="10800" y="12624"/>
                </a:cubicBezTo>
                <a:lnTo>
                  <a:pt x="10800" y="19776"/>
                </a:lnTo>
                <a:cubicBezTo>
                  <a:pt x="10800" y="20688"/>
                  <a:pt x="5400" y="21600"/>
                  <a:pt x="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384800" y="3200400"/>
            <a:ext cx="726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élai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69" name=""/>
          <p:cNvSpPr/>
          <p:nvPr/>
        </p:nvSpPr>
        <p:spPr>
          <a:xfrm>
            <a:off x="5675400" y="1905120"/>
            <a:ext cx="169704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igu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riation du délai </a:t>
            </a:r>
            <a:endParaRPr b="0" lang="en-US" sz="1600" spc="-1" strike="noStrike">
              <a:solidFill>
                <a:srgbClr val="000000"/>
              </a:solidFill>
              <a:latin typeface="Times New Roman"/>
            </a:endParaRPr>
          </a:p>
        </p:txBody>
      </p:sp>
      <p:sp>
        <p:nvSpPr>
          <p:cNvPr id="270" name=""/>
          <p:cNvSpPr/>
          <p:nvPr/>
        </p:nvSpPr>
        <p:spPr>
          <a:xfrm>
            <a:off x="6059520" y="2577960"/>
            <a:ext cx="1236600" cy="0"/>
          </a:xfrm>
          <a:prstGeom prst="line">
            <a:avLst/>
          </a:prstGeom>
          <a:ln w="38160">
            <a:solidFill>
              <a:srgbClr val="000000"/>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4457160" y="2131920"/>
            <a:ext cx="645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Symbol"/>
                <a:ea typeface="Symbol"/>
              </a:rPr>
              <a:t></a:t>
            </a:r>
            <a:r>
              <a:rPr b="0" lang="fr-FR" sz="2000" spc="-1" strike="noStrike" baseline="-25000">
                <a:solidFill>
                  <a:srgbClr val="000000"/>
                </a:solidFill>
                <a:latin typeface="Times New Roman"/>
              </a:rPr>
              <a:t>calcul</a:t>
            </a:r>
            <a:endParaRPr b="0" lang="en-US" sz="2000" spc="-1" strike="noStrike">
              <a:solidFill>
                <a:srgbClr val="000000"/>
              </a:solidFill>
              <a:latin typeface="Times New Roman"/>
            </a:endParaRPr>
          </a:p>
        </p:txBody>
      </p:sp>
      <p:sp>
        <p:nvSpPr>
          <p:cNvPr id="272" name=""/>
          <p:cNvSpPr/>
          <p:nvPr/>
        </p:nvSpPr>
        <p:spPr>
          <a:xfrm>
            <a:off x="2886120" y="5332680"/>
            <a:ext cx="5988240" cy="82548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Régularité (fonctions périodiqu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emps d ’interarrivée (fonctions apériodiques)</a:t>
            </a:r>
            <a:endParaRPr b="0" lang="en-US" sz="2400" spc="-1" strike="noStrike">
              <a:solidFill>
                <a:srgbClr val="000000"/>
              </a:solidFill>
              <a:latin typeface="Times New Roman"/>
            </a:endParaRPr>
          </a:p>
        </p:txBody>
      </p:sp>
      <p:sp>
        <p:nvSpPr>
          <p:cNvPr id="273" name=""/>
          <p:cNvSpPr/>
          <p:nvPr/>
        </p:nvSpPr>
        <p:spPr>
          <a:xfrm>
            <a:off x="3600" y="2590920"/>
            <a:ext cx="1453320" cy="228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Systèmes embarqué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aractéris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cc0000"/>
                </a:solidFill>
                <a:latin typeface="Times New Roman"/>
              </a:rPr>
              <a:t>Elé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Conception d’un S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ycle en V</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Intégr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ycle en spira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Points de v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automatiq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logici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matéri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Intégr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8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onception d ’un système automatisé</a:t>
            </a:r>
            <a:endParaRPr b="0" lang="en-US" sz="2800" spc="-1" strike="noStrike">
              <a:solidFill>
                <a:srgbClr val="3333cc"/>
              </a:solidFill>
              <a:latin typeface="Arial"/>
            </a:endParaRPr>
          </a:p>
        </p:txBody>
      </p:sp>
      <p:grpSp>
        <p:nvGrpSpPr>
          <p:cNvPr id="275" name=""/>
          <p:cNvGrpSpPr/>
          <p:nvPr/>
        </p:nvGrpSpPr>
        <p:grpSpPr>
          <a:xfrm>
            <a:off x="1828800" y="1523880"/>
            <a:ext cx="7086600" cy="5105520"/>
            <a:chOff x="1828800" y="1523880"/>
            <a:chExt cx="7086600" cy="5105520"/>
          </a:xfrm>
        </p:grpSpPr>
        <p:sp>
          <p:nvSpPr>
            <p:cNvPr id="276" name=""/>
            <p:cNvSpPr/>
            <p:nvPr/>
          </p:nvSpPr>
          <p:spPr>
            <a:xfrm>
              <a:off x="1828800" y="1523880"/>
              <a:ext cx="7086600" cy="5105520"/>
            </a:xfrm>
            <a:prstGeom prst="roundRect">
              <a:avLst>
                <a:gd name="adj" fmla="val 16667"/>
              </a:avLst>
            </a:prstGeom>
            <a:solidFill>
              <a:srgbClr val="b2b2b2">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4239360" y="2161800"/>
              <a:ext cx="4602240" cy="27651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4472640" y="2337840"/>
              <a:ext cx="4191480" cy="2438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043240" y="3154680"/>
              <a:ext cx="2921760" cy="12056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0" name=""/>
            <p:cNvSpPr/>
            <p:nvPr/>
          </p:nvSpPr>
          <p:spPr>
            <a:xfrm>
              <a:off x="5196240" y="3154680"/>
              <a:ext cx="2689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èle du système automatisé</a:t>
              </a:r>
              <a:endParaRPr b="0" lang="en-US" sz="1600" spc="-1" strike="noStrike">
                <a:solidFill>
                  <a:srgbClr val="000000"/>
                </a:solidFill>
                <a:latin typeface="Times New Roman"/>
              </a:endParaRPr>
            </a:p>
          </p:txBody>
        </p:sp>
        <p:sp>
          <p:nvSpPr>
            <p:cNvPr id="281" name=""/>
            <p:cNvSpPr/>
            <p:nvPr/>
          </p:nvSpPr>
          <p:spPr>
            <a:xfrm>
              <a:off x="5335200" y="3509280"/>
              <a:ext cx="949680" cy="7088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èle d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cessus</a:t>
              </a:r>
              <a:endParaRPr b="0" lang="en-US" sz="1600" spc="-1" strike="noStrike">
                <a:solidFill>
                  <a:srgbClr val="000000"/>
                </a:solidFill>
                <a:latin typeface="Times New Roman"/>
              </a:endParaRPr>
            </a:p>
          </p:txBody>
        </p:sp>
        <p:sp>
          <p:nvSpPr>
            <p:cNvPr id="282" name=""/>
            <p:cNvSpPr/>
            <p:nvPr/>
          </p:nvSpPr>
          <p:spPr>
            <a:xfrm>
              <a:off x="6796800" y="3509280"/>
              <a:ext cx="949320" cy="7088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èle d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ystème d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mande</a:t>
              </a:r>
              <a:endParaRPr b="0" lang="en-US" sz="1600" spc="-1" strike="noStrike">
                <a:solidFill>
                  <a:srgbClr val="000000"/>
                </a:solidFill>
                <a:latin typeface="Times New Roman"/>
              </a:endParaRPr>
            </a:p>
          </p:txBody>
        </p:sp>
        <p:sp>
          <p:nvSpPr>
            <p:cNvPr id="283" name=""/>
            <p:cNvSpPr/>
            <p:nvPr/>
          </p:nvSpPr>
          <p:spPr>
            <a:xfrm flipH="1">
              <a:off x="6285240" y="3651120"/>
              <a:ext cx="511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H="1">
              <a:off x="6285240" y="3863880"/>
              <a:ext cx="511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285240" y="4005360"/>
              <a:ext cx="511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632320" y="5069160"/>
              <a:ext cx="3068280" cy="14184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3808080" y="6132600"/>
              <a:ext cx="1764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ystème automatisé</a:t>
              </a:r>
              <a:endParaRPr b="0" lang="en-US" sz="1600" spc="-1" strike="noStrike">
                <a:solidFill>
                  <a:srgbClr val="000000"/>
                </a:solidFill>
                <a:latin typeface="Times New Roman"/>
              </a:endParaRPr>
            </a:p>
          </p:txBody>
        </p:sp>
        <p:sp>
          <p:nvSpPr>
            <p:cNvPr id="288" name=""/>
            <p:cNvSpPr/>
            <p:nvPr/>
          </p:nvSpPr>
          <p:spPr>
            <a:xfrm>
              <a:off x="2924640" y="5352840"/>
              <a:ext cx="949680" cy="709200"/>
            </a:xfrm>
            <a:prstGeom prst="roundRect">
              <a:avLst>
                <a:gd name="adj" fmla="val 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cessus</a:t>
              </a:r>
              <a:endParaRPr b="0" lang="en-US" sz="1600" spc="-1" strike="noStrike">
                <a:solidFill>
                  <a:srgbClr val="000000"/>
                </a:solidFill>
                <a:latin typeface="Times New Roman"/>
              </a:endParaRPr>
            </a:p>
          </p:txBody>
        </p:sp>
        <p:sp>
          <p:nvSpPr>
            <p:cNvPr id="289" name=""/>
            <p:cNvSpPr/>
            <p:nvPr/>
          </p:nvSpPr>
          <p:spPr>
            <a:xfrm>
              <a:off x="4385880" y="5352840"/>
              <a:ext cx="949320" cy="70920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èle d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ystème d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mande</a:t>
              </a:r>
              <a:endParaRPr b="0" lang="en-US" sz="1600" spc="-1" strike="noStrike">
                <a:solidFill>
                  <a:srgbClr val="000000"/>
                </a:solidFill>
                <a:latin typeface="Times New Roman"/>
              </a:endParaRPr>
            </a:p>
          </p:txBody>
        </p:sp>
        <p:sp>
          <p:nvSpPr>
            <p:cNvPr id="290" name=""/>
            <p:cNvSpPr/>
            <p:nvPr/>
          </p:nvSpPr>
          <p:spPr>
            <a:xfrm flipH="1">
              <a:off x="3874320" y="5494680"/>
              <a:ext cx="511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flipH="1">
              <a:off x="3874320" y="5707440"/>
              <a:ext cx="511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874320" y="5849280"/>
              <a:ext cx="511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2559240" y="2587320"/>
              <a:ext cx="365040" cy="3474360"/>
            </a:xfrm>
            <a:prstGeom prst="line">
              <a:avLst/>
            </a:prstGeom>
            <a:ln cap="rnd" w="19080">
              <a:solidFill>
                <a:srgbClr val="000000"/>
              </a:solidFill>
              <a:custDash>
                <a:ds d="100000" sp="1000"/>
              </a:custDash>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2559240" y="1878120"/>
              <a:ext cx="949680" cy="709200"/>
            </a:xfrm>
            <a:prstGeom prst="roundRect">
              <a:avLst>
                <a:gd name="adj" fmla="val 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cessus</a:t>
              </a:r>
              <a:endParaRPr b="0" lang="en-US" sz="1600" spc="-1" strike="noStrike">
                <a:solidFill>
                  <a:srgbClr val="000000"/>
                </a:solidFill>
                <a:latin typeface="Times New Roman"/>
              </a:endParaRPr>
            </a:p>
          </p:txBody>
        </p:sp>
        <p:sp>
          <p:nvSpPr>
            <p:cNvPr id="295" name=""/>
            <p:cNvSpPr/>
            <p:nvPr/>
          </p:nvSpPr>
          <p:spPr>
            <a:xfrm>
              <a:off x="2559240" y="1878120"/>
              <a:ext cx="365040" cy="3474360"/>
            </a:xfrm>
            <a:prstGeom prst="line">
              <a:avLst/>
            </a:prstGeom>
            <a:ln cap="rnd" w="19080">
              <a:solidFill>
                <a:srgbClr val="000000"/>
              </a:solidFill>
              <a:custDash>
                <a:ds d="100000" sp="1000"/>
              </a:custDash>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509280" y="2587320"/>
              <a:ext cx="365040" cy="3474360"/>
            </a:xfrm>
            <a:prstGeom prst="line">
              <a:avLst/>
            </a:prstGeom>
            <a:ln cap="rnd" w="19080">
              <a:solidFill>
                <a:srgbClr val="000000"/>
              </a:solidFill>
              <a:custDash>
                <a:ds d="100000" sp="1000"/>
              </a:custDash>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509280" y="1878120"/>
              <a:ext cx="365040" cy="3474360"/>
            </a:xfrm>
            <a:prstGeom prst="line">
              <a:avLst/>
            </a:prstGeom>
            <a:ln cap="rnd" w="19080">
              <a:solidFill>
                <a:srgbClr val="000000"/>
              </a:solidFill>
              <a:custDash>
                <a:ds d="100000" sp="1000"/>
              </a:custDash>
              <a:miter/>
              <a:tailEnd len="med" type="stealth"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3435840" y="2161800"/>
              <a:ext cx="1899000" cy="14889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5335200" y="4218120"/>
              <a:ext cx="1753200" cy="13471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rot="19368000">
              <a:off x="5489640" y="4498560"/>
              <a:ext cx="124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éalisation</a:t>
              </a:r>
              <a:endParaRPr b="0" lang="en-US" sz="1800" spc="-1" strike="noStrike">
                <a:solidFill>
                  <a:srgbClr val="000000"/>
                </a:solidFill>
                <a:latin typeface="Times New Roman"/>
              </a:endParaRPr>
            </a:p>
          </p:txBody>
        </p:sp>
        <p:sp>
          <p:nvSpPr>
            <p:cNvPr id="301" name=""/>
            <p:cNvSpPr/>
            <p:nvPr/>
          </p:nvSpPr>
          <p:spPr>
            <a:xfrm rot="2268600">
              <a:off x="3567240" y="2390400"/>
              <a:ext cx="142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odélisation</a:t>
              </a:r>
              <a:endParaRPr b="0" lang="en-US" sz="1800" spc="-1" strike="noStrike">
                <a:solidFill>
                  <a:srgbClr val="000000"/>
                </a:solidFill>
                <a:latin typeface="Times New Roman"/>
              </a:endParaRPr>
            </a:p>
          </p:txBody>
        </p:sp>
        <p:sp>
          <p:nvSpPr>
            <p:cNvPr id="302" name=""/>
            <p:cNvSpPr/>
            <p:nvPr/>
          </p:nvSpPr>
          <p:spPr>
            <a:xfrm>
              <a:off x="5336280" y="1537200"/>
              <a:ext cx="243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E MATERIEL</a:t>
              </a:r>
              <a:endParaRPr b="0" lang="en-US" sz="1800" spc="-1" strike="noStrike">
                <a:solidFill>
                  <a:srgbClr val="000000"/>
                </a:solidFill>
                <a:latin typeface="Times New Roman"/>
              </a:endParaRPr>
            </a:p>
          </p:txBody>
        </p:sp>
        <p:sp>
          <p:nvSpPr>
            <p:cNvPr id="303" name=""/>
            <p:cNvSpPr/>
            <p:nvPr/>
          </p:nvSpPr>
          <p:spPr>
            <a:xfrm>
              <a:off x="5118120" y="2658240"/>
              <a:ext cx="314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E MATHEMATIQUE</a:t>
              </a:r>
              <a:endParaRPr b="0" lang="en-US" sz="1800" spc="-1" strike="noStrike">
                <a:solidFill>
                  <a:srgbClr val="000000"/>
                </a:solidFill>
                <a:latin typeface="Times New Roman"/>
              </a:endParaRPr>
            </a:p>
          </p:txBody>
        </p:sp>
      </p:grpSp>
      <p:pic>
        <p:nvPicPr>
          <p:cNvPr id="304" name="" descr=""/>
          <p:cNvPicPr/>
          <p:nvPr/>
        </p:nvPicPr>
        <p:blipFill>
          <a:blip r:embed="rId1"/>
          <a:stretch/>
        </p:blipFill>
        <p:spPr>
          <a:xfrm>
            <a:off x="228600" y="380880"/>
            <a:ext cx="990720" cy="820800"/>
          </a:xfrm>
          <a:prstGeom prst="rect">
            <a:avLst/>
          </a:prstGeom>
          <a:ln w="0">
            <a:noFill/>
          </a:ln>
        </p:spPr>
      </p:pic>
      <p:sp>
        <p:nvSpPr>
          <p:cNvPr id="305" name=""/>
          <p:cNvSpPr/>
          <p:nvPr/>
        </p:nvSpPr>
        <p:spPr>
          <a:xfrm>
            <a:off x="6750000" y="671400"/>
            <a:ext cx="2429280" cy="1272240"/>
          </a:xfrm>
          <a:prstGeom prst="cloudCallout">
            <a:avLst>
              <a:gd name="adj1" fmla="val -35912"/>
              <a:gd name="adj2" fmla="val 166601"/>
            </a:avLst>
          </a:prstGeom>
          <a:solidFill>
            <a:srgbClr val="ffff00">
              <a:alpha val="50000"/>
            </a:srgbClr>
          </a:solidFill>
          <a:ln w="284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ep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3600" y="2590920"/>
            <a:ext cx="1453320" cy="228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Systèmes embarqué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aractéris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Elé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Conception d’un S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ycle en V</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Intégr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ycle en spira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Points de v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automatiq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logici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matéri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Intégr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07" name=""/>
          <p:cNvGrpSpPr/>
          <p:nvPr/>
        </p:nvGrpSpPr>
        <p:grpSpPr>
          <a:xfrm>
            <a:off x="441360" y="345960"/>
            <a:ext cx="8542440" cy="7233120"/>
            <a:chOff x="441360" y="345960"/>
            <a:chExt cx="8542440" cy="7233120"/>
          </a:xfrm>
        </p:grpSpPr>
        <p:sp>
          <p:nvSpPr>
            <p:cNvPr id="308" name=""/>
            <p:cNvSpPr/>
            <p:nvPr/>
          </p:nvSpPr>
          <p:spPr>
            <a:xfrm rot="2427600">
              <a:off x="807840" y="2133720"/>
              <a:ext cx="6858000" cy="3657600"/>
            </a:xfrm>
            <a:prstGeom prst="ellipse">
              <a:avLst/>
            </a:prstGeom>
            <a:solidFill>
              <a:srgbClr val="ccffcc">
                <a:alpha val="50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978960" y="5578560"/>
              <a:ext cx="2004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Intégration d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Modèles</a:t>
              </a:r>
              <a:endParaRPr b="0" lang="en-US" sz="2400" spc="-1" strike="noStrike">
                <a:solidFill>
                  <a:srgbClr val="000000"/>
                </a:solidFill>
                <a:latin typeface="Times New Roman"/>
              </a:endParaRPr>
            </a:p>
          </p:txBody>
        </p:sp>
      </p:grpSp>
      <p:sp>
        <p:nvSpPr>
          <p:cNvPr id="310" name=""/>
          <p:cNvSpPr/>
          <p:nvPr/>
        </p:nvSpPr>
        <p:spPr>
          <a:xfrm rot="18600000">
            <a:off x="1714320" y="1371240"/>
            <a:ext cx="2359080" cy="2968560"/>
          </a:xfrm>
          <a:prstGeom prst="ellipse">
            <a:avLst/>
          </a:prstGeom>
          <a:solidFill>
            <a:srgbClr val="ffff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3505320" y="3276720"/>
            <a:ext cx="3125520" cy="2957400"/>
          </a:xfrm>
          <a:prstGeom prst="ellipse">
            <a:avLst/>
          </a:prstGeom>
          <a:solidFill>
            <a:srgbClr val="ff6600">
              <a:alpha val="50000"/>
            </a:srgbClr>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PlaceHolder 1"/>
          <p:cNvSpPr>
            <a:spLocks noGrp="1"/>
          </p:cNvSpPr>
          <p:nvPr>
            <p:ph type="title"/>
          </p:nvPr>
        </p:nvSpPr>
        <p:spPr>
          <a:xfrm>
            <a:off x="15238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ycle de développement en “V”</a:t>
            </a:r>
            <a:endParaRPr b="0" lang="en-US" sz="2800" spc="-1" strike="noStrike">
              <a:solidFill>
                <a:srgbClr val="3333cc"/>
              </a:solidFill>
              <a:latin typeface="Arial"/>
            </a:endParaRPr>
          </a:p>
        </p:txBody>
      </p:sp>
      <p:sp>
        <p:nvSpPr>
          <p:cNvPr id="313" name=""/>
          <p:cNvSpPr/>
          <p:nvPr/>
        </p:nvSpPr>
        <p:spPr>
          <a:xfrm>
            <a:off x="1793880" y="1927080"/>
            <a:ext cx="3330720" cy="4321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flipH="1">
            <a:off x="5127120" y="1927080"/>
            <a:ext cx="3311640" cy="4321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089160" y="1927080"/>
            <a:ext cx="2035440" cy="264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flipH="1">
            <a:off x="5127120" y="1927080"/>
            <a:ext cx="2054520" cy="264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1812960" y="1924200"/>
            <a:ext cx="1292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flipH="1">
            <a:off x="7184880" y="1924200"/>
            <a:ext cx="1254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355920" y="3676680"/>
            <a:ext cx="13251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gicie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onception</a:t>
            </a:r>
            <a:endParaRPr b="0" lang="en-US" sz="1600" spc="-1" strike="noStrike">
              <a:solidFill>
                <a:srgbClr val="000000"/>
              </a:solidFill>
              <a:latin typeface="Times New Roman"/>
            </a:endParaRPr>
          </a:p>
        </p:txBody>
      </p:sp>
      <p:sp>
        <p:nvSpPr>
          <p:cNvPr id="320" name=""/>
          <p:cNvSpPr/>
          <p:nvPr/>
        </p:nvSpPr>
        <p:spPr>
          <a:xfrm>
            <a:off x="4427640" y="4570560"/>
            <a:ext cx="1469880" cy="8226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giciel</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plémentation</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dage)</a:t>
            </a:r>
            <a:endParaRPr b="0" lang="en-US" sz="1600" spc="-1" strike="noStrike">
              <a:solidFill>
                <a:srgbClr val="000000"/>
              </a:solidFill>
              <a:latin typeface="Times New Roman"/>
            </a:endParaRPr>
          </a:p>
        </p:txBody>
      </p:sp>
      <p:sp>
        <p:nvSpPr>
          <p:cNvPr id="321" name=""/>
          <p:cNvSpPr/>
          <p:nvPr/>
        </p:nvSpPr>
        <p:spPr>
          <a:xfrm>
            <a:off x="5625360" y="3676680"/>
            <a:ext cx="132840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Intégr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ules</a:t>
            </a:r>
            <a:endParaRPr b="0" lang="en-US" sz="1600" spc="-1" strike="noStrike">
              <a:solidFill>
                <a:srgbClr val="000000"/>
              </a:solidFill>
              <a:latin typeface="Times New Roman"/>
            </a:endParaRPr>
          </a:p>
        </p:txBody>
      </p:sp>
      <p:sp>
        <p:nvSpPr>
          <p:cNvPr id="322" name=""/>
          <p:cNvSpPr/>
          <p:nvPr/>
        </p:nvSpPr>
        <p:spPr>
          <a:xfrm>
            <a:off x="6483240" y="2552760"/>
            <a:ext cx="124128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ystèm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égration</a:t>
            </a:r>
            <a:endParaRPr b="0" lang="en-US" sz="1600" spc="-1" strike="noStrike">
              <a:solidFill>
                <a:srgbClr val="000000"/>
              </a:solidFill>
              <a:latin typeface="Times New Roman"/>
            </a:endParaRPr>
          </a:p>
        </p:txBody>
      </p:sp>
      <p:sp>
        <p:nvSpPr>
          <p:cNvPr id="323" name=""/>
          <p:cNvSpPr/>
          <p:nvPr/>
        </p:nvSpPr>
        <p:spPr>
          <a:xfrm>
            <a:off x="6935400" y="1884240"/>
            <a:ext cx="1216800" cy="579240"/>
          </a:xfrm>
          <a:prstGeom prst="rect">
            <a:avLst/>
          </a:prstGeom>
          <a:noFill/>
          <a:ln w="0">
            <a:noFill/>
          </a:ln>
        </p:spPr>
        <p:style>
          <a:lnRef idx="0"/>
          <a:fillRef idx="0"/>
          <a:effectRef idx="0"/>
          <a:fontRef idx="minor"/>
        </p:style>
        <p:txBody>
          <a:bodyPr wrap="none" lIns="92160" rIns="92160" tIns="46080" bIns="460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Système -</a:t>
            </a:r>
            <a:endParaRPr b="0" lang="en-US" sz="16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cceptation </a:t>
            </a:r>
            <a:endParaRPr b="0" lang="en-US" sz="1600" spc="-1" strike="noStrike">
              <a:solidFill>
                <a:srgbClr val="000000"/>
              </a:solidFill>
              <a:latin typeface="Times New Roman"/>
            </a:endParaRPr>
          </a:p>
        </p:txBody>
      </p:sp>
      <p:sp>
        <p:nvSpPr>
          <p:cNvPr id="324" name=""/>
          <p:cNvSpPr/>
          <p:nvPr/>
        </p:nvSpPr>
        <p:spPr>
          <a:xfrm>
            <a:off x="3394080" y="2266920"/>
            <a:ext cx="3444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060800" y="3067200"/>
            <a:ext cx="21304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4670280" y="4019400"/>
            <a:ext cx="9115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344120" y="1919160"/>
            <a:ext cx="1954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éfinition des tests</a:t>
            </a:r>
            <a:endParaRPr b="0" lang="en-US" sz="1800" spc="-1" strike="noStrike">
              <a:solidFill>
                <a:srgbClr val="000000"/>
              </a:solidFill>
              <a:latin typeface="Times New Roman"/>
            </a:endParaRPr>
          </a:p>
        </p:txBody>
      </p:sp>
      <p:sp>
        <p:nvSpPr>
          <p:cNvPr id="328" name=""/>
          <p:cNvSpPr/>
          <p:nvPr/>
        </p:nvSpPr>
        <p:spPr>
          <a:xfrm>
            <a:off x="2619720" y="3081960"/>
            <a:ext cx="1593360" cy="579240"/>
          </a:xfrm>
          <a:prstGeom prst="rect">
            <a:avLst/>
          </a:prstGeom>
          <a:noFill/>
          <a:ln w="0">
            <a:noFill/>
          </a:ln>
        </p:spPr>
        <p:style>
          <a:lnRef idx="0"/>
          <a:fillRef idx="0"/>
          <a:effectRef idx="0"/>
          <a:fontRef idx="minor"/>
        </p:style>
        <p:txBody>
          <a:bodyPr wrap="none" lIns="92160" rIns="92160" tIns="46080" bIns="4608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imes New Roman"/>
              </a:rPr>
              <a:t>        </a:t>
            </a:r>
            <a:r>
              <a:rPr b="0" i="1" lang="fr-FR" sz="1600" spc="-1" strike="noStrike">
                <a:solidFill>
                  <a:srgbClr val="000000"/>
                </a:solidFill>
                <a:latin typeface="Times New Roman"/>
              </a:rPr>
              <a:t>Prototypage</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imes New Roman"/>
              </a:rPr>
              <a:t>Rapide</a:t>
            </a:r>
            <a:endParaRPr b="0" lang="en-US" sz="1600" spc="-1" strike="noStrike">
              <a:solidFill>
                <a:srgbClr val="000000"/>
              </a:solidFill>
              <a:latin typeface="Times New Roman"/>
            </a:endParaRPr>
          </a:p>
        </p:txBody>
      </p:sp>
      <p:sp>
        <p:nvSpPr>
          <p:cNvPr id="329" name=""/>
          <p:cNvSpPr/>
          <p:nvPr/>
        </p:nvSpPr>
        <p:spPr>
          <a:xfrm>
            <a:off x="1704960" y="1476360"/>
            <a:ext cx="6518160" cy="355680"/>
          </a:xfrm>
          <a:custGeom>
            <a:avLst/>
            <a:gdLst/>
            <a:ahLst/>
            <a:rect l="l" t="t" r="r" b="b"/>
            <a:pathLst>
              <a:path w="4106" h="224">
                <a:moveTo>
                  <a:pt x="4105" y="223"/>
                </a:moveTo>
                <a:lnTo>
                  <a:pt x="4097" y="201"/>
                </a:lnTo>
                <a:lnTo>
                  <a:pt x="4066" y="178"/>
                </a:lnTo>
                <a:lnTo>
                  <a:pt x="4026" y="156"/>
                </a:lnTo>
                <a:lnTo>
                  <a:pt x="3963" y="136"/>
                </a:lnTo>
                <a:lnTo>
                  <a:pt x="3893" y="116"/>
                </a:lnTo>
                <a:lnTo>
                  <a:pt x="3806" y="98"/>
                </a:lnTo>
                <a:lnTo>
                  <a:pt x="3704" y="80"/>
                </a:lnTo>
                <a:lnTo>
                  <a:pt x="3594" y="65"/>
                </a:lnTo>
                <a:lnTo>
                  <a:pt x="3468" y="51"/>
                </a:lnTo>
                <a:lnTo>
                  <a:pt x="3326" y="38"/>
                </a:lnTo>
                <a:lnTo>
                  <a:pt x="3185" y="27"/>
                </a:lnTo>
                <a:lnTo>
                  <a:pt x="3028" y="18"/>
                </a:lnTo>
                <a:lnTo>
                  <a:pt x="2870" y="9"/>
                </a:lnTo>
                <a:lnTo>
                  <a:pt x="2697" y="5"/>
                </a:lnTo>
                <a:lnTo>
                  <a:pt x="2524" y="2"/>
                </a:lnTo>
                <a:lnTo>
                  <a:pt x="2343" y="0"/>
                </a:lnTo>
                <a:lnTo>
                  <a:pt x="2045" y="0"/>
                </a:lnTo>
                <a:lnTo>
                  <a:pt x="1785" y="2"/>
                </a:lnTo>
                <a:lnTo>
                  <a:pt x="1533" y="9"/>
                </a:lnTo>
                <a:lnTo>
                  <a:pt x="1298" y="22"/>
                </a:lnTo>
                <a:lnTo>
                  <a:pt x="1069" y="38"/>
                </a:lnTo>
                <a:lnTo>
                  <a:pt x="873" y="56"/>
                </a:lnTo>
                <a:lnTo>
                  <a:pt x="692" y="80"/>
                </a:lnTo>
                <a:lnTo>
                  <a:pt x="543" y="107"/>
                </a:lnTo>
                <a:lnTo>
                  <a:pt x="480" y="120"/>
                </a:lnTo>
                <a:lnTo>
                  <a:pt x="425" y="136"/>
                </a:lnTo>
                <a:lnTo>
                  <a:pt x="0" y="136"/>
                </a:lnTo>
                <a:lnTo>
                  <a:pt x="440" y="223"/>
                </a:lnTo>
                <a:lnTo>
                  <a:pt x="1148" y="136"/>
                </a:lnTo>
                <a:lnTo>
                  <a:pt x="723" y="136"/>
                </a:lnTo>
                <a:lnTo>
                  <a:pt x="834" y="109"/>
                </a:lnTo>
                <a:lnTo>
                  <a:pt x="967" y="85"/>
                </a:lnTo>
                <a:lnTo>
                  <a:pt x="1125" y="63"/>
                </a:lnTo>
                <a:lnTo>
                  <a:pt x="1305" y="42"/>
                </a:lnTo>
                <a:lnTo>
                  <a:pt x="1510" y="27"/>
                </a:lnTo>
                <a:lnTo>
                  <a:pt x="1722" y="13"/>
                </a:lnTo>
                <a:lnTo>
                  <a:pt x="1950" y="5"/>
                </a:lnTo>
                <a:lnTo>
                  <a:pt x="2194" y="0"/>
                </a:lnTo>
                <a:lnTo>
                  <a:pt x="2524" y="9"/>
                </a:lnTo>
                <a:lnTo>
                  <a:pt x="2831" y="22"/>
                </a:lnTo>
                <a:lnTo>
                  <a:pt x="2973" y="34"/>
                </a:lnTo>
                <a:lnTo>
                  <a:pt x="3106" y="45"/>
                </a:lnTo>
                <a:lnTo>
                  <a:pt x="3232" y="58"/>
                </a:lnTo>
                <a:lnTo>
                  <a:pt x="3342" y="71"/>
                </a:lnTo>
                <a:lnTo>
                  <a:pt x="3444" y="87"/>
                </a:lnTo>
                <a:lnTo>
                  <a:pt x="3539" y="105"/>
                </a:lnTo>
                <a:lnTo>
                  <a:pt x="3617" y="123"/>
                </a:lnTo>
                <a:lnTo>
                  <a:pt x="3680" y="141"/>
                </a:lnTo>
                <a:lnTo>
                  <a:pt x="3735" y="161"/>
                </a:lnTo>
                <a:lnTo>
                  <a:pt x="3775" y="181"/>
                </a:lnTo>
                <a:lnTo>
                  <a:pt x="3798" y="201"/>
                </a:lnTo>
                <a:lnTo>
                  <a:pt x="3806" y="223"/>
                </a:lnTo>
                <a:lnTo>
                  <a:pt x="4105" y="22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4168800" y="1257480"/>
            <a:ext cx="2536920" cy="36684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ification du système</a:t>
            </a:r>
            <a:endParaRPr b="0" lang="en-US" sz="1800" spc="-1" strike="noStrike">
              <a:solidFill>
                <a:srgbClr val="000000"/>
              </a:solidFill>
              <a:latin typeface="Times New Roman"/>
            </a:endParaRPr>
          </a:p>
        </p:txBody>
      </p:sp>
      <p:sp>
        <p:nvSpPr>
          <p:cNvPr id="331" name=""/>
          <p:cNvSpPr/>
          <p:nvPr/>
        </p:nvSpPr>
        <p:spPr>
          <a:xfrm>
            <a:off x="1143000" y="3048120"/>
            <a:ext cx="1905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Modèle de  Conception</a:t>
            </a:r>
            <a:endParaRPr b="0" lang="en-US" sz="2000" spc="-1" strike="noStrike">
              <a:solidFill>
                <a:srgbClr val="000000"/>
              </a:solidFill>
              <a:latin typeface="Times New Roman"/>
            </a:endParaRPr>
          </a:p>
        </p:txBody>
      </p:sp>
      <p:sp>
        <p:nvSpPr>
          <p:cNvPr id="332" name=""/>
          <p:cNvSpPr/>
          <p:nvPr/>
        </p:nvSpPr>
        <p:spPr>
          <a:xfrm>
            <a:off x="1790640" y="4861080"/>
            <a:ext cx="2552760" cy="11674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Modèle d ’implantation</a:t>
            </a:r>
            <a:endParaRPr b="0" lang="en-US" sz="2000" spc="-1" strike="noStrike">
              <a:solidFill>
                <a:srgbClr val="000000"/>
              </a:solidFill>
              <a:latin typeface="Times New Roman"/>
            </a:endParaRPr>
          </a:p>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amp;Intégration</a:t>
            </a:r>
            <a:endParaRPr b="0" lang="en-US" sz="2000" spc="-1" strike="noStrike">
              <a:solidFill>
                <a:srgbClr val="000000"/>
              </a:solidFill>
              <a:latin typeface="Times New Roman"/>
            </a:endParaRPr>
          </a:p>
        </p:txBody>
      </p:sp>
      <p:sp>
        <p:nvSpPr>
          <p:cNvPr id="333" name=""/>
          <p:cNvSpPr/>
          <p:nvPr/>
        </p:nvSpPr>
        <p:spPr>
          <a:xfrm>
            <a:off x="4188600" y="2757600"/>
            <a:ext cx="195444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éfinition des tests</a:t>
            </a:r>
            <a:endParaRPr b="0" lang="en-US" sz="1800" spc="-1" strike="noStrike">
              <a:solidFill>
                <a:srgbClr val="000000"/>
              </a:solidFill>
              <a:latin typeface="Times New Roman"/>
            </a:endParaRPr>
          </a:p>
        </p:txBody>
      </p:sp>
      <p:sp>
        <p:nvSpPr>
          <p:cNvPr id="334" name=""/>
          <p:cNvSpPr/>
          <p:nvPr/>
        </p:nvSpPr>
        <p:spPr>
          <a:xfrm>
            <a:off x="4589640" y="3429000"/>
            <a:ext cx="1126800" cy="6411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éfini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des tests</a:t>
            </a:r>
            <a:endParaRPr b="0" lang="en-US" sz="1800" spc="-1" strike="noStrike">
              <a:solidFill>
                <a:srgbClr val="000000"/>
              </a:solidFill>
              <a:latin typeface="Times New Roman"/>
            </a:endParaRPr>
          </a:p>
        </p:txBody>
      </p:sp>
      <p:grpSp>
        <p:nvGrpSpPr>
          <p:cNvPr id="335" name=""/>
          <p:cNvGrpSpPr/>
          <p:nvPr/>
        </p:nvGrpSpPr>
        <p:grpSpPr>
          <a:xfrm>
            <a:off x="-5760" y="3124080"/>
            <a:ext cx="4798440" cy="1618200"/>
            <a:chOff x="-5760" y="3124080"/>
            <a:chExt cx="4798440" cy="1618200"/>
          </a:xfrm>
        </p:grpSpPr>
        <p:sp>
          <p:nvSpPr>
            <p:cNvPr id="336" name=""/>
            <p:cNvSpPr/>
            <p:nvPr/>
          </p:nvSpPr>
          <p:spPr>
            <a:xfrm flipV="1">
              <a:off x="2430360" y="3124080"/>
              <a:ext cx="2362320" cy="1447920"/>
            </a:xfrm>
            <a:prstGeom prst="line">
              <a:avLst/>
            </a:prstGeom>
            <a:ln w="38160">
              <a:solidFill>
                <a:srgbClr val="008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5760" y="4038480"/>
              <a:ext cx="28994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Expression des contraint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8000"/>
                  </a:solidFill>
                  <a:latin typeface="Times New Roman"/>
                </a:rPr>
                <a:t>temporelles</a:t>
              </a:r>
              <a:endParaRPr b="0" lang="en-US" sz="2000" spc="-1" strike="noStrike">
                <a:solidFill>
                  <a:srgbClr val="000000"/>
                </a:solidFill>
                <a:latin typeface="Times New Roman"/>
              </a:endParaRPr>
            </a:p>
          </p:txBody>
        </p:sp>
      </p:grpSp>
      <p:grpSp>
        <p:nvGrpSpPr>
          <p:cNvPr id="338" name=""/>
          <p:cNvGrpSpPr/>
          <p:nvPr/>
        </p:nvGrpSpPr>
        <p:grpSpPr>
          <a:xfrm>
            <a:off x="1600200" y="2438280"/>
            <a:ext cx="1247760" cy="609840"/>
            <a:chOff x="1600200" y="2438280"/>
            <a:chExt cx="1247760" cy="609840"/>
          </a:xfrm>
        </p:grpSpPr>
        <p:sp>
          <p:nvSpPr>
            <p:cNvPr id="339" name=""/>
            <p:cNvSpPr/>
            <p:nvPr/>
          </p:nvSpPr>
          <p:spPr>
            <a:xfrm>
              <a:off x="1600200" y="2438280"/>
              <a:ext cx="1247760" cy="609840"/>
            </a:xfrm>
            <a:prstGeom prst="roundRect">
              <a:avLst>
                <a:gd name="adj" fmla="val 16667"/>
              </a:avLst>
            </a:prstGeom>
            <a:solidFill>
              <a:srgbClr val="ffff99">
                <a:alpha val="50000"/>
              </a:srgbClr>
            </a:solidFill>
            <a:ln cap="rnd" w="255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794960" y="2519280"/>
              <a:ext cx="194760" cy="121680"/>
            </a:xfrm>
            <a:prstGeom prst="flowChartAlternateProcess">
              <a:avLst/>
            </a:prstGeom>
            <a:solidFill>
              <a:srgbClr val="8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106720" y="2519280"/>
              <a:ext cx="195120" cy="121680"/>
            </a:xfrm>
            <a:prstGeom prst="flowChartAlternateProcess">
              <a:avLst/>
            </a:prstGeom>
            <a:solidFill>
              <a:srgbClr val="8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2418840" y="2519280"/>
              <a:ext cx="194760" cy="121680"/>
            </a:xfrm>
            <a:prstGeom prst="flowChartAlternateProcess">
              <a:avLst/>
            </a:prstGeom>
            <a:solidFill>
              <a:srgbClr val="8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106720" y="2682000"/>
              <a:ext cx="195120" cy="121680"/>
            </a:xfrm>
            <a:prstGeom prst="flowChartAlternateProcess">
              <a:avLst/>
            </a:prstGeom>
            <a:solidFill>
              <a:srgbClr val="8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2340720" y="2844720"/>
              <a:ext cx="195120" cy="121680"/>
            </a:xfrm>
            <a:prstGeom prst="flowChartAlternateProcess">
              <a:avLst/>
            </a:prstGeom>
            <a:solidFill>
              <a:srgbClr val="8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1950840" y="2844720"/>
              <a:ext cx="194760" cy="121680"/>
            </a:xfrm>
            <a:prstGeom prst="flowChartAlternateProcess">
              <a:avLst/>
            </a:prstGeom>
            <a:solidFill>
              <a:srgbClr val="8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989720" y="2600640"/>
              <a:ext cx="116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2301840" y="2600640"/>
              <a:ext cx="116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145960" y="2926080"/>
              <a:ext cx="194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301840" y="2641320"/>
              <a:ext cx="227160" cy="142200"/>
            </a:xfrm>
            <a:custGeom>
              <a:avLst/>
              <a:gdLst/>
              <a:ahLst/>
              <a:rect l="l" t="t" r="r" b="b"/>
              <a:pathLst>
                <a:path w="280" h="168">
                  <a:moveTo>
                    <a:pt x="240" y="0"/>
                  </a:moveTo>
                  <a:cubicBezTo>
                    <a:pt x="260" y="60"/>
                    <a:pt x="280" y="120"/>
                    <a:pt x="240" y="144"/>
                  </a:cubicBezTo>
                  <a:cubicBezTo>
                    <a:pt x="200" y="168"/>
                    <a:pt x="100" y="156"/>
                    <a:pt x="0" y="144"/>
                  </a:cubicBezTo>
                </a:path>
              </a:pathLst>
            </a:custGeom>
            <a:noFill/>
            <a:ln w="284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50" name=""/>
            <p:cNvSpPr/>
            <p:nvPr/>
          </p:nvSpPr>
          <p:spPr>
            <a:xfrm>
              <a:off x="1911960" y="2641320"/>
              <a:ext cx="194760" cy="121680"/>
            </a:xfrm>
            <a:custGeom>
              <a:avLst/>
              <a:gdLst/>
              <a:ahLst/>
              <a:rect l="l" t="t" r="r" b="b"/>
              <a:pathLst>
                <a:path w="240" h="144">
                  <a:moveTo>
                    <a:pt x="240" y="144"/>
                  </a:moveTo>
                  <a:cubicBezTo>
                    <a:pt x="164" y="132"/>
                    <a:pt x="88" y="120"/>
                    <a:pt x="48" y="96"/>
                  </a:cubicBezTo>
                  <a:cubicBezTo>
                    <a:pt x="8" y="72"/>
                    <a:pt x="4" y="36"/>
                    <a:pt x="0" y="0"/>
                  </a:cubicBezTo>
                </a:path>
              </a:pathLst>
            </a:custGeom>
            <a:noFill/>
            <a:ln w="284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51" name=""/>
            <p:cNvSpPr/>
            <p:nvPr/>
          </p:nvSpPr>
          <p:spPr>
            <a:xfrm>
              <a:off x="1833840" y="2641320"/>
              <a:ext cx="116640" cy="243720"/>
            </a:xfrm>
            <a:custGeom>
              <a:avLst/>
              <a:gdLst/>
              <a:ahLst/>
              <a:rect l="l" t="t" r="r" b="b"/>
              <a:pathLst>
                <a:path w="144" h="288">
                  <a:moveTo>
                    <a:pt x="0" y="0"/>
                  </a:moveTo>
                  <a:cubicBezTo>
                    <a:pt x="12" y="96"/>
                    <a:pt x="24" y="192"/>
                    <a:pt x="48" y="240"/>
                  </a:cubicBezTo>
                  <a:cubicBezTo>
                    <a:pt x="72" y="288"/>
                    <a:pt x="108" y="288"/>
                    <a:pt x="144" y="288"/>
                  </a:cubicBezTo>
                </a:path>
              </a:pathLst>
            </a:custGeom>
            <a:noFill/>
            <a:ln w="284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52" name=""/>
            <p:cNvSpPr/>
            <p:nvPr/>
          </p:nvSpPr>
          <p:spPr>
            <a:xfrm>
              <a:off x="2613960" y="2559960"/>
              <a:ext cx="116640" cy="0"/>
            </a:xfrm>
            <a:prstGeom prst="line">
              <a:avLst/>
            </a:prstGeom>
            <a:ln w="28440">
              <a:solidFill>
                <a:srgbClr val="000000"/>
              </a:solidFill>
              <a:miter/>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535840" y="2885400"/>
              <a:ext cx="116640" cy="0"/>
            </a:xfrm>
            <a:prstGeom prst="line">
              <a:avLst/>
            </a:prstGeom>
            <a:ln w="28440">
              <a:solidFill>
                <a:srgbClr val="000000"/>
              </a:solidFill>
              <a:miter/>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677960" y="2559960"/>
              <a:ext cx="116640" cy="0"/>
            </a:xfrm>
            <a:prstGeom prst="line">
              <a:avLst/>
            </a:prstGeom>
            <a:ln w="28440">
              <a:solidFill>
                <a:srgbClr val="000000"/>
              </a:solidFill>
              <a:miter/>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55" name=""/>
          <p:cNvGrpSpPr/>
          <p:nvPr/>
        </p:nvGrpSpPr>
        <p:grpSpPr>
          <a:xfrm>
            <a:off x="3809880" y="4191120"/>
            <a:ext cx="1067040" cy="838080"/>
            <a:chOff x="3809880" y="4191120"/>
            <a:chExt cx="1067040" cy="838080"/>
          </a:xfrm>
        </p:grpSpPr>
        <p:sp>
          <p:nvSpPr>
            <p:cNvPr id="356" name=""/>
            <p:cNvSpPr/>
            <p:nvPr/>
          </p:nvSpPr>
          <p:spPr>
            <a:xfrm>
              <a:off x="3809880" y="4191120"/>
              <a:ext cx="1067040" cy="838080"/>
            </a:xfrm>
            <a:prstGeom prst="ellipse">
              <a:avLst/>
            </a:prstGeom>
            <a:solidFill>
              <a:srgbClr val="c0c0c0">
                <a:alpha val="50000"/>
              </a:srgbClr>
            </a:solidFill>
            <a:ln w="2232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974040" y="4381560"/>
              <a:ext cx="286920" cy="11412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384440" y="4381560"/>
              <a:ext cx="287280" cy="11412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4220280" y="4648320"/>
              <a:ext cx="286920" cy="11412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4220280" y="4838760"/>
              <a:ext cx="286920" cy="114120"/>
            </a:xfrm>
            <a:prstGeom prst="rect">
              <a:avLst/>
            </a:prstGeom>
            <a:solidFill>
              <a:srgbClr val="808080"/>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3974040" y="4571280"/>
              <a:ext cx="6573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138200" y="4495680"/>
              <a:ext cx="0" cy="75960"/>
            </a:xfrm>
            <a:prstGeom prst="line">
              <a:avLst/>
            </a:prstGeom>
            <a:ln w="284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63" name=""/>
            <p:cNvSpPr/>
            <p:nvPr/>
          </p:nvSpPr>
          <p:spPr>
            <a:xfrm>
              <a:off x="4507560" y="4495680"/>
              <a:ext cx="0" cy="75960"/>
            </a:xfrm>
            <a:prstGeom prst="line">
              <a:avLst/>
            </a:prstGeom>
            <a:ln w="284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64" name=""/>
            <p:cNvSpPr/>
            <p:nvPr/>
          </p:nvSpPr>
          <p:spPr>
            <a:xfrm>
              <a:off x="4343400" y="4572000"/>
              <a:ext cx="0" cy="76320"/>
            </a:xfrm>
            <a:prstGeom prst="line">
              <a:avLst/>
            </a:prstGeom>
            <a:ln w="2844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65" name=""/>
            <p:cNvSpPr/>
            <p:nvPr/>
          </p:nvSpPr>
          <p:spPr>
            <a:xfrm>
              <a:off x="4343400" y="4762440"/>
              <a:ext cx="0" cy="114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66" name=""/>
          <p:cNvGrpSpPr/>
          <p:nvPr/>
        </p:nvGrpSpPr>
        <p:grpSpPr>
          <a:xfrm>
            <a:off x="1600200" y="2438280"/>
            <a:ext cx="1247760" cy="609840"/>
            <a:chOff x="1600200" y="2438280"/>
            <a:chExt cx="1247760" cy="609840"/>
          </a:xfrm>
        </p:grpSpPr>
        <p:sp>
          <p:nvSpPr>
            <p:cNvPr id="367" name=""/>
            <p:cNvSpPr/>
            <p:nvPr/>
          </p:nvSpPr>
          <p:spPr>
            <a:xfrm>
              <a:off x="1600200" y="2438280"/>
              <a:ext cx="1247760" cy="609840"/>
            </a:xfrm>
            <a:prstGeom prst="roundRect">
              <a:avLst>
                <a:gd name="adj" fmla="val 16667"/>
              </a:avLst>
            </a:prstGeom>
            <a:solidFill>
              <a:srgbClr val="ffff99">
                <a:alpha val="50000"/>
              </a:srgbClr>
            </a:solidFill>
            <a:ln cap="rnd" w="255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1794960" y="2519280"/>
              <a:ext cx="194760" cy="121680"/>
            </a:xfrm>
            <a:prstGeom prst="flowChartAlternateProcess">
              <a:avLst/>
            </a:prstGeom>
            <a:solidFill>
              <a:srgbClr val="8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106720" y="2519280"/>
              <a:ext cx="195120" cy="121680"/>
            </a:xfrm>
            <a:prstGeom prst="flowChartAlternateProcess">
              <a:avLst/>
            </a:prstGeom>
            <a:solidFill>
              <a:srgbClr val="8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2418840" y="2519280"/>
              <a:ext cx="194760" cy="121680"/>
            </a:xfrm>
            <a:prstGeom prst="flowChartAlternateProcess">
              <a:avLst/>
            </a:prstGeom>
            <a:solidFill>
              <a:srgbClr val="8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06720" y="2682000"/>
              <a:ext cx="195120" cy="121680"/>
            </a:xfrm>
            <a:prstGeom prst="flowChartAlternateProcess">
              <a:avLst/>
            </a:prstGeom>
            <a:solidFill>
              <a:srgbClr val="8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2340720" y="2844720"/>
              <a:ext cx="195120" cy="121680"/>
            </a:xfrm>
            <a:prstGeom prst="flowChartAlternateProcess">
              <a:avLst/>
            </a:prstGeom>
            <a:solidFill>
              <a:srgbClr val="8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1950840" y="2844720"/>
              <a:ext cx="194760" cy="121680"/>
            </a:xfrm>
            <a:prstGeom prst="flowChartAlternateProcess">
              <a:avLst/>
            </a:prstGeom>
            <a:solidFill>
              <a:srgbClr val="800000"/>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989720" y="2600640"/>
              <a:ext cx="116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301840" y="2600640"/>
              <a:ext cx="116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2145960" y="2926080"/>
              <a:ext cx="1947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301840" y="2641320"/>
              <a:ext cx="227160" cy="142200"/>
            </a:xfrm>
            <a:custGeom>
              <a:avLst/>
              <a:gdLst/>
              <a:ahLst/>
              <a:rect l="l" t="t" r="r" b="b"/>
              <a:pathLst>
                <a:path w="280" h="168">
                  <a:moveTo>
                    <a:pt x="240" y="0"/>
                  </a:moveTo>
                  <a:cubicBezTo>
                    <a:pt x="260" y="60"/>
                    <a:pt x="280" y="120"/>
                    <a:pt x="240" y="144"/>
                  </a:cubicBezTo>
                  <a:cubicBezTo>
                    <a:pt x="200" y="168"/>
                    <a:pt x="100" y="156"/>
                    <a:pt x="0" y="144"/>
                  </a:cubicBezTo>
                </a:path>
              </a:pathLst>
            </a:custGeom>
            <a:noFill/>
            <a:ln w="284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1911960" y="2641320"/>
              <a:ext cx="194760" cy="121680"/>
            </a:xfrm>
            <a:custGeom>
              <a:avLst/>
              <a:gdLst/>
              <a:ahLst/>
              <a:rect l="l" t="t" r="r" b="b"/>
              <a:pathLst>
                <a:path w="240" h="144">
                  <a:moveTo>
                    <a:pt x="240" y="144"/>
                  </a:moveTo>
                  <a:cubicBezTo>
                    <a:pt x="164" y="132"/>
                    <a:pt x="88" y="120"/>
                    <a:pt x="48" y="96"/>
                  </a:cubicBezTo>
                  <a:cubicBezTo>
                    <a:pt x="8" y="72"/>
                    <a:pt x="4" y="36"/>
                    <a:pt x="0" y="0"/>
                  </a:cubicBezTo>
                </a:path>
              </a:pathLst>
            </a:custGeom>
            <a:noFill/>
            <a:ln w="284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1833840" y="2641320"/>
              <a:ext cx="116640" cy="243720"/>
            </a:xfrm>
            <a:custGeom>
              <a:avLst/>
              <a:gdLst/>
              <a:ahLst/>
              <a:rect l="l" t="t" r="r" b="b"/>
              <a:pathLst>
                <a:path w="144" h="288">
                  <a:moveTo>
                    <a:pt x="0" y="0"/>
                  </a:moveTo>
                  <a:cubicBezTo>
                    <a:pt x="12" y="96"/>
                    <a:pt x="24" y="192"/>
                    <a:pt x="48" y="240"/>
                  </a:cubicBezTo>
                  <a:cubicBezTo>
                    <a:pt x="72" y="288"/>
                    <a:pt x="108" y="288"/>
                    <a:pt x="144" y="288"/>
                  </a:cubicBezTo>
                </a:path>
              </a:pathLst>
            </a:custGeom>
            <a:noFill/>
            <a:ln w="2844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2613960" y="2559960"/>
              <a:ext cx="116640" cy="0"/>
            </a:xfrm>
            <a:prstGeom prst="line">
              <a:avLst/>
            </a:prstGeom>
            <a:ln w="28440">
              <a:solidFill>
                <a:srgbClr val="000000"/>
              </a:solidFill>
              <a:miter/>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2535840" y="2885400"/>
              <a:ext cx="116640" cy="0"/>
            </a:xfrm>
            <a:prstGeom prst="line">
              <a:avLst/>
            </a:prstGeom>
            <a:ln w="28440">
              <a:solidFill>
                <a:srgbClr val="000000"/>
              </a:solidFill>
              <a:miter/>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1677960" y="2559960"/>
              <a:ext cx="116640" cy="0"/>
            </a:xfrm>
            <a:prstGeom prst="line">
              <a:avLst/>
            </a:prstGeom>
            <a:ln w="28440">
              <a:solidFill>
                <a:srgbClr val="000000"/>
              </a:solidFill>
              <a:miter/>
              <a:tailEnd len="sm"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5238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Vue de l’ingénieur automaticien</a:t>
            </a:r>
            <a:endParaRPr b="0" lang="en-US" sz="2800" spc="-1" strike="noStrike">
              <a:solidFill>
                <a:srgbClr val="3333cc"/>
              </a:solidFill>
              <a:latin typeface="Arial"/>
            </a:endParaRPr>
          </a:p>
        </p:txBody>
      </p:sp>
      <p:sp>
        <p:nvSpPr>
          <p:cNvPr id="384" name="PlaceHolder 2"/>
          <p:cNvSpPr>
            <a:spLocks noGrp="1"/>
          </p:cNvSpPr>
          <p:nvPr>
            <p:ph/>
          </p:nvPr>
        </p:nvSpPr>
        <p:spPr>
          <a:xfrm>
            <a:off x="1523880" y="990360"/>
            <a:ext cx="7467840" cy="5638680"/>
          </a:xfrm>
          <a:prstGeom prst="rect">
            <a:avLst/>
          </a:prstGeom>
          <a:noFill/>
          <a:ln w="0">
            <a:noFill/>
          </a:ln>
        </p:spPr>
        <p:txBody>
          <a:bodyPr lIns="90000" rIns="90000" tIns="46800" bIns="46800" anchor="t">
            <a:normAutofit/>
          </a:bodyPr>
          <a:p>
            <a:pPr marL="287280" indent="-287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modèle continu du procédé</a:t>
            </a:r>
            <a:endParaRPr b="0" lang="en-US" sz="2800" spc="-1" strike="noStrike">
              <a:solidFill>
                <a:srgbClr val="000000"/>
              </a:solidFill>
              <a:latin typeface="Times New Roman"/>
            </a:endParaRPr>
          </a:p>
          <a:p>
            <a:pPr marL="287280" indent="-287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contrôleur en temps discret</a:t>
            </a:r>
            <a:endParaRPr b="0" lang="en-US" sz="2800" spc="-1" strike="noStrike">
              <a:solidFill>
                <a:srgbClr val="000000"/>
              </a:solidFill>
              <a:latin typeface="Times New Roman"/>
            </a:endParaRPr>
          </a:p>
          <a:p>
            <a:pPr marL="287280" indent="-287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mots clés</a:t>
            </a:r>
            <a:endParaRPr b="0" lang="en-US" sz="28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riticité : stabilité ...</a:t>
            </a:r>
            <a:endParaRPr b="0" lang="en-US" sz="24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erformances : marge de phase ...</a:t>
            </a:r>
            <a:endParaRPr b="0" lang="en-US" sz="24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ests : réponse indicielle, impulsionnelle</a:t>
            </a:r>
            <a:endParaRPr b="0" lang="en-US" sz="2400" spc="-1" strike="noStrike">
              <a:solidFill>
                <a:srgbClr val="000000"/>
              </a:solidFill>
              <a:latin typeface="Times New Roman"/>
            </a:endParaRPr>
          </a:p>
          <a:p>
            <a:pPr marL="287280" indent="-287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hypothèses</a:t>
            </a:r>
            <a:endParaRPr b="0" lang="en-US" sz="28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échantillonnage idéal</a:t>
            </a:r>
            <a:endParaRPr b="0" lang="en-US" sz="24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as ou peu de latence </a:t>
            </a:r>
            <a:endParaRPr b="0" lang="en-US" sz="2400" spc="-1" strike="noStrike">
              <a:solidFill>
                <a:srgbClr val="000000"/>
              </a:solidFill>
              <a:latin typeface="Times New Roman"/>
            </a:endParaRPr>
          </a:p>
        </p:txBody>
      </p:sp>
      <p:sp>
        <p:nvSpPr>
          <p:cNvPr id="385" name=""/>
          <p:cNvSpPr/>
          <p:nvPr/>
        </p:nvSpPr>
        <p:spPr>
          <a:xfrm>
            <a:off x="3600" y="2590920"/>
            <a:ext cx="1453320" cy="228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Systèmes embarqué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aractéris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Elé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Conception d’un S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ycle en V</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cc0000"/>
                </a:solidFill>
                <a:latin typeface="Times New Roman"/>
              </a:rPr>
              <a:t>Intégr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ycle en spira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Points de v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automatiq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logici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matéri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Intégr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5238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Vue de l ’ingénieur systèmes embarqués</a:t>
            </a:r>
            <a:endParaRPr b="0" lang="en-US" sz="2800" spc="-1" strike="noStrike">
              <a:solidFill>
                <a:srgbClr val="3333cc"/>
              </a:solidFill>
              <a:latin typeface="Arial"/>
            </a:endParaRPr>
          </a:p>
        </p:txBody>
      </p:sp>
      <p:sp>
        <p:nvSpPr>
          <p:cNvPr id="387" name="PlaceHolder 2"/>
          <p:cNvSpPr>
            <a:spLocks noGrp="1"/>
          </p:cNvSpPr>
          <p:nvPr>
            <p:ph/>
          </p:nvPr>
        </p:nvSpPr>
        <p:spPr>
          <a:xfrm>
            <a:off x="1523880" y="990360"/>
            <a:ext cx="7467840" cy="5638680"/>
          </a:xfrm>
          <a:prstGeom prst="rect">
            <a:avLst/>
          </a:prstGeom>
          <a:noFill/>
          <a:ln w="0">
            <a:noFill/>
          </a:ln>
        </p:spPr>
        <p:txBody>
          <a:bodyPr lIns="90000" rIns="90000" tIns="46800" bIns="46800" anchor="t">
            <a:normAutofit/>
          </a:bodyPr>
          <a:p>
            <a:pPr marL="287280" indent="-287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rôleur modélisé</a:t>
            </a:r>
            <a:endParaRPr b="0" lang="en-US" sz="28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tâches indépendantes</a:t>
            </a:r>
            <a:endParaRPr b="0" lang="en-US" sz="24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 diagrammes flots de données</a:t>
            </a:r>
            <a:endParaRPr b="0" lang="en-US" sz="2400" spc="-1" strike="noStrike">
              <a:solidFill>
                <a:srgbClr val="000000"/>
              </a:solidFill>
              <a:latin typeface="Times New Roman"/>
            </a:endParaRPr>
          </a:p>
          <a:p>
            <a:pPr marL="287280" indent="-287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ts clés</a:t>
            </a:r>
            <a:endParaRPr b="0" lang="en-US" sz="28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donnancement</a:t>
            </a:r>
            <a:endParaRPr b="0" lang="en-US" sz="24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émoire </a:t>
            </a:r>
            <a:endParaRPr b="0" lang="en-US" sz="24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a:t>
            </a:r>
            <a:endParaRPr b="0" lang="en-US" sz="2400" spc="-1" strike="noStrike">
              <a:solidFill>
                <a:srgbClr val="000000"/>
              </a:solidFill>
              <a:latin typeface="Times New Roman"/>
            </a:endParaRPr>
          </a:p>
          <a:p>
            <a:pPr marL="287280" indent="-287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ypothèses</a:t>
            </a:r>
            <a:endParaRPr b="0" lang="en-US" sz="28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eption du contrôleur fixée</a:t>
            </a:r>
            <a:endParaRPr b="0" lang="en-US" sz="2400" spc="-1" strike="noStrike">
              <a:solidFill>
                <a:srgbClr val="000000"/>
              </a:solidFill>
              <a:latin typeface="Times New Roman"/>
            </a:endParaRPr>
          </a:p>
        </p:txBody>
      </p:sp>
      <p:sp>
        <p:nvSpPr>
          <p:cNvPr id="388" name=""/>
          <p:cNvSpPr/>
          <p:nvPr/>
        </p:nvSpPr>
        <p:spPr>
          <a:xfrm>
            <a:off x="3600" y="2590920"/>
            <a:ext cx="1453320" cy="228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Systèmes embarqué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aractéris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Elé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Conception d’un S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ycle en V</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cc0000"/>
                </a:solidFill>
                <a:latin typeface="Times New Roman"/>
              </a:rPr>
              <a:t>Intégr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ycle en spira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Points de v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automatiq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logici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matéri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Intégr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Systèmes embarqués : où ?</a:t>
            </a:r>
            <a:endParaRPr b="0" lang="en-US" sz="2800" spc="-1" strike="noStrike">
              <a:solidFill>
                <a:srgbClr val="3333cc"/>
              </a:solidFill>
              <a:latin typeface="Arial"/>
            </a:endParaRPr>
          </a:p>
        </p:txBody>
      </p:sp>
      <p:sp>
        <p:nvSpPr>
          <p:cNvPr id="62" name="PlaceHolder 2"/>
          <p:cNvSpPr>
            <a:spLocks noGrp="1"/>
          </p:cNvSpPr>
          <p:nvPr>
            <p:ph/>
          </p:nvPr>
        </p:nvSpPr>
        <p:spPr>
          <a:xfrm>
            <a:off x="1523880" y="990360"/>
            <a:ext cx="7467840" cy="5638680"/>
          </a:xfrm>
          <a:prstGeom prst="rect">
            <a:avLst/>
          </a:prstGeom>
          <a:noFill/>
          <a:ln w="0">
            <a:noFill/>
          </a:ln>
        </p:spPr>
        <p:txBody>
          <a:bodyPr lIns="90000" rIns="90000" tIns="46800" bIns="46800" anchor="t">
            <a:normAutofit/>
          </a:bodyPr>
          <a:p>
            <a:pPr marL="287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7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7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7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7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574560" indent="-96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èmes de commande</a:t>
            </a:r>
            <a:endParaRPr b="0" lang="en-US" sz="1800" spc="-1" strike="noStrike">
              <a:solidFill>
                <a:srgbClr val="000000"/>
              </a:solidFill>
              <a:latin typeface="Times New Roman"/>
            </a:endParaRPr>
          </a:p>
          <a:p>
            <a:pPr lvl="2" marL="952560" indent="-18756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rôle moteur véhicule, électronique de vol, pilote automatique, thermique, ventilation, </a:t>
            </a:r>
            <a:endParaRPr b="0" lang="en-US" sz="1600" spc="-1" strike="noStrike">
              <a:solidFill>
                <a:srgbClr val="000000"/>
              </a:solidFill>
              <a:latin typeface="Times New Roman"/>
            </a:endParaRPr>
          </a:p>
          <a:p>
            <a:pPr lvl="1" marL="574560" indent="-96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itement du signal</a:t>
            </a:r>
            <a:endParaRPr b="0" lang="en-US" sz="1800" spc="-1" strike="noStrike">
              <a:solidFill>
                <a:srgbClr val="000000"/>
              </a:solidFill>
              <a:latin typeface="Times New Roman"/>
            </a:endParaRPr>
          </a:p>
          <a:p>
            <a:pPr lvl="2" marL="952560" indent="-18756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élécommunications, radar, vidéo, électronique médicale</a:t>
            </a:r>
            <a:endParaRPr b="0" lang="en-US" sz="1600" spc="-1" strike="noStrike">
              <a:solidFill>
                <a:srgbClr val="000000"/>
              </a:solidFill>
              <a:latin typeface="Times New Roman"/>
            </a:endParaRPr>
          </a:p>
          <a:p>
            <a:pPr lvl="1" marL="574560" indent="-96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unication &amp; réseaux </a:t>
            </a:r>
            <a:endParaRPr b="0" lang="en-US" sz="1800" spc="-1" strike="noStrike">
              <a:solidFill>
                <a:srgbClr val="000000"/>
              </a:solidFill>
              <a:latin typeface="Times New Roman"/>
            </a:endParaRPr>
          </a:p>
          <a:p>
            <a:pPr lvl="2" marL="952560" indent="-18756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utocommutateurs, téléphones...</a:t>
            </a:r>
            <a:endParaRPr b="0" lang="en-US" sz="1600" spc="-1" strike="noStrike">
              <a:solidFill>
                <a:srgbClr val="000000"/>
              </a:solidFill>
              <a:latin typeface="Times New Roman"/>
            </a:endParaRPr>
          </a:p>
          <a:p>
            <a:pPr lvl="1" marL="574560" indent="-9684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ormatique générale</a:t>
            </a:r>
            <a:endParaRPr b="0" lang="en-US" sz="1800" spc="-1" strike="noStrike">
              <a:solidFill>
                <a:srgbClr val="000000"/>
              </a:solidFill>
              <a:latin typeface="Times New Roman"/>
            </a:endParaRPr>
          </a:p>
          <a:p>
            <a:pPr lvl="2" marL="952560" indent="-18756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sistants électronique, jeux vidéo, répondeurs automatiques, terminaux</a:t>
            </a:r>
            <a:r>
              <a:rPr b="0" lang="en-US" sz="2000" spc="-1" strike="noStrike">
                <a:solidFill>
                  <a:srgbClr val="000000"/>
                </a:solidFill>
                <a:latin typeface="Times New Roman"/>
              </a:rPr>
              <a:t> </a:t>
            </a:r>
            <a:r>
              <a:rPr b="0" lang="en-US" sz="1600" spc="-1" strike="noStrike">
                <a:solidFill>
                  <a:srgbClr val="000000"/>
                </a:solidFill>
                <a:latin typeface="Times New Roman"/>
              </a:rPr>
              <a:t>bancaires ...</a:t>
            </a:r>
            <a:endParaRPr b="0" lang="en-US" sz="1600" spc="-1" strike="noStrike">
              <a:solidFill>
                <a:srgbClr val="000000"/>
              </a:solidFill>
              <a:latin typeface="Times New Roman"/>
            </a:endParaRPr>
          </a:p>
          <a:p>
            <a:pPr lvl="1" marL="574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574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7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7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7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7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3" name="engine" descr=""/>
          <p:cNvPicPr/>
          <p:nvPr/>
        </p:nvPicPr>
        <p:blipFill>
          <a:blip r:embed="rId1"/>
          <a:stretch/>
        </p:blipFill>
        <p:spPr>
          <a:xfrm>
            <a:off x="5715000" y="2666880"/>
            <a:ext cx="1619280" cy="1123920"/>
          </a:xfrm>
          <a:prstGeom prst="rect">
            <a:avLst/>
          </a:prstGeom>
          <a:ln w="0">
            <a:noFill/>
          </a:ln>
        </p:spPr>
      </p:pic>
      <p:pic>
        <p:nvPicPr>
          <p:cNvPr id="64" name="" descr=""/>
          <p:cNvPicPr/>
          <p:nvPr/>
        </p:nvPicPr>
        <p:blipFill>
          <a:blip r:embed="rId2"/>
          <a:stretch/>
        </p:blipFill>
        <p:spPr>
          <a:xfrm>
            <a:off x="1752480" y="2362320"/>
            <a:ext cx="817560" cy="1181160"/>
          </a:xfrm>
          <a:prstGeom prst="rect">
            <a:avLst/>
          </a:prstGeom>
          <a:ln w="0">
            <a:noFill/>
          </a:ln>
        </p:spPr>
      </p:pic>
      <p:grpSp>
        <p:nvGrpSpPr>
          <p:cNvPr id="65" name=""/>
          <p:cNvGrpSpPr/>
          <p:nvPr/>
        </p:nvGrpSpPr>
        <p:grpSpPr>
          <a:xfrm>
            <a:off x="2057400" y="1066680"/>
            <a:ext cx="2057400" cy="1076400"/>
            <a:chOff x="2057400" y="1066680"/>
            <a:chExt cx="2057400" cy="1076400"/>
          </a:xfrm>
        </p:grpSpPr>
        <p:pic>
          <p:nvPicPr>
            <p:cNvPr id="66" name="Digital%2024%20TTL%20lines" descr=""/>
            <p:cNvPicPr/>
            <p:nvPr/>
          </p:nvPicPr>
          <p:blipFill>
            <a:blip r:embed="rId3"/>
            <a:stretch/>
          </p:blipFill>
          <p:spPr>
            <a:xfrm>
              <a:off x="2057400" y="1066680"/>
              <a:ext cx="1295280" cy="1076400"/>
            </a:xfrm>
            <a:prstGeom prst="rect">
              <a:avLst/>
            </a:prstGeom>
            <a:ln w="0">
              <a:noFill/>
            </a:ln>
          </p:spPr>
        </p:pic>
        <p:sp>
          <p:nvSpPr>
            <p:cNvPr id="67" name=""/>
            <p:cNvSpPr/>
            <p:nvPr/>
          </p:nvSpPr>
          <p:spPr>
            <a:xfrm>
              <a:off x="3352680" y="1143000"/>
              <a:ext cx="762120" cy="914400"/>
            </a:xfrm>
            <a:prstGeom prst="flowChartDocumen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8" name=""/>
          <p:cNvSpPr/>
          <p:nvPr/>
        </p:nvSpPr>
        <p:spPr>
          <a:xfrm>
            <a:off x="1828800" y="914400"/>
            <a:ext cx="2971800" cy="1295280"/>
          </a:xfrm>
          <a:prstGeom prst="wedgeRectCallout">
            <a:avLst>
              <a:gd name="adj1" fmla="val -29592"/>
              <a:gd name="adj2" fmla="val 67277"/>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6172200" y="990720"/>
            <a:ext cx="2514600" cy="1523880"/>
          </a:xfrm>
          <a:prstGeom prst="cloudCallout">
            <a:avLst>
              <a:gd name="adj1" fmla="val -38953"/>
              <a:gd name="adj2" fmla="val 66041"/>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0" name=""/>
          <p:cNvGrpSpPr/>
          <p:nvPr/>
        </p:nvGrpSpPr>
        <p:grpSpPr>
          <a:xfrm>
            <a:off x="6553080" y="1295280"/>
            <a:ext cx="1523880" cy="838440"/>
            <a:chOff x="6553080" y="1295280"/>
            <a:chExt cx="1523880" cy="838440"/>
          </a:xfrm>
        </p:grpSpPr>
        <p:pic>
          <p:nvPicPr>
            <p:cNvPr id="71" name="Digital%2024%20TTL%20lines" descr=""/>
            <p:cNvPicPr/>
            <p:nvPr/>
          </p:nvPicPr>
          <p:blipFill>
            <a:blip r:embed="rId4"/>
            <a:stretch/>
          </p:blipFill>
          <p:spPr>
            <a:xfrm>
              <a:off x="6553080" y="1295280"/>
              <a:ext cx="959400" cy="838440"/>
            </a:xfrm>
            <a:prstGeom prst="rect">
              <a:avLst/>
            </a:prstGeom>
            <a:ln w="0">
              <a:noFill/>
            </a:ln>
          </p:spPr>
        </p:pic>
        <p:sp>
          <p:nvSpPr>
            <p:cNvPr id="72" name=""/>
            <p:cNvSpPr/>
            <p:nvPr/>
          </p:nvSpPr>
          <p:spPr>
            <a:xfrm>
              <a:off x="7512480" y="1354680"/>
              <a:ext cx="564480" cy="712080"/>
            </a:xfrm>
            <a:prstGeom prst="flowChartDocumen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73" name="Satelite01" descr=""/>
          <p:cNvPicPr/>
          <p:nvPr/>
        </p:nvPicPr>
        <p:blipFill>
          <a:blip r:embed="rId5"/>
          <a:stretch/>
        </p:blipFill>
        <p:spPr>
          <a:xfrm>
            <a:off x="3581280" y="2514600"/>
            <a:ext cx="1676520" cy="1162080"/>
          </a:xfrm>
          <a:prstGeom prst="rect">
            <a:avLst/>
          </a:prstGeom>
          <a:ln w="0">
            <a:noFill/>
          </a:ln>
        </p:spPr>
      </p:pic>
      <p:sp>
        <p:nvSpPr>
          <p:cNvPr id="74" name=""/>
          <p:cNvSpPr/>
          <p:nvPr/>
        </p:nvSpPr>
        <p:spPr>
          <a:xfrm>
            <a:off x="5486400" y="914400"/>
            <a:ext cx="3505320" cy="2895480"/>
          </a:xfrm>
          <a:prstGeom prst="roundRect">
            <a:avLst>
              <a:gd name="adj" fmla="val 16667"/>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 name="" descr=""/>
          <p:cNvPicPr/>
          <p:nvPr/>
        </p:nvPicPr>
        <p:blipFill>
          <a:blip r:embed="rId6"/>
          <a:stretch/>
        </p:blipFill>
        <p:spPr>
          <a:xfrm>
            <a:off x="0" y="2133720"/>
            <a:ext cx="1447920" cy="720720"/>
          </a:xfrm>
          <a:prstGeom prst="rect">
            <a:avLst/>
          </a:prstGeom>
          <a:ln w="0">
            <a:noFill/>
          </a:ln>
        </p:spPr>
      </p:pic>
      <p:pic>
        <p:nvPicPr>
          <p:cNvPr id="76" name="" descr=""/>
          <p:cNvPicPr/>
          <p:nvPr/>
        </p:nvPicPr>
        <p:blipFill>
          <a:blip r:embed="rId7"/>
          <a:stretch/>
        </p:blipFill>
        <p:spPr>
          <a:xfrm>
            <a:off x="112680" y="3429000"/>
            <a:ext cx="1944720" cy="968400"/>
          </a:xfrm>
          <a:prstGeom prst="rect">
            <a:avLst/>
          </a:prstGeom>
          <a:ln w="0">
            <a:noFill/>
          </a:ln>
        </p:spPr>
      </p:pic>
      <p:pic>
        <p:nvPicPr>
          <p:cNvPr id="77" name="" descr=""/>
          <p:cNvPicPr/>
          <p:nvPr/>
        </p:nvPicPr>
        <p:blipFill>
          <a:blip r:embed="rId8"/>
          <a:stretch/>
        </p:blipFill>
        <p:spPr>
          <a:xfrm>
            <a:off x="7696080" y="2819520"/>
            <a:ext cx="1140120" cy="1527120"/>
          </a:xfrm>
          <a:prstGeom prst="rect">
            <a:avLst/>
          </a:prstGeom>
          <a:ln w="0">
            <a:noFill/>
          </a:ln>
        </p:spPr>
      </p:pic>
      <p:pic>
        <p:nvPicPr>
          <p:cNvPr id="78" name="" descr=""/>
          <p:cNvPicPr/>
          <p:nvPr/>
        </p:nvPicPr>
        <p:blipFill>
          <a:blip r:embed="rId9"/>
          <a:stretch/>
        </p:blipFill>
        <p:spPr>
          <a:xfrm>
            <a:off x="7238880" y="4114800"/>
            <a:ext cx="1765440" cy="1131840"/>
          </a:xfrm>
          <a:prstGeom prst="rect">
            <a:avLst/>
          </a:prstGeom>
          <a:ln w="0">
            <a:noFill/>
          </a:ln>
        </p:spPr>
      </p:pic>
      <p:pic>
        <p:nvPicPr>
          <p:cNvPr id="79" name="" descr=""/>
          <p:cNvPicPr/>
          <p:nvPr/>
        </p:nvPicPr>
        <p:blipFill>
          <a:blip r:embed="rId10"/>
          <a:stretch/>
        </p:blipFill>
        <p:spPr>
          <a:xfrm>
            <a:off x="7543800" y="4952880"/>
            <a:ext cx="1430280" cy="1702080"/>
          </a:xfrm>
          <a:prstGeom prst="rect">
            <a:avLst/>
          </a:prstGeom>
          <a:ln w="0">
            <a:noFill/>
          </a:ln>
        </p:spPr>
      </p:pic>
      <p:pic>
        <p:nvPicPr>
          <p:cNvPr id="80" name="" descr=""/>
          <p:cNvPicPr/>
          <p:nvPr/>
        </p:nvPicPr>
        <p:blipFill>
          <a:blip r:embed="rId11"/>
          <a:stretch/>
        </p:blipFill>
        <p:spPr>
          <a:xfrm>
            <a:off x="1676520" y="1600200"/>
            <a:ext cx="1725480" cy="1752480"/>
          </a:xfrm>
          <a:prstGeom prst="rect">
            <a:avLst/>
          </a:prstGeom>
          <a:ln w="0">
            <a:noFill/>
          </a:ln>
        </p:spPr>
      </p:pic>
      <p:pic>
        <p:nvPicPr>
          <p:cNvPr id="81" name="" descr=""/>
          <p:cNvPicPr/>
          <p:nvPr/>
        </p:nvPicPr>
        <p:blipFill>
          <a:blip r:embed="rId12"/>
          <a:stretch/>
        </p:blipFill>
        <p:spPr>
          <a:xfrm>
            <a:off x="152280" y="5181480"/>
            <a:ext cx="1041480" cy="1082880"/>
          </a:xfrm>
          <a:prstGeom prst="rect">
            <a:avLst/>
          </a:prstGeom>
          <a:ln w="0">
            <a:noFill/>
          </a:ln>
        </p:spPr>
      </p:pic>
      <p:pic>
        <p:nvPicPr>
          <p:cNvPr id="82" name="" descr=""/>
          <p:cNvPicPr/>
          <p:nvPr/>
        </p:nvPicPr>
        <p:blipFill>
          <a:blip r:embed="rId13"/>
          <a:stretch/>
        </p:blipFill>
        <p:spPr>
          <a:xfrm>
            <a:off x="1066680" y="5105520"/>
            <a:ext cx="1212840" cy="1218960"/>
          </a:xfrm>
          <a:prstGeom prst="rect">
            <a:avLst/>
          </a:prstGeom>
          <a:ln w="0">
            <a:noFill/>
          </a:ln>
        </p:spPr>
      </p:pic>
      <p:pic>
        <p:nvPicPr>
          <p:cNvPr id="83" name="" descr=""/>
          <p:cNvPicPr/>
          <p:nvPr/>
        </p:nvPicPr>
        <p:blipFill>
          <a:blip r:embed="rId14"/>
          <a:stretch/>
        </p:blipFill>
        <p:spPr>
          <a:xfrm>
            <a:off x="1523880" y="152280"/>
            <a:ext cx="1163880" cy="1190880"/>
          </a:xfrm>
          <a:prstGeom prst="rect">
            <a:avLst/>
          </a:prstGeom>
          <a:ln w="0">
            <a:noFill/>
          </a:ln>
        </p:spPr>
      </p:pic>
      <p:pic>
        <p:nvPicPr>
          <p:cNvPr id="84" name="" descr=""/>
          <p:cNvPicPr/>
          <p:nvPr/>
        </p:nvPicPr>
        <p:blipFill>
          <a:blip r:embed="rId15"/>
          <a:stretch/>
        </p:blipFill>
        <p:spPr>
          <a:xfrm>
            <a:off x="7162920" y="0"/>
            <a:ext cx="1981080" cy="1368360"/>
          </a:xfrm>
          <a:prstGeom prst="rect">
            <a:avLst/>
          </a:prstGeom>
          <a:ln w="0">
            <a:noFill/>
          </a:ln>
        </p:spPr>
      </p:pic>
      <p:pic>
        <p:nvPicPr>
          <p:cNvPr id="85" name="" descr=""/>
          <p:cNvPicPr/>
          <p:nvPr/>
        </p:nvPicPr>
        <p:blipFill>
          <a:blip r:embed="rId16"/>
          <a:stretch/>
        </p:blipFill>
        <p:spPr>
          <a:xfrm>
            <a:off x="0" y="3200400"/>
            <a:ext cx="2286000" cy="1324080"/>
          </a:xfrm>
          <a:prstGeom prst="rect">
            <a:avLst/>
          </a:prstGeom>
          <a:ln w="0">
            <a:noFill/>
          </a:ln>
        </p:spPr>
      </p:pic>
      <p:pic>
        <p:nvPicPr>
          <p:cNvPr id="86" name="" descr=""/>
          <p:cNvPicPr/>
          <p:nvPr/>
        </p:nvPicPr>
        <p:blipFill>
          <a:blip r:embed="rId17"/>
          <a:stretch/>
        </p:blipFill>
        <p:spPr>
          <a:xfrm>
            <a:off x="3200400" y="1332000"/>
            <a:ext cx="3581280" cy="3163680"/>
          </a:xfrm>
          <a:prstGeom prst="rect">
            <a:avLst/>
          </a:prstGeom>
          <a:ln w="0">
            <a:noFill/>
          </a:ln>
        </p:spPr>
      </p:pic>
      <p:pic>
        <p:nvPicPr>
          <p:cNvPr id="87" name="" descr=""/>
          <p:cNvPicPr/>
          <p:nvPr/>
        </p:nvPicPr>
        <p:blipFill>
          <a:blip r:embed="rId18"/>
          <a:stretch/>
        </p:blipFill>
        <p:spPr>
          <a:xfrm>
            <a:off x="3886200" y="152280"/>
            <a:ext cx="2238480" cy="1208160"/>
          </a:xfrm>
          <a:prstGeom prst="rect">
            <a:avLst/>
          </a:prstGeom>
          <a:ln w="0">
            <a:noFill/>
          </a:ln>
        </p:spPr>
      </p:pic>
      <p:cxnSp>
        <p:nvCxnSpPr>
          <p:cNvPr id="88" name=""/>
          <p:cNvCxnSpPr>
            <a:stCxn id="80" idx="2"/>
            <a:endCxn id="73" idx="0"/>
          </p:cNvCxnSpPr>
          <p:nvPr/>
        </p:nvCxnSpPr>
        <p:spPr>
          <a:xfrm flipH="1" flipV="1" rot="5400000">
            <a:off x="3059640" y="1993320"/>
            <a:ext cx="838800" cy="1880280"/>
          </a:xfrm>
          <a:prstGeom prst="curvedConnector5">
            <a:avLst>
              <a:gd name="adj1" fmla="val -27264"/>
              <a:gd name="adj2" fmla="val 25335"/>
              <a:gd name="adj3" fmla="val -27264"/>
            </a:avLst>
          </a:prstGeom>
          <a:ln w="25560">
            <a:solidFill>
              <a:srgbClr val="ff6600"/>
            </a:solidFill>
            <a:miter/>
          </a:ln>
        </p:spPr>
      </p:cxnSp>
      <p:cxnSp>
        <p:nvCxnSpPr>
          <p:cNvPr id="89" name=""/>
          <p:cNvCxnSpPr>
            <a:stCxn id="73" idx="3"/>
            <a:endCxn id="74" idx="1"/>
          </p:cNvCxnSpPr>
          <p:nvPr/>
        </p:nvCxnSpPr>
        <p:spPr>
          <a:xfrm flipV="1">
            <a:off x="5257800" y="2361600"/>
            <a:ext cx="216720" cy="734040"/>
          </a:xfrm>
          <a:prstGeom prst="curvedConnector5">
            <a:avLst>
              <a:gd name="adj1" fmla="val 52911"/>
              <a:gd name="adj2" fmla="val 50000"/>
              <a:gd name="adj3" fmla="val 52911"/>
            </a:avLst>
          </a:prstGeom>
          <a:ln w="25560">
            <a:solidFill>
              <a:srgbClr val="ff6600"/>
            </a:solidFill>
            <a:miter/>
          </a:ln>
        </p:spPr>
      </p:cxn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8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Approche intégrée</a:t>
            </a:r>
            <a:endParaRPr b="0" lang="en-US" sz="2800" spc="-1" strike="noStrike">
              <a:solidFill>
                <a:srgbClr val="3333cc"/>
              </a:solidFill>
              <a:latin typeface="Arial"/>
            </a:endParaRPr>
          </a:p>
        </p:txBody>
      </p:sp>
      <p:sp>
        <p:nvSpPr>
          <p:cNvPr id="390" name="PlaceHolder 2"/>
          <p:cNvSpPr>
            <a:spLocks noGrp="1"/>
          </p:cNvSpPr>
          <p:nvPr>
            <p:ph/>
          </p:nvPr>
        </p:nvSpPr>
        <p:spPr>
          <a:xfrm>
            <a:off x="1523880" y="990360"/>
            <a:ext cx="7467840" cy="5638680"/>
          </a:xfrm>
          <a:prstGeom prst="rect">
            <a:avLst/>
          </a:prstGeom>
          <a:noFill/>
          <a:ln w="0">
            <a:noFill/>
          </a:ln>
        </p:spPr>
        <p:txBody>
          <a:bodyPr lIns="90000" rIns="90000" tIns="46800" bIns="46800" anchor="t">
            <a:normAutofit/>
          </a:bodyPr>
          <a:p>
            <a:pPr marL="287280" indent="-287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conception du contrôleur amendée par l ’implantation</a:t>
            </a:r>
            <a:endParaRPr b="0" lang="en-US" sz="28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odèle = implantation</a:t>
            </a:r>
            <a:endParaRPr b="0" lang="en-US" sz="24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emps de latence et gigues sont des éléments du modèle</a:t>
            </a:r>
            <a:endParaRPr b="0" lang="en-US" sz="2400" spc="-1" strike="noStrike">
              <a:solidFill>
                <a:srgbClr val="000000"/>
              </a:solidFill>
              <a:latin typeface="Times New Roman"/>
            </a:endParaRPr>
          </a:p>
          <a:p>
            <a:pPr marL="287280" indent="-287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conception du logiciel amendée par les problèmes du contrôle</a:t>
            </a:r>
            <a:endParaRPr b="0" lang="en-US" sz="28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xpression des contraintes de temps </a:t>
            </a:r>
            <a:endParaRPr b="0" lang="en-US" sz="2400" spc="-1" strike="noStrike">
              <a:solidFill>
                <a:srgbClr val="000000"/>
              </a:solidFill>
              <a:latin typeface="Times New Roman"/>
            </a:endParaRPr>
          </a:p>
          <a:p>
            <a:pPr lvl="2" marL="952560" indent="-18756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ériode, retard min. &amp; max., régularité</a:t>
            </a:r>
            <a:endParaRPr b="0" lang="en-US" sz="20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ynthèse correcte par construction</a:t>
            </a:r>
            <a:endParaRPr b="0" lang="en-US" sz="2400" spc="-1" strike="noStrike">
              <a:solidFill>
                <a:srgbClr val="000000"/>
              </a:solidFill>
              <a:latin typeface="Times New Roman"/>
            </a:endParaRPr>
          </a:p>
          <a:p>
            <a:pPr lvl="1" marL="574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7280" indent="-287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modélisation hétérogène cohérente </a:t>
            </a:r>
            <a:endParaRPr b="0" lang="en-US" sz="2800" spc="-1" strike="noStrike">
              <a:solidFill>
                <a:srgbClr val="000000"/>
              </a:solidFill>
              <a:latin typeface="Times New Roman"/>
            </a:endParaRPr>
          </a:p>
        </p:txBody>
      </p:sp>
      <p:sp>
        <p:nvSpPr>
          <p:cNvPr id="391" name=""/>
          <p:cNvSpPr/>
          <p:nvPr/>
        </p:nvSpPr>
        <p:spPr>
          <a:xfrm>
            <a:off x="3600" y="2590920"/>
            <a:ext cx="1453320" cy="228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Systèmes embarqué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aractéris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Elé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Conception d’un S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ycle en V</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cc0000"/>
                </a:solidFill>
                <a:latin typeface="Times New Roman"/>
              </a:rPr>
              <a:t>Intégr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ycle en spira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Points de v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automatiq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logici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matéri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Intégr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5238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Exemple : choix d’implantation de 2 contrôleurs</a:t>
            </a:r>
            <a:endParaRPr b="0" lang="en-US" sz="2800" spc="-1" strike="noStrike">
              <a:solidFill>
                <a:srgbClr val="3333cc"/>
              </a:solidFill>
              <a:latin typeface="Arial"/>
            </a:endParaRPr>
          </a:p>
        </p:txBody>
      </p:sp>
      <p:sp>
        <p:nvSpPr>
          <p:cNvPr id="393" name=""/>
          <p:cNvSpPr/>
          <p:nvPr/>
        </p:nvSpPr>
        <p:spPr>
          <a:xfrm>
            <a:off x="2682000" y="1308240"/>
            <a:ext cx="552600" cy="45972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a:t>
            </a:r>
            <a:endParaRPr b="0" lang="en-US" sz="2400" spc="-1" strike="noStrike">
              <a:solidFill>
                <a:srgbClr val="000000"/>
              </a:solidFill>
              <a:latin typeface="Times New Roman"/>
            </a:endParaRPr>
          </a:p>
        </p:txBody>
      </p:sp>
      <p:sp>
        <p:nvSpPr>
          <p:cNvPr id="394" name=""/>
          <p:cNvSpPr/>
          <p:nvPr/>
        </p:nvSpPr>
        <p:spPr>
          <a:xfrm>
            <a:off x="3352680" y="1308240"/>
            <a:ext cx="838440" cy="4597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1</a:t>
            </a:r>
            <a:endParaRPr b="0" lang="en-US" sz="2400" spc="-1" strike="noStrike">
              <a:solidFill>
                <a:srgbClr val="000000"/>
              </a:solidFill>
              <a:latin typeface="Times New Roman"/>
            </a:endParaRPr>
          </a:p>
        </p:txBody>
      </p:sp>
      <p:sp>
        <p:nvSpPr>
          <p:cNvPr id="395" name=""/>
          <p:cNvSpPr/>
          <p:nvPr/>
        </p:nvSpPr>
        <p:spPr>
          <a:xfrm>
            <a:off x="4358160" y="1308240"/>
            <a:ext cx="502200" cy="45972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a:t>
            </a:r>
            <a:endParaRPr b="0" lang="en-US" sz="2400" spc="-1" strike="noStrike">
              <a:solidFill>
                <a:srgbClr val="000000"/>
              </a:solidFill>
              <a:latin typeface="Times New Roman"/>
            </a:endParaRPr>
          </a:p>
        </p:txBody>
      </p:sp>
      <p:sp>
        <p:nvSpPr>
          <p:cNvPr id="396" name=""/>
          <p:cNvSpPr/>
          <p:nvPr/>
        </p:nvSpPr>
        <p:spPr>
          <a:xfrm>
            <a:off x="5833080" y="1279800"/>
            <a:ext cx="552600" cy="45972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2</a:t>
            </a:r>
            <a:endParaRPr b="0" lang="en-US" sz="2400" spc="-1" strike="noStrike">
              <a:solidFill>
                <a:srgbClr val="000000"/>
              </a:solidFill>
              <a:latin typeface="Times New Roman"/>
            </a:endParaRPr>
          </a:p>
        </p:txBody>
      </p:sp>
      <p:sp>
        <p:nvSpPr>
          <p:cNvPr id="397" name=""/>
          <p:cNvSpPr/>
          <p:nvPr/>
        </p:nvSpPr>
        <p:spPr>
          <a:xfrm>
            <a:off x="6553080" y="1279800"/>
            <a:ext cx="773280" cy="4597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2</a:t>
            </a:r>
            <a:endParaRPr b="0" lang="en-US" sz="2400" spc="-1" strike="noStrike">
              <a:solidFill>
                <a:srgbClr val="000000"/>
              </a:solidFill>
              <a:latin typeface="Times New Roman"/>
            </a:endParaRPr>
          </a:p>
        </p:txBody>
      </p:sp>
      <p:sp>
        <p:nvSpPr>
          <p:cNvPr id="398" name=""/>
          <p:cNvSpPr/>
          <p:nvPr/>
        </p:nvSpPr>
        <p:spPr>
          <a:xfrm>
            <a:off x="7484040" y="1279800"/>
            <a:ext cx="502200" cy="45972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a:t>
            </a:r>
            <a:endParaRPr b="0" lang="en-US" sz="2400" spc="-1" strike="noStrike">
              <a:solidFill>
                <a:srgbClr val="000000"/>
              </a:solidFill>
              <a:latin typeface="Times New Roman"/>
            </a:endParaRPr>
          </a:p>
        </p:txBody>
      </p:sp>
      <p:grpSp>
        <p:nvGrpSpPr>
          <p:cNvPr id="399" name=""/>
          <p:cNvGrpSpPr/>
          <p:nvPr/>
        </p:nvGrpSpPr>
        <p:grpSpPr>
          <a:xfrm>
            <a:off x="4724280" y="2298600"/>
            <a:ext cx="1066680" cy="1053720"/>
            <a:chOff x="4724280" y="2298600"/>
            <a:chExt cx="1066680" cy="1053720"/>
          </a:xfrm>
        </p:grpSpPr>
        <p:pic>
          <p:nvPicPr>
            <p:cNvPr id="400" name="" descr=""/>
            <p:cNvPicPr/>
            <p:nvPr/>
          </p:nvPicPr>
          <p:blipFill>
            <a:blip r:embed="rId1"/>
            <a:stretch/>
          </p:blipFill>
          <p:spPr>
            <a:xfrm>
              <a:off x="4857480" y="2298600"/>
              <a:ext cx="933480" cy="987120"/>
            </a:xfrm>
            <a:prstGeom prst="rect">
              <a:avLst/>
            </a:prstGeom>
            <a:ln w="0">
              <a:noFill/>
            </a:ln>
          </p:spPr>
        </p:pic>
        <p:pic>
          <p:nvPicPr>
            <p:cNvPr id="401" name="" descr=""/>
            <p:cNvPicPr/>
            <p:nvPr/>
          </p:nvPicPr>
          <p:blipFill>
            <a:blip r:embed="rId2"/>
            <a:stretch/>
          </p:blipFill>
          <p:spPr>
            <a:xfrm>
              <a:off x="4724280" y="2801520"/>
              <a:ext cx="619560" cy="550800"/>
            </a:xfrm>
            <a:prstGeom prst="rect">
              <a:avLst/>
            </a:prstGeom>
            <a:ln w="0">
              <a:noFill/>
            </a:ln>
          </p:spPr>
        </p:pic>
      </p:grpSp>
      <p:sp>
        <p:nvSpPr>
          <p:cNvPr id="402" name=""/>
          <p:cNvSpPr txBox="1"/>
          <p:nvPr/>
        </p:nvSpPr>
        <p:spPr>
          <a:xfrm>
            <a:off x="1752480" y="4457880"/>
            <a:ext cx="276480" cy="64764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403" name=""/>
          <p:cNvSpPr/>
          <p:nvPr/>
        </p:nvSpPr>
        <p:spPr>
          <a:xfrm>
            <a:off x="2605680" y="4051440"/>
            <a:ext cx="552600" cy="45972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a:t>
            </a:r>
            <a:endParaRPr b="0" lang="en-US" sz="2400" spc="-1" strike="noStrike">
              <a:solidFill>
                <a:srgbClr val="000000"/>
              </a:solidFill>
              <a:latin typeface="Times New Roman"/>
            </a:endParaRPr>
          </a:p>
        </p:txBody>
      </p:sp>
      <p:sp>
        <p:nvSpPr>
          <p:cNvPr id="404" name=""/>
          <p:cNvSpPr/>
          <p:nvPr/>
        </p:nvSpPr>
        <p:spPr>
          <a:xfrm>
            <a:off x="3200400" y="4051440"/>
            <a:ext cx="838080" cy="4597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1</a:t>
            </a:r>
            <a:endParaRPr b="0" lang="en-US" sz="2400" spc="-1" strike="noStrike">
              <a:solidFill>
                <a:srgbClr val="000000"/>
              </a:solidFill>
              <a:latin typeface="Times New Roman"/>
            </a:endParaRPr>
          </a:p>
        </p:txBody>
      </p:sp>
      <p:sp>
        <p:nvSpPr>
          <p:cNvPr id="405" name=""/>
          <p:cNvSpPr/>
          <p:nvPr/>
        </p:nvSpPr>
        <p:spPr>
          <a:xfrm>
            <a:off x="4053240" y="4051440"/>
            <a:ext cx="502200" cy="45972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a:t>
            </a:r>
            <a:endParaRPr b="0" lang="en-US" sz="2400" spc="-1" strike="noStrike">
              <a:solidFill>
                <a:srgbClr val="000000"/>
              </a:solidFill>
              <a:latin typeface="Times New Roman"/>
            </a:endParaRPr>
          </a:p>
        </p:txBody>
      </p:sp>
      <p:sp>
        <p:nvSpPr>
          <p:cNvPr id="406" name=""/>
          <p:cNvSpPr/>
          <p:nvPr/>
        </p:nvSpPr>
        <p:spPr>
          <a:xfrm>
            <a:off x="4586760" y="4051440"/>
            <a:ext cx="552600" cy="45972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2</a:t>
            </a:r>
            <a:endParaRPr b="0" lang="en-US" sz="2400" spc="-1" strike="noStrike">
              <a:solidFill>
                <a:srgbClr val="000000"/>
              </a:solidFill>
              <a:latin typeface="Times New Roman"/>
            </a:endParaRPr>
          </a:p>
        </p:txBody>
      </p:sp>
      <p:sp>
        <p:nvSpPr>
          <p:cNvPr id="407" name=""/>
          <p:cNvSpPr/>
          <p:nvPr/>
        </p:nvSpPr>
        <p:spPr>
          <a:xfrm>
            <a:off x="5154480" y="4051440"/>
            <a:ext cx="773280" cy="4597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2</a:t>
            </a:r>
            <a:endParaRPr b="0" lang="en-US" sz="2400" spc="-1" strike="noStrike">
              <a:solidFill>
                <a:srgbClr val="000000"/>
              </a:solidFill>
              <a:latin typeface="Times New Roman"/>
            </a:endParaRPr>
          </a:p>
        </p:txBody>
      </p:sp>
      <p:sp>
        <p:nvSpPr>
          <p:cNvPr id="408" name=""/>
          <p:cNvSpPr/>
          <p:nvPr/>
        </p:nvSpPr>
        <p:spPr>
          <a:xfrm>
            <a:off x="5931360" y="4051440"/>
            <a:ext cx="502200" cy="45972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a:t>
            </a:r>
            <a:endParaRPr b="0" lang="en-US" sz="2400" spc="-1" strike="noStrike">
              <a:solidFill>
                <a:srgbClr val="000000"/>
              </a:solidFill>
              <a:latin typeface="Times New Roman"/>
            </a:endParaRPr>
          </a:p>
        </p:txBody>
      </p:sp>
      <p:sp>
        <p:nvSpPr>
          <p:cNvPr id="409" name=""/>
          <p:cNvSpPr/>
          <p:nvPr/>
        </p:nvSpPr>
        <p:spPr>
          <a:xfrm>
            <a:off x="2605680" y="5699520"/>
            <a:ext cx="552600" cy="45972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1</a:t>
            </a:r>
            <a:endParaRPr b="0" lang="en-US" sz="2400" spc="-1" strike="noStrike">
              <a:solidFill>
                <a:srgbClr val="000000"/>
              </a:solidFill>
              <a:latin typeface="Times New Roman"/>
            </a:endParaRPr>
          </a:p>
        </p:txBody>
      </p:sp>
      <p:sp>
        <p:nvSpPr>
          <p:cNvPr id="410" name=""/>
          <p:cNvSpPr/>
          <p:nvPr/>
        </p:nvSpPr>
        <p:spPr>
          <a:xfrm>
            <a:off x="3733920" y="5699520"/>
            <a:ext cx="838080" cy="4597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1</a:t>
            </a:r>
            <a:endParaRPr b="0" lang="en-US" sz="2400" spc="-1" strike="noStrike">
              <a:solidFill>
                <a:srgbClr val="000000"/>
              </a:solidFill>
              <a:latin typeface="Times New Roman"/>
            </a:endParaRPr>
          </a:p>
        </p:txBody>
      </p:sp>
      <p:sp>
        <p:nvSpPr>
          <p:cNvPr id="411" name=""/>
          <p:cNvSpPr/>
          <p:nvPr/>
        </p:nvSpPr>
        <p:spPr>
          <a:xfrm>
            <a:off x="5882040" y="5699520"/>
            <a:ext cx="502200" cy="45972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1</a:t>
            </a:r>
            <a:endParaRPr b="0" lang="en-US" sz="2400" spc="-1" strike="noStrike">
              <a:solidFill>
                <a:srgbClr val="000000"/>
              </a:solidFill>
              <a:latin typeface="Times New Roman"/>
            </a:endParaRPr>
          </a:p>
        </p:txBody>
      </p:sp>
      <p:sp>
        <p:nvSpPr>
          <p:cNvPr id="412" name=""/>
          <p:cNvSpPr/>
          <p:nvPr/>
        </p:nvSpPr>
        <p:spPr>
          <a:xfrm>
            <a:off x="3166200" y="5699520"/>
            <a:ext cx="552600" cy="45972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2</a:t>
            </a:r>
            <a:endParaRPr b="0" lang="en-US" sz="2400" spc="-1" strike="noStrike">
              <a:solidFill>
                <a:srgbClr val="000000"/>
              </a:solidFill>
              <a:latin typeface="Times New Roman"/>
            </a:endParaRPr>
          </a:p>
        </p:txBody>
      </p:sp>
      <p:sp>
        <p:nvSpPr>
          <p:cNvPr id="413" name=""/>
          <p:cNvSpPr/>
          <p:nvPr/>
        </p:nvSpPr>
        <p:spPr>
          <a:xfrm>
            <a:off x="4560840" y="5699520"/>
            <a:ext cx="773280" cy="459720"/>
          </a:xfrm>
          <a:prstGeom prst="rect">
            <a:avLst/>
          </a:prstGeom>
          <a:noFill/>
          <a:ln w="2844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2</a:t>
            </a:r>
            <a:endParaRPr b="0" lang="en-US" sz="2400" spc="-1" strike="noStrike">
              <a:solidFill>
                <a:srgbClr val="000000"/>
              </a:solidFill>
              <a:latin typeface="Times New Roman"/>
            </a:endParaRPr>
          </a:p>
        </p:txBody>
      </p:sp>
      <p:sp>
        <p:nvSpPr>
          <p:cNvPr id="414" name=""/>
          <p:cNvSpPr/>
          <p:nvPr/>
        </p:nvSpPr>
        <p:spPr>
          <a:xfrm>
            <a:off x="5348880" y="5699520"/>
            <a:ext cx="502200" cy="459720"/>
          </a:xfrm>
          <a:prstGeom prst="rect">
            <a:avLst/>
          </a:prstGeom>
          <a:noFill/>
          <a:ln w="2844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2</a:t>
            </a:r>
            <a:endParaRPr b="0" lang="en-US" sz="2400" spc="-1" strike="noStrike">
              <a:solidFill>
                <a:srgbClr val="000000"/>
              </a:solidFill>
              <a:latin typeface="Times New Roman"/>
            </a:endParaRPr>
          </a:p>
        </p:txBody>
      </p:sp>
      <p:sp>
        <p:nvSpPr>
          <p:cNvPr id="415" name=""/>
          <p:cNvSpPr/>
          <p:nvPr/>
        </p:nvSpPr>
        <p:spPr>
          <a:xfrm>
            <a:off x="2590920" y="3657600"/>
            <a:ext cx="198108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572000" y="3886200"/>
            <a:ext cx="19051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2590920" y="5334120"/>
            <a:ext cx="327636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3124080" y="5486400"/>
            <a:ext cx="32767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867280" y="6400800"/>
            <a:ext cx="533520" cy="0"/>
          </a:xfrm>
          <a:prstGeom prst="line">
            <a:avLst/>
          </a:prstGeom>
          <a:ln cap="rnd" w="2844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0" y="4724280"/>
            <a:ext cx="1905120" cy="0"/>
          </a:xfrm>
          <a:prstGeom prst="line">
            <a:avLst/>
          </a:prstGeom>
          <a:ln cap="rnd" w="28440">
            <a:solidFill>
              <a:srgbClr val="000000"/>
            </a:solidFill>
            <a:custDash>
              <a:ds d="100000" sp="1000"/>
            </a:custDash>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txBox="1"/>
          <p:nvPr/>
        </p:nvSpPr>
        <p:spPr>
          <a:xfrm>
            <a:off x="7696080" y="5029200"/>
            <a:ext cx="457200" cy="266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422" name=""/>
          <p:cNvSpPr/>
          <p:nvPr/>
        </p:nvSpPr>
        <p:spPr>
          <a:xfrm>
            <a:off x="3600" y="2590920"/>
            <a:ext cx="1453320" cy="228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Systèmes embarqué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aractéris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Elé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Conception d’un S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ycle en V</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cc0000"/>
                </a:solidFill>
                <a:latin typeface="Times New Roman"/>
              </a:rPr>
              <a:t>Intégr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ycle en spira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Points de v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automatiq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logici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matéri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Intégr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15238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Objectif de la conception</a:t>
            </a:r>
            <a:endParaRPr b="0" lang="en-US" sz="2800" spc="-1" strike="noStrike">
              <a:solidFill>
                <a:srgbClr val="3333cc"/>
              </a:solidFill>
              <a:latin typeface="Arial"/>
            </a:endParaRPr>
          </a:p>
        </p:txBody>
      </p:sp>
      <p:sp>
        <p:nvSpPr>
          <p:cNvPr id="424" name="PlaceHolder 2"/>
          <p:cNvSpPr>
            <a:spLocks noGrp="1"/>
          </p:cNvSpPr>
          <p:nvPr>
            <p:ph/>
          </p:nvPr>
        </p:nvSpPr>
        <p:spPr>
          <a:xfrm>
            <a:off x="1523880" y="990360"/>
            <a:ext cx="7467840" cy="5638680"/>
          </a:xfrm>
          <a:prstGeom prst="rect">
            <a:avLst/>
          </a:prstGeom>
          <a:noFill/>
          <a:ln w="0">
            <a:noFill/>
          </a:ln>
        </p:spPr>
        <p:txBody>
          <a:bodyPr lIns="90000" rIns="90000" tIns="46800" bIns="46800" anchor="t">
            <a:normAutofit/>
          </a:bodyPr>
          <a:p>
            <a:pPr marL="287280" indent="-287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Construire un système combiné</a:t>
            </a:r>
            <a:endParaRPr b="0" lang="en-US" sz="28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atériel (Hardware) H</a:t>
            </a:r>
            <a:endParaRPr b="0" lang="en-US" sz="24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ogiciel (Software) S</a:t>
            </a:r>
            <a:endParaRPr b="0" lang="en-US" sz="24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onctionnel (Control) C</a:t>
            </a:r>
            <a:endParaRPr b="0" lang="en-US" sz="2400" spc="-1" strike="noStrike">
              <a:solidFill>
                <a:srgbClr val="000000"/>
              </a:solidFill>
              <a:latin typeface="Times New Roman"/>
            </a:endParaRPr>
          </a:p>
          <a:p>
            <a:pPr lvl="1" marL="574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7280" indent="-287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Conception conjointe HSC</a:t>
            </a:r>
            <a:endParaRPr b="0" lang="en-US" sz="2800" spc="-1" strike="noStrike">
              <a:solidFill>
                <a:srgbClr val="000000"/>
              </a:solidFill>
              <a:latin typeface="Times New Roman"/>
            </a:endParaRPr>
          </a:p>
          <a:p>
            <a:pPr lvl="1" marL="574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7280" indent="-287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Solution non unique : comparer au plus vite</a:t>
            </a:r>
            <a:endParaRPr b="0" lang="en-US" sz="28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xpérimentation</a:t>
            </a:r>
            <a:endParaRPr b="0" lang="en-US" sz="24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ritères</a:t>
            </a:r>
            <a:endParaRPr b="0" lang="en-US" sz="2400" spc="-1" strike="noStrike">
              <a:solidFill>
                <a:srgbClr val="000000"/>
              </a:solidFill>
              <a:latin typeface="Times New Roman"/>
            </a:endParaRPr>
          </a:p>
        </p:txBody>
      </p:sp>
      <p:sp>
        <p:nvSpPr>
          <p:cNvPr id="425" name=""/>
          <p:cNvSpPr/>
          <p:nvPr/>
        </p:nvSpPr>
        <p:spPr>
          <a:xfrm>
            <a:off x="5084640" y="1920960"/>
            <a:ext cx="4315320" cy="2654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Moindre coû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au plus simp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évolutif (modulaire, réutilisab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Fiab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moindre délai</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performa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Times New Roman"/>
              </a:rPr>
              <a:t> </a:t>
            </a:r>
            <a:endParaRPr b="0" lang="en-US" sz="2400" spc="-1" strike="noStrike">
              <a:solidFill>
                <a:srgbClr val="000000"/>
              </a:solidFill>
              <a:latin typeface="Times New Roman"/>
            </a:endParaRPr>
          </a:p>
        </p:txBody>
      </p:sp>
      <p:sp>
        <p:nvSpPr>
          <p:cNvPr id="426" name=""/>
          <p:cNvSpPr/>
          <p:nvPr/>
        </p:nvSpPr>
        <p:spPr>
          <a:xfrm>
            <a:off x="3600" y="2590920"/>
            <a:ext cx="1453320" cy="228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Systèmes embarqué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aractéris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Elé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Conception d’un S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ycle en V</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cc0000"/>
                </a:solidFill>
                <a:latin typeface="Times New Roman"/>
              </a:rPr>
              <a:t>Intégr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ycle en spira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Points de v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automatiq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logici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matéri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Intégr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15238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aractéristiques d ’un environnement de Conception</a:t>
            </a:r>
            <a:endParaRPr b="0" lang="en-US" sz="2800" spc="-1" strike="noStrike">
              <a:solidFill>
                <a:srgbClr val="3333cc"/>
              </a:solidFill>
              <a:latin typeface="Arial"/>
            </a:endParaRPr>
          </a:p>
        </p:txBody>
      </p:sp>
      <p:sp>
        <p:nvSpPr>
          <p:cNvPr id="428" name="PlaceHolder 2"/>
          <p:cNvSpPr>
            <a:spLocks noGrp="1"/>
          </p:cNvSpPr>
          <p:nvPr>
            <p:ph/>
          </p:nvPr>
        </p:nvSpPr>
        <p:spPr>
          <a:xfrm>
            <a:off x="1523880" y="990360"/>
            <a:ext cx="7467840" cy="5638680"/>
          </a:xfrm>
          <a:prstGeom prst="rect">
            <a:avLst/>
          </a:prstGeom>
          <a:noFill/>
          <a:ln w="0">
            <a:noFill/>
          </a:ln>
        </p:spPr>
        <p:txBody>
          <a:bodyPr lIns="90000" rIns="90000" tIns="46800" bIns="46800" anchor="t">
            <a:normAutofit/>
          </a:bodyPr>
          <a:p>
            <a:pPr marL="287280" indent="-287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Modèle exécutable </a:t>
            </a:r>
            <a:endParaRPr b="0" lang="en-US" sz="28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à toutes les étapes de la conception</a:t>
            </a:r>
            <a:endParaRPr b="0" lang="en-US" sz="2400" spc="-1" strike="noStrike">
              <a:solidFill>
                <a:srgbClr val="000000"/>
              </a:solidFill>
              <a:latin typeface="Times New Roman"/>
            </a:endParaRPr>
          </a:p>
          <a:p>
            <a:pPr lvl="2" marL="952560" indent="-18756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imulation</a:t>
            </a:r>
            <a:endParaRPr b="0" lang="en-US" sz="2000" spc="-1" strike="noStrike">
              <a:solidFill>
                <a:srgbClr val="000000"/>
              </a:solidFill>
              <a:latin typeface="Times New Roman"/>
            </a:endParaRPr>
          </a:p>
          <a:p>
            <a:pPr lvl="2" marL="952560" indent="-18756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o simulation (en partie sur la cible)</a:t>
            </a:r>
            <a:endParaRPr b="0" lang="en-US" sz="2000" spc="-1" strike="noStrike">
              <a:solidFill>
                <a:srgbClr val="000000"/>
              </a:solidFill>
              <a:latin typeface="Times New Roman"/>
            </a:endParaRPr>
          </a:p>
          <a:p>
            <a:pPr lvl="2" marL="952560" indent="-18756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ible</a:t>
            </a:r>
            <a:endParaRPr b="0" lang="en-US" sz="2000" spc="-1" strike="noStrike">
              <a:solidFill>
                <a:srgbClr val="000000"/>
              </a:solidFill>
              <a:latin typeface="Times New Roman"/>
            </a:endParaRPr>
          </a:p>
          <a:p>
            <a:pPr marL="287280" indent="-287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Expression graphique des modèles</a:t>
            </a:r>
            <a:endParaRPr b="0" lang="en-US" sz="28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vec sémantique formelle sous jacente</a:t>
            </a:r>
            <a:endParaRPr b="0" lang="en-US" sz="2400" spc="-1" strike="noStrike">
              <a:solidFill>
                <a:srgbClr val="000000"/>
              </a:solidFill>
              <a:latin typeface="Times New Roman"/>
            </a:endParaRPr>
          </a:p>
          <a:p>
            <a:pPr marL="287280" indent="-287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Multi modèle</a:t>
            </a:r>
            <a:endParaRPr b="0" lang="en-US" sz="2800" spc="-1" strike="noStrike">
              <a:solidFill>
                <a:srgbClr val="000000"/>
              </a:solidFill>
              <a:latin typeface="Times New Roman"/>
            </a:endParaRPr>
          </a:p>
          <a:p>
            <a:pPr marL="287280" indent="-287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Cadre guide (framework) de la conception</a:t>
            </a:r>
            <a:endParaRPr b="0" lang="en-US" sz="28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chémas (patterns) de communication, d ’exécution</a:t>
            </a:r>
            <a:endParaRPr b="0" lang="en-US" sz="24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et +</a:t>
            </a:r>
            <a:endParaRPr b="0" lang="en-US" sz="2400" spc="-1" strike="noStrike">
              <a:solidFill>
                <a:srgbClr val="000000"/>
              </a:solidFill>
              <a:latin typeface="Times New Roman"/>
            </a:endParaRPr>
          </a:p>
          <a:p>
            <a:pPr lvl="1" marL="574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9" name=""/>
          <p:cNvSpPr/>
          <p:nvPr/>
        </p:nvSpPr>
        <p:spPr>
          <a:xfrm>
            <a:off x="3600" y="2590920"/>
            <a:ext cx="1453320" cy="228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Systèmes embarqué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aractéris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Elé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Conception d’un S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ycle en V</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cc0000"/>
                </a:solidFill>
                <a:latin typeface="Times New Roman"/>
              </a:rPr>
              <a:t>Intégr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ycle en spira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Points de v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automatiq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logici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matéri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Intégr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p:nvPr/>
        </p:nvSpPr>
        <p:spPr>
          <a:xfrm rot="18600000">
            <a:off x="1714320" y="1371240"/>
            <a:ext cx="2359080" cy="2968560"/>
          </a:xfrm>
          <a:prstGeom prst="ellipse">
            <a:avLst/>
          </a:prstGeom>
          <a:solidFill>
            <a:srgbClr val="ffff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3505320" y="3276720"/>
            <a:ext cx="3125520" cy="2957400"/>
          </a:xfrm>
          <a:prstGeom prst="ellipse">
            <a:avLst/>
          </a:prstGeom>
          <a:solidFill>
            <a:srgbClr val="ff6600">
              <a:alpha val="50000"/>
            </a:srgbClr>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2" name="PlaceHolder 1"/>
          <p:cNvSpPr>
            <a:spLocks noGrp="1"/>
          </p:cNvSpPr>
          <p:nvPr>
            <p:ph type="title"/>
          </p:nvPr>
        </p:nvSpPr>
        <p:spPr>
          <a:xfrm>
            <a:off x="15238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ycle de développement en boucle</a:t>
            </a:r>
            <a:endParaRPr b="0" lang="en-US" sz="2800" spc="-1" strike="noStrike">
              <a:solidFill>
                <a:srgbClr val="3333cc"/>
              </a:solidFill>
              <a:latin typeface="Arial"/>
            </a:endParaRPr>
          </a:p>
        </p:txBody>
      </p:sp>
      <p:sp>
        <p:nvSpPr>
          <p:cNvPr id="433" name=""/>
          <p:cNvSpPr/>
          <p:nvPr/>
        </p:nvSpPr>
        <p:spPr>
          <a:xfrm>
            <a:off x="1793880" y="1927080"/>
            <a:ext cx="3330720" cy="4321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3089160" y="1927080"/>
            <a:ext cx="2035440" cy="264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1812960" y="1924200"/>
            <a:ext cx="1292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rot="2083800">
            <a:off x="3504960" y="1066680"/>
            <a:ext cx="3781440" cy="1800360"/>
          </a:xfrm>
          <a:custGeom>
            <a:avLst/>
            <a:gdLst/>
            <a:ahLst/>
            <a:rect l="l" t="t" r="r" b="b"/>
            <a:pathLst>
              <a:path w="4106" h="224">
                <a:moveTo>
                  <a:pt x="4105" y="223"/>
                </a:moveTo>
                <a:lnTo>
                  <a:pt x="4097" y="201"/>
                </a:lnTo>
                <a:lnTo>
                  <a:pt x="4066" y="178"/>
                </a:lnTo>
                <a:lnTo>
                  <a:pt x="4026" y="156"/>
                </a:lnTo>
                <a:lnTo>
                  <a:pt x="3963" y="136"/>
                </a:lnTo>
                <a:lnTo>
                  <a:pt x="3893" y="116"/>
                </a:lnTo>
                <a:lnTo>
                  <a:pt x="3806" y="98"/>
                </a:lnTo>
                <a:lnTo>
                  <a:pt x="3704" y="80"/>
                </a:lnTo>
                <a:lnTo>
                  <a:pt x="3594" y="65"/>
                </a:lnTo>
                <a:lnTo>
                  <a:pt x="3468" y="51"/>
                </a:lnTo>
                <a:lnTo>
                  <a:pt x="3326" y="38"/>
                </a:lnTo>
                <a:lnTo>
                  <a:pt x="3185" y="27"/>
                </a:lnTo>
                <a:lnTo>
                  <a:pt x="3028" y="18"/>
                </a:lnTo>
                <a:lnTo>
                  <a:pt x="2870" y="9"/>
                </a:lnTo>
                <a:lnTo>
                  <a:pt x="2697" y="5"/>
                </a:lnTo>
                <a:lnTo>
                  <a:pt x="2524" y="2"/>
                </a:lnTo>
                <a:lnTo>
                  <a:pt x="2343" y="0"/>
                </a:lnTo>
                <a:lnTo>
                  <a:pt x="2045" y="0"/>
                </a:lnTo>
                <a:lnTo>
                  <a:pt x="1785" y="2"/>
                </a:lnTo>
                <a:lnTo>
                  <a:pt x="1533" y="9"/>
                </a:lnTo>
                <a:lnTo>
                  <a:pt x="1298" y="22"/>
                </a:lnTo>
                <a:lnTo>
                  <a:pt x="1069" y="38"/>
                </a:lnTo>
                <a:lnTo>
                  <a:pt x="873" y="56"/>
                </a:lnTo>
                <a:lnTo>
                  <a:pt x="692" y="80"/>
                </a:lnTo>
                <a:lnTo>
                  <a:pt x="543" y="107"/>
                </a:lnTo>
                <a:lnTo>
                  <a:pt x="480" y="120"/>
                </a:lnTo>
                <a:lnTo>
                  <a:pt x="425" y="136"/>
                </a:lnTo>
                <a:lnTo>
                  <a:pt x="0" y="136"/>
                </a:lnTo>
                <a:lnTo>
                  <a:pt x="440" y="223"/>
                </a:lnTo>
                <a:lnTo>
                  <a:pt x="1148" y="136"/>
                </a:lnTo>
                <a:lnTo>
                  <a:pt x="723" y="136"/>
                </a:lnTo>
                <a:lnTo>
                  <a:pt x="834" y="109"/>
                </a:lnTo>
                <a:lnTo>
                  <a:pt x="967" y="85"/>
                </a:lnTo>
                <a:lnTo>
                  <a:pt x="1125" y="63"/>
                </a:lnTo>
                <a:lnTo>
                  <a:pt x="1305" y="42"/>
                </a:lnTo>
                <a:lnTo>
                  <a:pt x="1510" y="27"/>
                </a:lnTo>
                <a:lnTo>
                  <a:pt x="1722" y="13"/>
                </a:lnTo>
                <a:lnTo>
                  <a:pt x="1950" y="5"/>
                </a:lnTo>
                <a:lnTo>
                  <a:pt x="2194" y="0"/>
                </a:lnTo>
                <a:lnTo>
                  <a:pt x="2524" y="9"/>
                </a:lnTo>
                <a:lnTo>
                  <a:pt x="2831" y="22"/>
                </a:lnTo>
                <a:lnTo>
                  <a:pt x="2973" y="34"/>
                </a:lnTo>
                <a:lnTo>
                  <a:pt x="3106" y="45"/>
                </a:lnTo>
                <a:lnTo>
                  <a:pt x="3232" y="58"/>
                </a:lnTo>
                <a:lnTo>
                  <a:pt x="3342" y="71"/>
                </a:lnTo>
                <a:lnTo>
                  <a:pt x="3444" y="87"/>
                </a:lnTo>
                <a:lnTo>
                  <a:pt x="3539" y="105"/>
                </a:lnTo>
                <a:lnTo>
                  <a:pt x="3617" y="123"/>
                </a:lnTo>
                <a:lnTo>
                  <a:pt x="3680" y="141"/>
                </a:lnTo>
                <a:lnTo>
                  <a:pt x="3735" y="161"/>
                </a:lnTo>
                <a:lnTo>
                  <a:pt x="3775" y="181"/>
                </a:lnTo>
                <a:lnTo>
                  <a:pt x="3798" y="201"/>
                </a:lnTo>
                <a:lnTo>
                  <a:pt x="3806" y="223"/>
                </a:lnTo>
                <a:lnTo>
                  <a:pt x="4105" y="22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4854600" y="1219320"/>
            <a:ext cx="2536920" cy="1464120"/>
          </a:xfrm>
          <a:prstGeom prst="rect">
            <a:avLst/>
          </a:prstGeom>
          <a:solidFill>
            <a:srgbClr val="ffffff"/>
          </a:solid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dification du systèm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 simul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i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r intégration d ’éléments réels</a:t>
            </a:r>
            <a:endParaRPr b="0" lang="en-US" sz="1800" spc="-1" strike="noStrike">
              <a:solidFill>
                <a:srgbClr val="000000"/>
              </a:solidFill>
              <a:latin typeface="Times New Roman"/>
            </a:endParaRPr>
          </a:p>
        </p:txBody>
      </p:sp>
      <p:sp>
        <p:nvSpPr>
          <p:cNvPr id="438" name=""/>
          <p:cNvSpPr/>
          <p:nvPr/>
        </p:nvSpPr>
        <p:spPr>
          <a:xfrm>
            <a:off x="2057400" y="2819520"/>
            <a:ext cx="1905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Modèle de  Conception</a:t>
            </a:r>
            <a:endParaRPr b="0" lang="en-US" sz="2000" spc="-1" strike="noStrike">
              <a:solidFill>
                <a:srgbClr val="000000"/>
              </a:solidFill>
              <a:latin typeface="Times New Roman"/>
            </a:endParaRPr>
          </a:p>
        </p:txBody>
      </p:sp>
      <p:sp>
        <p:nvSpPr>
          <p:cNvPr id="439" name=""/>
          <p:cNvSpPr/>
          <p:nvPr/>
        </p:nvSpPr>
        <p:spPr>
          <a:xfrm>
            <a:off x="3958920" y="4250160"/>
            <a:ext cx="2632680" cy="1313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èle de la réalis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 ’architectu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 ’exécutif</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0" name=""/>
          <p:cNvSpPr/>
          <p:nvPr/>
        </p:nvSpPr>
        <p:spPr>
          <a:xfrm>
            <a:off x="6858000" y="4572000"/>
            <a:ext cx="1774800" cy="1555920"/>
          </a:xfrm>
          <a:custGeom>
            <a:avLst/>
            <a:gdLst/>
            <a:ahLst/>
            <a:rect l="l" t="t" r="r" b="b"/>
            <a:pathLst>
              <a:path w="2202" h="1484">
                <a:moveTo>
                  <a:pt x="2202" y="921"/>
                </a:moveTo>
                <a:lnTo>
                  <a:pt x="2186" y="948"/>
                </a:lnTo>
                <a:lnTo>
                  <a:pt x="2172" y="972"/>
                </a:lnTo>
                <a:lnTo>
                  <a:pt x="2156" y="998"/>
                </a:lnTo>
                <a:lnTo>
                  <a:pt x="2140" y="1024"/>
                </a:lnTo>
                <a:lnTo>
                  <a:pt x="2122" y="1050"/>
                </a:lnTo>
                <a:lnTo>
                  <a:pt x="2105" y="1075"/>
                </a:lnTo>
                <a:lnTo>
                  <a:pt x="2088" y="1099"/>
                </a:lnTo>
                <a:lnTo>
                  <a:pt x="2069" y="1124"/>
                </a:lnTo>
                <a:lnTo>
                  <a:pt x="2048" y="1147"/>
                </a:lnTo>
                <a:lnTo>
                  <a:pt x="2027" y="1168"/>
                </a:lnTo>
                <a:lnTo>
                  <a:pt x="2005" y="1190"/>
                </a:lnTo>
                <a:lnTo>
                  <a:pt x="1994" y="1199"/>
                </a:lnTo>
                <a:lnTo>
                  <a:pt x="1981" y="1208"/>
                </a:lnTo>
                <a:lnTo>
                  <a:pt x="1970" y="1217"/>
                </a:lnTo>
                <a:lnTo>
                  <a:pt x="1958" y="1227"/>
                </a:lnTo>
                <a:lnTo>
                  <a:pt x="1945" y="1234"/>
                </a:lnTo>
                <a:lnTo>
                  <a:pt x="1932" y="1244"/>
                </a:lnTo>
                <a:lnTo>
                  <a:pt x="1920" y="1251"/>
                </a:lnTo>
                <a:lnTo>
                  <a:pt x="1907" y="1259"/>
                </a:lnTo>
                <a:lnTo>
                  <a:pt x="1894" y="1267"/>
                </a:lnTo>
                <a:lnTo>
                  <a:pt x="1880" y="1276"/>
                </a:lnTo>
                <a:lnTo>
                  <a:pt x="1867" y="1283"/>
                </a:lnTo>
                <a:lnTo>
                  <a:pt x="1847" y="1294"/>
                </a:lnTo>
                <a:lnTo>
                  <a:pt x="1826" y="1306"/>
                </a:lnTo>
                <a:lnTo>
                  <a:pt x="1807" y="1319"/>
                </a:lnTo>
                <a:lnTo>
                  <a:pt x="1786" y="1329"/>
                </a:lnTo>
                <a:lnTo>
                  <a:pt x="1764" y="1340"/>
                </a:lnTo>
                <a:lnTo>
                  <a:pt x="1744" y="1351"/>
                </a:lnTo>
                <a:lnTo>
                  <a:pt x="1723" y="1362"/>
                </a:lnTo>
                <a:lnTo>
                  <a:pt x="1701" y="1371"/>
                </a:lnTo>
                <a:lnTo>
                  <a:pt x="1680" y="1380"/>
                </a:lnTo>
                <a:lnTo>
                  <a:pt x="1660" y="1388"/>
                </a:lnTo>
                <a:lnTo>
                  <a:pt x="1639" y="1395"/>
                </a:lnTo>
                <a:lnTo>
                  <a:pt x="1619" y="1402"/>
                </a:lnTo>
                <a:lnTo>
                  <a:pt x="1598" y="1408"/>
                </a:lnTo>
                <a:lnTo>
                  <a:pt x="1577" y="1414"/>
                </a:lnTo>
                <a:lnTo>
                  <a:pt x="1557" y="1420"/>
                </a:lnTo>
                <a:lnTo>
                  <a:pt x="1536" y="1425"/>
                </a:lnTo>
                <a:lnTo>
                  <a:pt x="1515" y="1431"/>
                </a:lnTo>
                <a:lnTo>
                  <a:pt x="1485" y="1437"/>
                </a:lnTo>
                <a:lnTo>
                  <a:pt x="1457" y="1443"/>
                </a:lnTo>
                <a:lnTo>
                  <a:pt x="1428" y="1449"/>
                </a:lnTo>
                <a:lnTo>
                  <a:pt x="1398" y="1454"/>
                </a:lnTo>
                <a:lnTo>
                  <a:pt x="1370" y="1458"/>
                </a:lnTo>
                <a:lnTo>
                  <a:pt x="1340" y="1463"/>
                </a:lnTo>
                <a:lnTo>
                  <a:pt x="1311" y="1468"/>
                </a:lnTo>
                <a:lnTo>
                  <a:pt x="1292" y="1471"/>
                </a:lnTo>
                <a:lnTo>
                  <a:pt x="1273" y="1474"/>
                </a:lnTo>
                <a:lnTo>
                  <a:pt x="1254" y="1477"/>
                </a:lnTo>
                <a:lnTo>
                  <a:pt x="1235" y="1478"/>
                </a:lnTo>
                <a:lnTo>
                  <a:pt x="1216" y="1481"/>
                </a:lnTo>
                <a:lnTo>
                  <a:pt x="1197" y="1483"/>
                </a:lnTo>
                <a:lnTo>
                  <a:pt x="1178" y="1483"/>
                </a:lnTo>
                <a:lnTo>
                  <a:pt x="1159" y="1484"/>
                </a:lnTo>
                <a:lnTo>
                  <a:pt x="1137" y="1484"/>
                </a:lnTo>
                <a:lnTo>
                  <a:pt x="1115" y="1484"/>
                </a:lnTo>
                <a:lnTo>
                  <a:pt x="1092" y="1483"/>
                </a:lnTo>
                <a:lnTo>
                  <a:pt x="1070" y="1481"/>
                </a:lnTo>
                <a:lnTo>
                  <a:pt x="1050" y="1478"/>
                </a:lnTo>
                <a:lnTo>
                  <a:pt x="1027" y="1475"/>
                </a:lnTo>
                <a:lnTo>
                  <a:pt x="1005" y="1474"/>
                </a:lnTo>
                <a:lnTo>
                  <a:pt x="983" y="1471"/>
                </a:lnTo>
                <a:lnTo>
                  <a:pt x="951" y="1464"/>
                </a:lnTo>
                <a:lnTo>
                  <a:pt x="921" y="1460"/>
                </a:lnTo>
                <a:lnTo>
                  <a:pt x="890" y="1455"/>
                </a:lnTo>
                <a:lnTo>
                  <a:pt x="858" y="1451"/>
                </a:lnTo>
                <a:lnTo>
                  <a:pt x="826" y="1446"/>
                </a:lnTo>
                <a:lnTo>
                  <a:pt x="794" y="1441"/>
                </a:lnTo>
                <a:lnTo>
                  <a:pt x="775" y="1438"/>
                </a:lnTo>
                <a:lnTo>
                  <a:pt x="755" y="1435"/>
                </a:lnTo>
                <a:lnTo>
                  <a:pt x="736" y="1432"/>
                </a:lnTo>
                <a:lnTo>
                  <a:pt x="717" y="1431"/>
                </a:lnTo>
                <a:lnTo>
                  <a:pt x="696" y="1428"/>
                </a:lnTo>
                <a:lnTo>
                  <a:pt x="677" y="1423"/>
                </a:lnTo>
                <a:lnTo>
                  <a:pt x="658" y="1420"/>
                </a:lnTo>
                <a:lnTo>
                  <a:pt x="639" y="1415"/>
                </a:lnTo>
                <a:lnTo>
                  <a:pt x="620" y="1411"/>
                </a:lnTo>
                <a:lnTo>
                  <a:pt x="601" y="1405"/>
                </a:lnTo>
                <a:lnTo>
                  <a:pt x="582" y="1399"/>
                </a:lnTo>
                <a:lnTo>
                  <a:pt x="561" y="1391"/>
                </a:lnTo>
                <a:lnTo>
                  <a:pt x="542" y="1383"/>
                </a:lnTo>
                <a:lnTo>
                  <a:pt x="523" y="1374"/>
                </a:lnTo>
                <a:lnTo>
                  <a:pt x="504" y="1365"/>
                </a:lnTo>
                <a:lnTo>
                  <a:pt x="487" y="1356"/>
                </a:lnTo>
                <a:lnTo>
                  <a:pt x="468" y="1345"/>
                </a:lnTo>
                <a:lnTo>
                  <a:pt x="451" y="1334"/>
                </a:lnTo>
                <a:lnTo>
                  <a:pt x="433" y="1323"/>
                </a:lnTo>
                <a:lnTo>
                  <a:pt x="416" y="1311"/>
                </a:lnTo>
                <a:lnTo>
                  <a:pt x="398" y="1300"/>
                </a:lnTo>
                <a:lnTo>
                  <a:pt x="381" y="1288"/>
                </a:lnTo>
                <a:lnTo>
                  <a:pt x="365" y="1277"/>
                </a:lnTo>
                <a:lnTo>
                  <a:pt x="348" y="1265"/>
                </a:lnTo>
                <a:lnTo>
                  <a:pt x="332" y="1253"/>
                </a:lnTo>
                <a:lnTo>
                  <a:pt x="314" y="1241"/>
                </a:lnTo>
                <a:lnTo>
                  <a:pt x="298" y="1228"/>
                </a:lnTo>
                <a:lnTo>
                  <a:pt x="281" y="1217"/>
                </a:lnTo>
                <a:lnTo>
                  <a:pt x="265" y="1205"/>
                </a:lnTo>
                <a:lnTo>
                  <a:pt x="248" y="1193"/>
                </a:lnTo>
                <a:lnTo>
                  <a:pt x="232" y="1181"/>
                </a:lnTo>
                <a:lnTo>
                  <a:pt x="216" y="1168"/>
                </a:lnTo>
                <a:lnTo>
                  <a:pt x="200" y="1156"/>
                </a:lnTo>
                <a:lnTo>
                  <a:pt x="184" y="1142"/>
                </a:lnTo>
                <a:lnTo>
                  <a:pt x="170" y="1129"/>
                </a:lnTo>
                <a:lnTo>
                  <a:pt x="159" y="1118"/>
                </a:lnTo>
                <a:lnTo>
                  <a:pt x="149" y="1106"/>
                </a:lnTo>
                <a:lnTo>
                  <a:pt x="140" y="1095"/>
                </a:lnTo>
                <a:lnTo>
                  <a:pt x="130" y="1083"/>
                </a:lnTo>
                <a:lnTo>
                  <a:pt x="121" y="1070"/>
                </a:lnTo>
                <a:lnTo>
                  <a:pt x="113" y="1056"/>
                </a:lnTo>
                <a:lnTo>
                  <a:pt x="103" y="1044"/>
                </a:lnTo>
                <a:lnTo>
                  <a:pt x="96" y="1032"/>
                </a:lnTo>
                <a:lnTo>
                  <a:pt x="88" y="1017"/>
                </a:lnTo>
                <a:lnTo>
                  <a:pt x="78" y="1001"/>
                </a:lnTo>
                <a:lnTo>
                  <a:pt x="70" y="987"/>
                </a:lnTo>
                <a:lnTo>
                  <a:pt x="62" y="972"/>
                </a:lnTo>
                <a:lnTo>
                  <a:pt x="54" y="957"/>
                </a:lnTo>
                <a:lnTo>
                  <a:pt x="48" y="941"/>
                </a:lnTo>
                <a:lnTo>
                  <a:pt x="42" y="925"/>
                </a:lnTo>
                <a:lnTo>
                  <a:pt x="37" y="909"/>
                </a:lnTo>
                <a:lnTo>
                  <a:pt x="32" y="895"/>
                </a:lnTo>
                <a:lnTo>
                  <a:pt x="29" y="883"/>
                </a:lnTo>
                <a:lnTo>
                  <a:pt x="26" y="869"/>
                </a:lnTo>
                <a:lnTo>
                  <a:pt x="24" y="855"/>
                </a:lnTo>
                <a:lnTo>
                  <a:pt x="21" y="842"/>
                </a:lnTo>
                <a:lnTo>
                  <a:pt x="19" y="828"/>
                </a:lnTo>
                <a:lnTo>
                  <a:pt x="16" y="816"/>
                </a:lnTo>
                <a:lnTo>
                  <a:pt x="15" y="802"/>
                </a:lnTo>
                <a:lnTo>
                  <a:pt x="12" y="790"/>
                </a:lnTo>
                <a:lnTo>
                  <a:pt x="10" y="777"/>
                </a:lnTo>
                <a:lnTo>
                  <a:pt x="8" y="767"/>
                </a:lnTo>
                <a:lnTo>
                  <a:pt x="5" y="754"/>
                </a:lnTo>
                <a:lnTo>
                  <a:pt x="4" y="743"/>
                </a:lnTo>
                <a:lnTo>
                  <a:pt x="2" y="731"/>
                </a:lnTo>
                <a:lnTo>
                  <a:pt x="2" y="720"/>
                </a:lnTo>
                <a:lnTo>
                  <a:pt x="0" y="708"/>
                </a:lnTo>
                <a:lnTo>
                  <a:pt x="0" y="697"/>
                </a:lnTo>
                <a:lnTo>
                  <a:pt x="0" y="687"/>
                </a:lnTo>
                <a:lnTo>
                  <a:pt x="4" y="671"/>
                </a:lnTo>
                <a:lnTo>
                  <a:pt x="5" y="658"/>
                </a:lnTo>
                <a:lnTo>
                  <a:pt x="10" y="644"/>
                </a:lnTo>
                <a:lnTo>
                  <a:pt x="13" y="630"/>
                </a:lnTo>
                <a:lnTo>
                  <a:pt x="18" y="616"/>
                </a:lnTo>
                <a:lnTo>
                  <a:pt x="24" y="602"/>
                </a:lnTo>
                <a:lnTo>
                  <a:pt x="29" y="589"/>
                </a:lnTo>
                <a:lnTo>
                  <a:pt x="35" y="575"/>
                </a:lnTo>
                <a:lnTo>
                  <a:pt x="40" y="561"/>
                </a:lnTo>
                <a:lnTo>
                  <a:pt x="46" y="547"/>
                </a:lnTo>
                <a:lnTo>
                  <a:pt x="51" y="533"/>
                </a:lnTo>
                <a:lnTo>
                  <a:pt x="56" y="520"/>
                </a:lnTo>
                <a:lnTo>
                  <a:pt x="61" y="506"/>
                </a:lnTo>
                <a:lnTo>
                  <a:pt x="65" y="492"/>
                </a:lnTo>
                <a:lnTo>
                  <a:pt x="70" y="478"/>
                </a:lnTo>
                <a:lnTo>
                  <a:pt x="75" y="464"/>
                </a:lnTo>
                <a:lnTo>
                  <a:pt x="80" y="452"/>
                </a:lnTo>
                <a:lnTo>
                  <a:pt x="86" y="438"/>
                </a:lnTo>
                <a:lnTo>
                  <a:pt x="92" y="426"/>
                </a:lnTo>
                <a:lnTo>
                  <a:pt x="99" y="414"/>
                </a:lnTo>
                <a:lnTo>
                  <a:pt x="107" y="401"/>
                </a:lnTo>
                <a:lnTo>
                  <a:pt x="116" y="391"/>
                </a:lnTo>
                <a:lnTo>
                  <a:pt x="124" y="380"/>
                </a:lnTo>
                <a:lnTo>
                  <a:pt x="135" y="371"/>
                </a:lnTo>
                <a:lnTo>
                  <a:pt x="145" y="360"/>
                </a:lnTo>
                <a:lnTo>
                  <a:pt x="156" y="351"/>
                </a:lnTo>
                <a:lnTo>
                  <a:pt x="167" y="342"/>
                </a:lnTo>
                <a:lnTo>
                  <a:pt x="178" y="332"/>
                </a:lnTo>
                <a:lnTo>
                  <a:pt x="191" y="323"/>
                </a:lnTo>
                <a:lnTo>
                  <a:pt x="202" y="316"/>
                </a:lnTo>
                <a:lnTo>
                  <a:pt x="214" y="306"/>
                </a:lnTo>
                <a:lnTo>
                  <a:pt x="225" y="297"/>
                </a:lnTo>
                <a:lnTo>
                  <a:pt x="246" y="283"/>
                </a:lnTo>
                <a:lnTo>
                  <a:pt x="265" y="268"/>
                </a:lnTo>
                <a:lnTo>
                  <a:pt x="284" y="254"/>
                </a:lnTo>
                <a:lnTo>
                  <a:pt x="303" y="240"/>
                </a:lnTo>
                <a:lnTo>
                  <a:pt x="324" y="225"/>
                </a:lnTo>
                <a:lnTo>
                  <a:pt x="343" y="211"/>
                </a:lnTo>
                <a:lnTo>
                  <a:pt x="360" y="200"/>
                </a:lnTo>
                <a:lnTo>
                  <a:pt x="378" y="188"/>
                </a:lnTo>
                <a:lnTo>
                  <a:pt x="395" y="177"/>
                </a:lnTo>
                <a:lnTo>
                  <a:pt x="412" y="167"/>
                </a:lnTo>
                <a:lnTo>
                  <a:pt x="430" y="156"/>
                </a:lnTo>
                <a:lnTo>
                  <a:pt x="449" y="145"/>
                </a:lnTo>
                <a:lnTo>
                  <a:pt x="462" y="138"/>
                </a:lnTo>
                <a:lnTo>
                  <a:pt x="474" y="130"/>
                </a:lnTo>
                <a:lnTo>
                  <a:pt x="489" y="124"/>
                </a:lnTo>
                <a:lnTo>
                  <a:pt x="501" y="116"/>
                </a:lnTo>
                <a:lnTo>
                  <a:pt x="514" y="110"/>
                </a:lnTo>
                <a:lnTo>
                  <a:pt x="528" y="102"/>
                </a:lnTo>
                <a:lnTo>
                  <a:pt x="541" y="96"/>
                </a:lnTo>
                <a:lnTo>
                  <a:pt x="558" y="88"/>
                </a:lnTo>
                <a:lnTo>
                  <a:pt x="576" y="81"/>
                </a:lnTo>
                <a:lnTo>
                  <a:pt x="595" y="75"/>
                </a:lnTo>
                <a:lnTo>
                  <a:pt x="612" y="69"/>
                </a:lnTo>
                <a:lnTo>
                  <a:pt x="630" y="62"/>
                </a:lnTo>
                <a:lnTo>
                  <a:pt x="649" y="56"/>
                </a:lnTo>
                <a:lnTo>
                  <a:pt x="666" y="52"/>
                </a:lnTo>
                <a:lnTo>
                  <a:pt x="685" y="46"/>
                </a:lnTo>
                <a:lnTo>
                  <a:pt x="707" y="41"/>
                </a:lnTo>
                <a:lnTo>
                  <a:pt x="729" y="36"/>
                </a:lnTo>
                <a:lnTo>
                  <a:pt x="753" y="32"/>
                </a:lnTo>
                <a:lnTo>
                  <a:pt x="775" y="29"/>
                </a:lnTo>
                <a:lnTo>
                  <a:pt x="799" y="24"/>
                </a:lnTo>
                <a:lnTo>
                  <a:pt x="821" y="21"/>
                </a:lnTo>
                <a:lnTo>
                  <a:pt x="845" y="18"/>
                </a:lnTo>
                <a:lnTo>
                  <a:pt x="869" y="15"/>
                </a:lnTo>
                <a:lnTo>
                  <a:pt x="891" y="13"/>
                </a:lnTo>
                <a:lnTo>
                  <a:pt x="915" y="10"/>
                </a:lnTo>
                <a:lnTo>
                  <a:pt x="939" y="7"/>
                </a:lnTo>
                <a:lnTo>
                  <a:pt x="961" y="4"/>
                </a:lnTo>
                <a:lnTo>
                  <a:pt x="985" y="3"/>
                </a:lnTo>
                <a:lnTo>
                  <a:pt x="1008" y="1"/>
                </a:lnTo>
                <a:lnTo>
                  <a:pt x="1031" y="0"/>
                </a:lnTo>
                <a:lnTo>
                  <a:pt x="1054" y="0"/>
                </a:lnTo>
                <a:lnTo>
                  <a:pt x="1080" y="0"/>
                </a:lnTo>
                <a:lnTo>
                  <a:pt x="1107" y="1"/>
                </a:lnTo>
                <a:lnTo>
                  <a:pt x="1132" y="3"/>
                </a:lnTo>
                <a:lnTo>
                  <a:pt x="1157" y="4"/>
                </a:lnTo>
                <a:lnTo>
                  <a:pt x="1184" y="7"/>
                </a:lnTo>
                <a:lnTo>
                  <a:pt x="1210" y="10"/>
                </a:lnTo>
                <a:lnTo>
                  <a:pt x="1237" y="13"/>
                </a:lnTo>
                <a:lnTo>
                  <a:pt x="1262" y="15"/>
                </a:lnTo>
                <a:lnTo>
                  <a:pt x="1284" y="18"/>
                </a:lnTo>
                <a:lnTo>
                  <a:pt x="1306" y="21"/>
                </a:lnTo>
                <a:lnTo>
                  <a:pt x="1328" y="23"/>
                </a:lnTo>
                <a:lnTo>
                  <a:pt x="1351" y="26"/>
                </a:lnTo>
                <a:lnTo>
                  <a:pt x="1373" y="29"/>
                </a:lnTo>
                <a:lnTo>
                  <a:pt x="1395" y="32"/>
                </a:lnTo>
                <a:lnTo>
                  <a:pt x="1416" y="35"/>
                </a:lnTo>
                <a:lnTo>
                  <a:pt x="1438" y="39"/>
                </a:lnTo>
                <a:lnTo>
                  <a:pt x="1458" y="44"/>
                </a:lnTo>
                <a:lnTo>
                  <a:pt x="1477" y="49"/>
                </a:lnTo>
                <a:lnTo>
                  <a:pt x="1495" y="55"/>
                </a:lnTo>
                <a:lnTo>
                  <a:pt x="1514" y="61"/>
                </a:lnTo>
                <a:lnTo>
                  <a:pt x="1531" y="67"/>
                </a:lnTo>
                <a:lnTo>
                  <a:pt x="1549" y="73"/>
                </a:lnTo>
                <a:lnTo>
                  <a:pt x="1566" y="79"/>
                </a:lnTo>
                <a:lnTo>
                  <a:pt x="1584" y="87"/>
                </a:lnTo>
                <a:lnTo>
                  <a:pt x="1601" y="95"/>
                </a:lnTo>
                <a:lnTo>
                  <a:pt x="1619" y="102"/>
                </a:lnTo>
                <a:lnTo>
                  <a:pt x="1636" y="110"/>
                </a:lnTo>
                <a:lnTo>
                  <a:pt x="1653" y="118"/>
                </a:lnTo>
                <a:lnTo>
                  <a:pt x="1671" y="125"/>
                </a:lnTo>
                <a:lnTo>
                  <a:pt x="1688" y="134"/>
                </a:lnTo>
                <a:lnTo>
                  <a:pt x="1704" y="142"/>
                </a:lnTo>
                <a:lnTo>
                  <a:pt x="1720" y="151"/>
                </a:lnTo>
                <a:lnTo>
                  <a:pt x="1737" y="162"/>
                </a:lnTo>
                <a:lnTo>
                  <a:pt x="1753" y="171"/>
                </a:lnTo>
                <a:lnTo>
                  <a:pt x="1769" y="184"/>
                </a:lnTo>
                <a:lnTo>
                  <a:pt x="1785" y="196"/>
                </a:lnTo>
                <a:lnTo>
                  <a:pt x="1799" y="208"/>
                </a:lnTo>
                <a:lnTo>
                  <a:pt x="1815" y="220"/>
                </a:lnTo>
                <a:lnTo>
                  <a:pt x="1829" y="234"/>
                </a:lnTo>
                <a:lnTo>
                  <a:pt x="1844" y="246"/>
                </a:lnTo>
                <a:lnTo>
                  <a:pt x="1859" y="260"/>
                </a:lnTo>
                <a:lnTo>
                  <a:pt x="1874" y="274"/>
                </a:lnTo>
                <a:lnTo>
                  <a:pt x="1886" y="288"/>
                </a:lnTo>
                <a:lnTo>
                  <a:pt x="1901" y="300"/>
                </a:lnTo>
                <a:lnTo>
                  <a:pt x="1915" y="314"/>
                </a:lnTo>
                <a:lnTo>
                  <a:pt x="1928" y="328"/>
                </a:lnTo>
                <a:lnTo>
                  <a:pt x="1940" y="342"/>
                </a:lnTo>
                <a:lnTo>
                  <a:pt x="1953" y="355"/>
                </a:lnTo>
                <a:lnTo>
                  <a:pt x="1966" y="369"/>
                </a:lnTo>
                <a:lnTo>
                  <a:pt x="1977" y="385"/>
                </a:lnTo>
                <a:lnTo>
                  <a:pt x="1988" y="398"/>
                </a:lnTo>
                <a:lnTo>
                  <a:pt x="1999" y="414"/>
                </a:lnTo>
                <a:lnTo>
                  <a:pt x="2010" y="429"/>
                </a:lnTo>
                <a:lnTo>
                  <a:pt x="2021" y="446"/>
                </a:lnTo>
                <a:lnTo>
                  <a:pt x="2031" y="461"/>
                </a:lnTo>
                <a:lnTo>
                  <a:pt x="2040" y="478"/>
                </a:lnTo>
                <a:lnTo>
                  <a:pt x="2051" y="493"/>
                </a:lnTo>
                <a:lnTo>
                  <a:pt x="2061" y="510"/>
                </a:lnTo>
                <a:lnTo>
                  <a:pt x="2065" y="518"/>
                </a:lnTo>
                <a:lnTo>
                  <a:pt x="2072" y="527"/>
                </a:lnTo>
                <a:lnTo>
                  <a:pt x="2077" y="535"/>
                </a:lnTo>
                <a:lnTo>
                  <a:pt x="2081" y="544"/>
                </a:lnTo>
                <a:lnTo>
                  <a:pt x="2086" y="552"/>
                </a:lnTo>
                <a:lnTo>
                  <a:pt x="2091" y="561"/>
                </a:lnTo>
                <a:lnTo>
                  <a:pt x="2096" y="570"/>
                </a:lnTo>
                <a:lnTo>
                  <a:pt x="2099" y="578"/>
                </a:lnTo>
                <a:lnTo>
                  <a:pt x="2102" y="587"/>
                </a:lnTo>
                <a:lnTo>
                  <a:pt x="2105" y="596"/>
                </a:lnTo>
                <a:lnTo>
                  <a:pt x="2108" y="607"/>
                </a:lnTo>
                <a:lnTo>
                  <a:pt x="2110" y="618"/>
                </a:lnTo>
                <a:lnTo>
                  <a:pt x="2110" y="628"/>
                </a:lnTo>
                <a:lnTo>
                  <a:pt x="2111" y="639"/>
                </a:lnTo>
                <a:lnTo>
                  <a:pt x="2111" y="651"/>
                </a:lnTo>
                <a:lnTo>
                  <a:pt x="2110" y="662"/>
                </a:lnTo>
                <a:lnTo>
                  <a:pt x="2110" y="673"/>
                </a:lnTo>
                <a:lnTo>
                  <a:pt x="2108" y="685"/>
                </a:lnTo>
                <a:lnTo>
                  <a:pt x="2107" y="696"/>
                </a:lnTo>
                <a:lnTo>
                  <a:pt x="2105" y="708"/>
                </a:lnTo>
                <a:lnTo>
                  <a:pt x="2103" y="725"/>
                </a:lnTo>
                <a:lnTo>
                  <a:pt x="2100" y="743"/>
                </a:lnTo>
                <a:lnTo>
                  <a:pt x="2099" y="762"/>
                </a:lnTo>
                <a:lnTo>
                  <a:pt x="2096" y="779"/>
                </a:lnTo>
                <a:lnTo>
                  <a:pt x="2092" y="796"/>
                </a:lnTo>
                <a:lnTo>
                  <a:pt x="2089" y="814"/>
                </a:lnTo>
                <a:lnTo>
                  <a:pt x="2084" y="831"/>
                </a:lnTo>
                <a:lnTo>
                  <a:pt x="2080" y="848"/>
                </a:lnTo>
                <a:lnTo>
                  <a:pt x="2073" y="865"/>
                </a:lnTo>
                <a:lnTo>
                  <a:pt x="2067" y="882"/>
                </a:lnTo>
                <a:lnTo>
                  <a:pt x="2061" y="897"/>
                </a:lnTo>
                <a:lnTo>
                  <a:pt x="2053" y="912"/>
                </a:lnTo>
                <a:lnTo>
                  <a:pt x="2045" y="929"/>
                </a:lnTo>
                <a:lnTo>
                  <a:pt x="2035" y="944"/>
                </a:lnTo>
                <a:lnTo>
                  <a:pt x="2026" y="960"/>
                </a:lnTo>
                <a:lnTo>
                  <a:pt x="2016" y="974"/>
                </a:lnTo>
                <a:lnTo>
                  <a:pt x="2008" y="984"/>
                </a:lnTo>
                <a:lnTo>
                  <a:pt x="1999" y="997"/>
                </a:lnTo>
                <a:lnTo>
                  <a:pt x="1991" y="1007"/>
                </a:lnTo>
                <a:lnTo>
                  <a:pt x="1981" y="1018"/>
                </a:lnTo>
                <a:lnTo>
                  <a:pt x="1972" y="1029"/>
                </a:lnTo>
                <a:lnTo>
                  <a:pt x="1962" y="1040"/>
                </a:lnTo>
                <a:lnTo>
                  <a:pt x="1953" y="1049"/>
                </a:lnTo>
                <a:lnTo>
                  <a:pt x="1939" y="1064"/>
                </a:lnTo>
                <a:lnTo>
                  <a:pt x="1924" y="1078"/>
                </a:lnTo>
                <a:lnTo>
                  <a:pt x="1910" y="1092"/>
                </a:lnTo>
                <a:lnTo>
                  <a:pt x="1894" y="1106"/>
                </a:lnTo>
                <a:lnTo>
                  <a:pt x="1880" y="1119"/>
                </a:lnTo>
                <a:lnTo>
                  <a:pt x="1864" y="1132"/>
                </a:lnTo>
                <a:lnTo>
                  <a:pt x="1847" y="1145"/>
                </a:lnTo>
                <a:lnTo>
                  <a:pt x="1829" y="1158"/>
                </a:lnTo>
                <a:lnTo>
                  <a:pt x="1812" y="1170"/>
                </a:lnTo>
                <a:lnTo>
                  <a:pt x="1793" y="1182"/>
                </a:lnTo>
                <a:lnTo>
                  <a:pt x="1775" y="1193"/>
                </a:lnTo>
                <a:lnTo>
                  <a:pt x="1756" y="1204"/>
                </a:lnTo>
                <a:lnTo>
                  <a:pt x="1734" y="1216"/>
                </a:lnTo>
                <a:lnTo>
                  <a:pt x="1712" y="1228"/>
                </a:lnTo>
                <a:lnTo>
                  <a:pt x="1690" y="1239"/>
                </a:lnTo>
                <a:lnTo>
                  <a:pt x="1668" y="1251"/>
                </a:lnTo>
                <a:lnTo>
                  <a:pt x="1645" y="1262"/>
                </a:lnTo>
                <a:lnTo>
                  <a:pt x="1625" y="1271"/>
                </a:lnTo>
                <a:lnTo>
                  <a:pt x="1604" y="1279"/>
                </a:lnTo>
                <a:lnTo>
                  <a:pt x="1584" y="1288"/>
                </a:lnTo>
                <a:lnTo>
                  <a:pt x="1563" y="1296"/>
                </a:lnTo>
                <a:lnTo>
                  <a:pt x="1542" y="1303"/>
                </a:lnTo>
                <a:lnTo>
                  <a:pt x="1522" y="1311"/>
                </a:lnTo>
                <a:lnTo>
                  <a:pt x="1500" y="1320"/>
                </a:lnTo>
                <a:lnTo>
                  <a:pt x="1476" y="1326"/>
                </a:lnTo>
                <a:lnTo>
                  <a:pt x="1452" y="1334"/>
                </a:lnTo>
                <a:lnTo>
                  <a:pt x="1428" y="1340"/>
                </a:lnTo>
                <a:lnTo>
                  <a:pt x="1405" y="1346"/>
                </a:lnTo>
                <a:lnTo>
                  <a:pt x="1381" y="1351"/>
                </a:lnTo>
                <a:lnTo>
                  <a:pt x="1362" y="1356"/>
                </a:lnTo>
                <a:lnTo>
                  <a:pt x="1343" y="1359"/>
                </a:lnTo>
                <a:lnTo>
                  <a:pt x="1324" y="1362"/>
                </a:lnTo>
                <a:lnTo>
                  <a:pt x="1305" y="1363"/>
                </a:lnTo>
                <a:lnTo>
                  <a:pt x="1286" y="1366"/>
                </a:lnTo>
                <a:lnTo>
                  <a:pt x="1267" y="1368"/>
                </a:lnTo>
                <a:lnTo>
                  <a:pt x="1246" y="1369"/>
                </a:lnTo>
                <a:lnTo>
                  <a:pt x="1225" y="1369"/>
                </a:lnTo>
                <a:lnTo>
                  <a:pt x="1205" y="1371"/>
                </a:lnTo>
                <a:lnTo>
                  <a:pt x="1184" y="1371"/>
                </a:lnTo>
                <a:lnTo>
                  <a:pt x="1164" y="1372"/>
                </a:lnTo>
                <a:lnTo>
                  <a:pt x="1143" y="1372"/>
                </a:lnTo>
                <a:lnTo>
                  <a:pt x="1124" y="1374"/>
                </a:lnTo>
                <a:lnTo>
                  <a:pt x="1107" y="1374"/>
                </a:lnTo>
                <a:lnTo>
                  <a:pt x="1088" y="1374"/>
                </a:lnTo>
                <a:lnTo>
                  <a:pt x="1069" y="1375"/>
                </a:lnTo>
                <a:lnTo>
                  <a:pt x="1050" y="1374"/>
                </a:lnTo>
                <a:lnTo>
                  <a:pt x="1032" y="1374"/>
                </a:lnTo>
                <a:lnTo>
                  <a:pt x="1013" y="1372"/>
                </a:lnTo>
                <a:lnTo>
                  <a:pt x="994" y="1371"/>
                </a:lnTo>
                <a:lnTo>
                  <a:pt x="975" y="1368"/>
                </a:lnTo>
                <a:lnTo>
                  <a:pt x="954" y="1365"/>
                </a:lnTo>
                <a:lnTo>
                  <a:pt x="935" y="1360"/>
                </a:lnTo>
                <a:lnTo>
                  <a:pt x="916" y="1357"/>
                </a:lnTo>
                <a:lnTo>
                  <a:pt x="897" y="1352"/>
                </a:lnTo>
                <a:lnTo>
                  <a:pt x="878" y="1348"/>
                </a:lnTo>
                <a:lnTo>
                  <a:pt x="856" y="1343"/>
                </a:lnTo>
                <a:lnTo>
                  <a:pt x="834" y="1337"/>
                </a:lnTo>
                <a:lnTo>
                  <a:pt x="812" y="1333"/>
                </a:lnTo>
                <a:lnTo>
                  <a:pt x="790" y="1328"/>
                </a:lnTo>
                <a:lnTo>
                  <a:pt x="767" y="1322"/>
                </a:lnTo>
                <a:lnTo>
                  <a:pt x="748" y="1317"/>
                </a:lnTo>
                <a:lnTo>
                  <a:pt x="728" y="1313"/>
                </a:lnTo>
                <a:lnTo>
                  <a:pt x="709" y="1308"/>
                </a:lnTo>
                <a:lnTo>
                  <a:pt x="688" y="1302"/>
                </a:lnTo>
                <a:lnTo>
                  <a:pt x="669" y="1296"/>
                </a:lnTo>
                <a:lnTo>
                  <a:pt x="649" y="1290"/>
                </a:lnTo>
                <a:lnTo>
                  <a:pt x="634" y="1285"/>
                </a:lnTo>
                <a:lnTo>
                  <a:pt x="620" y="1280"/>
                </a:lnTo>
                <a:lnTo>
                  <a:pt x="606" y="1276"/>
                </a:lnTo>
                <a:lnTo>
                  <a:pt x="592" y="1270"/>
                </a:lnTo>
                <a:lnTo>
                  <a:pt x="577" y="1264"/>
                </a:lnTo>
                <a:lnTo>
                  <a:pt x="563" y="1257"/>
                </a:lnTo>
                <a:lnTo>
                  <a:pt x="549" y="1251"/>
                </a:lnTo>
                <a:lnTo>
                  <a:pt x="531" y="1241"/>
                </a:lnTo>
                <a:lnTo>
                  <a:pt x="514" y="1231"/>
                </a:lnTo>
                <a:lnTo>
                  <a:pt x="498" y="1221"/>
                </a:lnTo>
                <a:lnTo>
                  <a:pt x="481" y="1210"/>
                </a:lnTo>
                <a:lnTo>
                  <a:pt x="465" y="1199"/>
                </a:lnTo>
                <a:lnTo>
                  <a:pt x="447" y="1187"/>
                </a:lnTo>
                <a:lnTo>
                  <a:pt x="432" y="1175"/>
                </a:lnTo>
                <a:lnTo>
                  <a:pt x="416" y="1164"/>
                </a:lnTo>
                <a:lnTo>
                  <a:pt x="400" y="1152"/>
                </a:lnTo>
                <a:lnTo>
                  <a:pt x="384" y="1139"/>
                </a:lnTo>
                <a:lnTo>
                  <a:pt x="368" y="1127"/>
                </a:lnTo>
                <a:lnTo>
                  <a:pt x="352" y="1113"/>
                </a:lnTo>
                <a:lnTo>
                  <a:pt x="340" y="1102"/>
                </a:lnTo>
                <a:lnTo>
                  <a:pt x="327" y="1092"/>
                </a:lnTo>
                <a:lnTo>
                  <a:pt x="314" y="1081"/>
                </a:lnTo>
                <a:lnTo>
                  <a:pt x="302" y="1070"/>
                </a:lnTo>
                <a:lnTo>
                  <a:pt x="289" y="1058"/>
                </a:lnTo>
                <a:lnTo>
                  <a:pt x="278" y="1046"/>
                </a:lnTo>
                <a:lnTo>
                  <a:pt x="267" y="1033"/>
                </a:lnTo>
                <a:lnTo>
                  <a:pt x="256" y="1020"/>
                </a:lnTo>
                <a:lnTo>
                  <a:pt x="245" y="1006"/>
                </a:lnTo>
                <a:lnTo>
                  <a:pt x="235" y="992"/>
                </a:lnTo>
                <a:lnTo>
                  <a:pt x="225" y="978"/>
                </a:lnTo>
                <a:lnTo>
                  <a:pt x="218" y="963"/>
                </a:lnTo>
                <a:lnTo>
                  <a:pt x="210" y="949"/>
                </a:lnTo>
                <a:lnTo>
                  <a:pt x="203" y="937"/>
                </a:lnTo>
                <a:lnTo>
                  <a:pt x="197" y="925"/>
                </a:lnTo>
                <a:lnTo>
                  <a:pt x="192" y="914"/>
                </a:lnTo>
                <a:lnTo>
                  <a:pt x="187" y="901"/>
                </a:lnTo>
                <a:lnTo>
                  <a:pt x="183" y="889"/>
                </a:lnTo>
                <a:lnTo>
                  <a:pt x="178" y="877"/>
                </a:lnTo>
                <a:lnTo>
                  <a:pt x="173" y="865"/>
                </a:lnTo>
                <a:lnTo>
                  <a:pt x="170" y="852"/>
                </a:lnTo>
                <a:lnTo>
                  <a:pt x="165" y="840"/>
                </a:lnTo>
                <a:lnTo>
                  <a:pt x="162" y="828"/>
                </a:lnTo>
                <a:lnTo>
                  <a:pt x="159" y="816"/>
                </a:lnTo>
                <a:lnTo>
                  <a:pt x="156" y="803"/>
                </a:lnTo>
                <a:lnTo>
                  <a:pt x="154" y="791"/>
                </a:lnTo>
                <a:lnTo>
                  <a:pt x="151" y="777"/>
                </a:lnTo>
                <a:lnTo>
                  <a:pt x="151" y="765"/>
                </a:lnTo>
                <a:lnTo>
                  <a:pt x="149" y="753"/>
                </a:lnTo>
                <a:lnTo>
                  <a:pt x="149" y="740"/>
                </a:lnTo>
                <a:lnTo>
                  <a:pt x="149" y="728"/>
                </a:lnTo>
                <a:lnTo>
                  <a:pt x="149" y="716"/>
                </a:lnTo>
                <a:lnTo>
                  <a:pt x="151" y="704"/>
                </a:lnTo>
                <a:lnTo>
                  <a:pt x="151" y="691"/>
                </a:lnTo>
                <a:lnTo>
                  <a:pt x="153" y="681"/>
                </a:lnTo>
                <a:lnTo>
                  <a:pt x="154" y="670"/>
                </a:lnTo>
                <a:lnTo>
                  <a:pt x="156" y="659"/>
                </a:lnTo>
                <a:lnTo>
                  <a:pt x="157" y="648"/>
                </a:lnTo>
                <a:lnTo>
                  <a:pt x="159" y="638"/>
                </a:lnTo>
                <a:lnTo>
                  <a:pt x="161" y="627"/>
                </a:lnTo>
                <a:lnTo>
                  <a:pt x="164" y="616"/>
                </a:lnTo>
                <a:lnTo>
                  <a:pt x="167" y="605"/>
                </a:lnTo>
                <a:lnTo>
                  <a:pt x="172" y="590"/>
                </a:lnTo>
                <a:lnTo>
                  <a:pt x="176" y="576"/>
                </a:lnTo>
                <a:lnTo>
                  <a:pt x="183" y="561"/>
                </a:lnTo>
                <a:lnTo>
                  <a:pt x="189" y="547"/>
                </a:lnTo>
                <a:lnTo>
                  <a:pt x="195" y="532"/>
                </a:lnTo>
                <a:lnTo>
                  <a:pt x="203" y="518"/>
                </a:lnTo>
                <a:lnTo>
                  <a:pt x="211" y="504"/>
                </a:lnTo>
                <a:lnTo>
                  <a:pt x="219" y="490"/>
                </a:lnTo>
                <a:lnTo>
                  <a:pt x="225" y="477"/>
                </a:lnTo>
                <a:lnTo>
                  <a:pt x="233" y="463"/>
                </a:lnTo>
                <a:lnTo>
                  <a:pt x="241" y="449"/>
                </a:lnTo>
                <a:lnTo>
                  <a:pt x="249" y="435"/>
                </a:lnTo>
                <a:lnTo>
                  <a:pt x="259" y="423"/>
                </a:lnTo>
                <a:lnTo>
                  <a:pt x="267" y="409"/>
                </a:lnTo>
                <a:lnTo>
                  <a:pt x="276" y="397"/>
                </a:lnTo>
                <a:lnTo>
                  <a:pt x="286" y="385"/>
                </a:lnTo>
                <a:lnTo>
                  <a:pt x="297" y="374"/>
                </a:lnTo>
                <a:lnTo>
                  <a:pt x="308" y="363"/>
                </a:lnTo>
                <a:lnTo>
                  <a:pt x="317" y="354"/>
                </a:lnTo>
                <a:lnTo>
                  <a:pt x="329" y="345"/>
                </a:lnTo>
                <a:lnTo>
                  <a:pt x="338" y="337"/>
                </a:lnTo>
                <a:lnTo>
                  <a:pt x="349" y="329"/>
                </a:lnTo>
                <a:lnTo>
                  <a:pt x="362" y="320"/>
                </a:lnTo>
                <a:lnTo>
                  <a:pt x="373" y="314"/>
                </a:lnTo>
                <a:lnTo>
                  <a:pt x="384" y="306"/>
                </a:lnTo>
                <a:lnTo>
                  <a:pt x="395" y="299"/>
                </a:lnTo>
                <a:lnTo>
                  <a:pt x="408" y="291"/>
                </a:lnTo>
                <a:lnTo>
                  <a:pt x="419" y="283"/>
                </a:lnTo>
                <a:lnTo>
                  <a:pt x="435" y="273"/>
                </a:lnTo>
                <a:lnTo>
                  <a:pt x="451" y="262"/>
                </a:lnTo>
                <a:lnTo>
                  <a:pt x="466" y="251"/>
                </a:lnTo>
                <a:lnTo>
                  <a:pt x="482" y="242"/>
                </a:lnTo>
                <a:lnTo>
                  <a:pt x="496" y="231"/>
                </a:lnTo>
                <a:lnTo>
                  <a:pt x="512" y="220"/>
                </a:lnTo>
                <a:lnTo>
                  <a:pt x="528" y="211"/>
                </a:lnTo>
                <a:lnTo>
                  <a:pt x="546" y="202"/>
                </a:lnTo>
                <a:lnTo>
                  <a:pt x="563" y="194"/>
                </a:lnTo>
                <a:lnTo>
                  <a:pt x="580" y="187"/>
                </a:lnTo>
                <a:lnTo>
                  <a:pt x="598" y="179"/>
                </a:lnTo>
                <a:lnTo>
                  <a:pt x="617" y="171"/>
                </a:lnTo>
                <a:lnTo>
                  <a:pt x="634" y="165"/>
                </a:lnTo>
                <a:lnTo>
                  <a:pt x="653" y="159"/>
                </a:lnTo>
                <a:lnTo>
                  <a:pt x="672" y="153"/>
                </a:lnTo>
                <a:lnTo>
                  <a:pt x="690" y="147"/>
                </a:lnTo>
                <a:lnTo>
                  <a:pt x="707" y="141"/>
                </a:lnTo>
                <a:lnTo>
                  <a:pt x="725" y="136"/>
                </a:lnTo>
                <a:lnTo>
                  <a:pt x="742" y="130"/>
                </a:lnTo>
                <a:lnTo>
                  <a:pt x="760" y="124"/>
                </a:lnTo>
                <a:lnTo>
                  <a:pt x="777" y="119"/>
                </a:lnTo>
                <a:lnTo>
                  <a:pt x="794" y="115"/>
                </a:lnTo>
                <a:lnTo>
                  <a:pt x="812" y="110"/>
                </a:lnTo>
                <a:lnTo>
                  <a:pt x="829" y="105"/>
                </a:lnTo>
                <a:lnTo>
                  <a:pt x="847" y="102"/>
                </a:lnTo>
                <a:lnTo>
                  <a:pt x="866" y="98"/>
                </a:lnTo>
                <a:lnTo>
                  <a:pt x="885" y="96"/>
                </a:lnTo>
                <a:lnTo>
                  <a:pt x="905" y="93"/>
                </a:lnTo>
                <a:lnTo>
                  <a:pt x="924" y="92"/>
                </a:lnTo>
                <a:lnTo>
                  <a:pt x="945" y="90"/>
                </a:lnTo>
                <a:lnTo>
                  <a:pt x="964" y="88"/>
                </a:lnTo>
                <a:lnTo>
                  <a:pt x="985" y="88"/>
                </a:lnTo>
                <a:lnTo>
                  <a:pt x="1005" y="88"/>
                </a:lnTo>
                <a:lnTo>
                  <a:pt x="1024" y="87"/>
                </a:lnTo>
                <a:lnTo>
                  <a:pt x="1053" y="87"/>
                </a:lnTo>
                <a:lnTo>
                  <a:pt x="1080" y="87"/>
                </a:lnTo>
                <a:lnTo>
                  <a:pt x="1107" y="87"/>
                </a:lnTo>
                <a:lnTo>
                  <a:pt x="1135" y="88"/>
                </a:lnTo>
                <a:lnTo>
                  <a:pt x="1162" y="88"/>
                </a:lnTo>
                <a:lnTo>
                  <a:pt x="1189" y="92"/>
                </a:lnTo>
                <a:lnTo>
                  <a:pt x="1216" y="93"/>
                </a:lnTo>
                <a:lnTo>
                  <a:pt x="1243" y="96"/>
                </a:lnTo>
                <a:lnTo>
                  <a:pt x="1265" y="99"/>
                </a:lnTo>
                <a:lnTo>
                  <a:pt x="1287" y="104"/>
                </a:lnTo>
                <a:lnTo>
                  <a:pt x="1308" y="107"/>
                </a:lnTo>
                <a:lnTo>
                  <a:pt x="1330" y="111"/>
                </a:lnTo>
                <a:lnTo>
                  <a:pt x="1351" y="116"/>
                </a:lnTo>
                <a:lnTo>
                  <a:pt x="1371" y="122"/>
                </a:lnTo>
                <a:lnTo>
                  <a:pt x="1393" y="127"/>
                </a:lnTo>
                <a:lnTo>
                  <a:pt x="1414" y="133"/>
                </a:lnTo>
                <a:lnTo>
                  <a:pt x="1435" y="138"/>
                </a:lnTo>
                <a:lnTo>
                  <a:pt x="1455" y="144"/>
                </a:lnTo>
                <a:lnTo>
                  <a:pt x="1476" y="148"/>
                </a:lnTo>
                <a:lnTo>
                  <a:pt x="1496" y="154"/>
                </a:lnTo>
                <a:lnTo>
                  <a:pt x="1515" y="162"/>
                </a:lnTo>
                <a:lnTo>
                  <a:pt x="1536" y="168"/>
                </a:lnTo>
                <a:lnTo>
                  <a:pt x="1555" y="176"/>
                </a:lnTo>
                <a:lnTo>
                  <a:pt x="1574" y="185"/>
                </a:lnTo>
                <a:lnTo>
                  <a:pt x="1593" y="193"/>
                </a:lnTo>
                <a:lnTo>
                  <a:pt x="1609" y="202"/>
                </a:lnTo>
                <a:lnTo>
                  <a:pt x="1625" y="213"/>
                </a:lnTo>
                <a:lnTo>
                  <a:pt x="1642" y="222"/>
                </a:lnTo>
                <a:lnTo>
                  <a:pt x="1657" y="233"/>
                </a:lnTo>
                <a:lnTo>
                  <a:pt x="1672" y="243"/>
                </a:lnTo>
                <a:lnTo>
                  <a:pt x="1688" y="254"/>
                </a:lnTo>
                <a:lnTo>
                  <a:pt x="1704" y="266"/>
                </a:lnTo>
                <a:lnTo>
                  <a:pt x="1718" y="277"/>
                </a:lnTo>
                <a:lnTo>
                  <a:pt x="1734" y="289"/>
                </a:lnTo>
                <a:lnTo>
                  <a:pt x="1745" y="297"/>
                </a:lnTo>
                <a:lnTo>
                  <a:pt x="1758" y="306"/>
                </a:lnTo>
                <a:lnTo>
                  <a:pt x="1769" y="316"/>
                </a:lnTo>
                <a:lnTo>
                  <a:pt x="1780" y="325"/>
                </a:lnTo>
                <a:lnTo>
                  <a:pt x="1793" y="334"/>
                </a:lnTo>
                <a:lnTo>
                  <a:pt x="1802" y="343"/>
                </a:lnTo>
                <a:lnTo>
                  <a:pt x="1813" y="352"/>
                </a:lnTo>
                <a:lnTo>
                  <a:pt x="1825" y="363"/>
                </a:lnTo>
                <a:lnTo>
                  <a:pt x="1834" y="374"/>
                </a:lnTo>
                <a:lnTo>
                  <a:pt x="1844" y="385"/>
                </a:lnTo>
                <a:lnTo>
                  <a:pt x="1853" y="395"/>
                </a:lnTo>
                <a:lnTo>
                  <a:pt x="1863" y="408"/>
                </a:lnTo>
                <a:lnTo>
                  <a:pt x="1870" y="420"/>
                </a:lnTo>
                <a:lnTo>
                  <a:pt x="1878" y="432"/>
                </a:lnTo>
                <a:lnTo>
                  <a:pt x="1886" y="446"/>
                </a:lnTo>
                <a:lnTo>
                  <a:pt x="1894" y="458"/>
                </a:lnTo>
                <a:lnTo>
                  <a:pt x="1901" y="472"/>
                </a:lnTo>
                <a:lnTo>
                  <a:pt x="1909" y="484"/>
                </a:lnTo>
                <a:lnTo>
                  <a:pt x="1916" y="498"/>
                </a:lnTo>
                <a:lnTo>
                  <a:pt x="1923" y="513"/>
                </a:lnTo>
                <a:lnTo>
                  <a:pt x="1931" y="527"/>
                </a:lnTo>
                <a:lnTo>
                  <a:pt x="1937" y="541"/>
                </a:lnTo>
                <a:lnTo>
                  <a:pt x="1942" y="555"/>
                </a:lnTo>
                <a:lnTo>
                  <a:pt x="1948" y="570"/>
                </a:lnTo>
                <a:lnTo>
                  <a:pt x="1953" y="584"/>
                </a:lnTo>
                <a:lnTo>
                  <a:pt x="1958" y="599"/>
                </a:lnTo>
                <a:lnTo>
                  <a:pt x="1961" y="615"/>
                </a:lnTo>
                <a:lnTo>
                  <a:pt x="1962" y="630"/>
                </a:lnTo>
                <a:lnTo>
                  <a:pt x="1964" y="647"/>
                </a:lnTo>
                <a:lnTo>
                  <a:pt x="1966" y="662"/>
                </a:lnTo>
                <a:lnTo>
                  <a:pt x="1966" y="679"/>
                </a:lnTo>
                <a:lnTo>
                  <a:pt x="1966" y="696"/>
                </a:lnTo>
                <a:lnTo>
                  <a:pt x="1964" y="713"/>
                </a:lnTo>
                <a:lnTo>
                  <a:pt x="1962" y="728"/>
                </a:lnTo>
                <a:lnTo>
                  <a:pt x="1959" y="745"/>
                </a:lnTo>
                <a:lnTo>
                  <a:pt x="1956" y="762"/>
                </a:lnTo>
                <a:lnTo>
                  <a:pt x="1953" y="779"/>
                </a:lnTo>
                <a:lnTo>
                  <a:pt x="1950" y="796"/>
                </a:lnTo>
                <a:lnTo>
                  <a:pt x="1947" y="813"/>
                </a:lnTo>
                <a:lnTo>
                  <a:pt x="1942" y="829"/>
                </a:lnTo>
                <a:lnTo>
                  <a:pt x="1937" y="845"/>
                </a:lnTo>
                <a:lnTo>
                  <a:pt x="1931" y="862"/>
                </a:lnTo>
                <a:lnTo>
                  <a:pt x="1924" y="877"/>
                </a:lnTo>
                <a:lnTo>
                  <a:pt x="1918" y="892"/>
                </a:lnTo>
                <a:lnTo>
                  <a:pt x="1910" y="908"/>
                </a:lnTo>
                <a:lnTo>
                  <a:pt x="1902" y="923"/>
                </a:lnTo>
                <a:lnTo>
                  <a:pt x="1894" y="937"/>
                </a:lnTo>
                <a:lnTo>
                  <a:pt x="1885" y="951"/>
                </a:lnTo>
                <a:lnTo>
                  <a:pt x="1875" y="964"/>
                </a:lnTo>
                <a:lnTo>
                  <a:pt x="1864" y="978"/>
                </a:lnTo>
                <a:lnTo>
                  <a:pt x="1853" y="990"/>
                </a:lnTo>
                <a:lnTo>
                  <a:pt x="1842" y="1003"/>
                </a:lnTo>
                <a:lnTo>
                  <a:pt x="1828" y="1015"/>
                </a:lnTo>
                <a:lnTo>
                  <a:pt x="1815" y="1027"/>
                </a:lnTo>
                <a:lnTo>
                  <a:pt x="1799" y="1040"/>
                </a:lnTo>
                <a:lnTo>
                  <a:pt x="1785" y="1050"/>
                </a:lnTo>
                <a:lnTo>
                  <a:pt x="1769" y="1061"/>
                </a:lnTo>
                <a:lnTo>
                  <a:pt x="1755" y="1072"/>
                </a:lnTo>
                <a:lnTo>
                  <a:pt x="1739" y="1083"/>
                </a:lnTo>
                <a:lnTo>
                  <a:pt x="1723" y="1092"/>
                </a:lnTo>
                <a:lnTo>
                  <a:pt x="1702" y="1104"/>
                </a:lnTo>
                <a:lnTo>
                  <a:pt x="1683" y="1116"/>
                </a:lnTo>
                <a:lnTo>
                  <a:pt x="1663" y="1129"/>
                </a:lnTo>
                <a:lnTo>
                  <a:pt x="1642" y="1141"/>
                </a:lnTo>
                <a:lnTo>
                  <a:pt x="1623" y="1153"/>
                </a:lnTo>
                <a:lnTo>
                  <a:pt x="1607" y="1162"/>
                </a:lnTo>
                <a:lnTo>
                  <a:pt x="1593" y="1171"/>
                </a:lnTo>
                <a:lnTo>
                  <a:pt x="1579" y="1181"/>
                </a:lnTo>
                <a:lnTo>
                  <a:pt x="1565" y="1190"/>
                </a:lnTo>
                <a:lnTo>
                  <a:pt x="1549" y="1198"/>
                </a:lnTo>
                <a:lnTo>
                  <a:pt x="1535" y="1207"/>
                </a:lnTo>
                <a:lnTo>
                  <a:pt x="1519" y="1214"/>
                </a:lnTo>
                <a:lnTo>
                  <a:pt x="1504" y="1222"/>
                </a:lnTo>
                <a:lnTo>
                  <a:pt x="1487" y="1230"/>
                </a:lnTo>
                <a:lnTo>
                  <a:pt x="1470" y="1236"/>
                </a:lnTo>
                <a:lnTo>
                  <a:pt x="1451" y="1242"/>
                </a:lnTo>
                <a:lnTo>
                  <a:pt x="1433" y="1248"/>
                </a:lnTo>
                <a:lnTo>
                  <a:pt x="1414" y="1253"/>
                </a:lnTo>
                <a:lnTo>
                  <a:pt x="1397" y="1257"/>
                </a:lnTo>
                <a:lnTo>
                  <a:pt x="1378" y="1262"/>
                </a:lnTo>
                <a:lnTo>
                  <a:pt x="1359" y="1265"/>
                </a:lnTo>
                <a:lnTo>
                  <a:pt x="1333" y="1270"/>
                </a:lnTo>
                <a:lnTo>
                  <a:pt x="1308" y="1273"/>
                </a:lnTo>
                <a:lnTo>
                  <a:pt x="1283" y="1276"/>
                </a:lnTo>
                <a:lnTo>
                  <a:pt x="1257" y="1279"/>
                </a:lnTo>
                <a:lnTo>
                  <a:pt x="1232" y="1280"/>
                </a:lnTo>
                <a:lnTo>
                  <a:pt x="1206" y="1282"/>
                </a:lnTo>
                <a:lnTo>
                  <a:pt x="1181" y="1283"/>
                </a:lnTo>
                <a:lnTo>
                  <a:pt x="1154" y="1283"/>
                </a:lnTo>
                <a:lnTo>
                  <a:pt x="1127" y="1283"/>
                </a:lnTo>
                <a:lnTo>
                  <a:pt x="1100" y="1283"/>
                </a:lnTo>
                <a:lnTo>
                  <a:pt x="1073" y="1282"/>
                </a:lnTo>
                <a:lnTo>
                  <a:pt x="1048" y="1282"/>
                </a:lnTo>
                <a:lnTo>
                  <a:pt x="1021" y="1279"/>
                </a:lnTo>
                <a:lnTo>
                  <a:pt x="993" y="1277"/>
                </a:lnTo>
                <a:lnTo>
                  <a:pt x="964" y="1273"/>
                </a:lnTo>
                <a:lnTo>
                  <a:pt x="935" y="1270"/>
                </a:lnTo>
                <a:lnTo>
                  <a:pt x="907" y="1265"/>
                </a:lnTo>
                <a:lnTo>
                  <a:pt x="878" y="1260"/>
                </a:lnTo>
                <a:lnTo>
                  <a:pt x="850" y="1254"/>
                </a:lnTo>
                <a:lnTo>
                  <a:pt x="828" y="1250"/>
                </a:lnTo>
                <a:lnTo>
                  <a:pt x="807" y="1245"/>
                </a:lnTo>
                <a:lnTo>
                  <a:pt x="787" y="1239"/>
                </a:lnTo>
                <a:lnTo>
                  <a:pt x="764" y="1233"/>
                </a:lnTo>
                <a:lnTo>
                  <a:pt x="744" y="1227"/>
                </a:lnTo>
                <a:lnTo>
                  <a:pt x="723" y="1219"/>
                </a:lnTo>
                <a:lnTo>
                  <a:pt x="703" y="1213"/>
                </a:lnTo>
                <a:lnTo>
                  <a:pt x="683" y="1204"/>
                </a:lnTo>
                <a:lnTo>
                  <a:pt x="664" y="1196"/>
                </a:lnTo>
                <a:lnTo>
                  <a:pt x="647" y="1187"/>
                </a:lnTo>
                <a:lnTo>
                  <a:pt x="630" y="1178"/>
                </a:lnTo>
                <a:lnTo>
                  <a:pt x="612" y="1167"/>
                </a:lnTo>
                <a:lnTo>
                  <a:pt x="595" y="1158"/>
                </a:lnTo>
                <a:lnTo>
                  <a:pt x="579" y="1147"/>
                </a:lnTo>
                <a:lnTo>
                  <a:pt x="561" y="1136"/>
                </a:lnTo>
                <a:lnTo>
                  <a:pt x="546" y="1125"/>
                </a:lnTo>
                <a:lnTo>
                  <a:pt x="530" y="1115"/>
                </a:lnTo>
                <a:lnTo>
                  <a:pt x="516" y="1104"/>
                </a:lnTo>
                <a:lnTo>
                  <a:pt x="501" y="1093"/>
                </a:lnTo>
                <a:lnTo>
                  <a:pt x="487" y="1081"/>
                </a:lnTo>
                <a:lnTo>
                  <a:pt x="473" y="1070"/>
                </a:lnTo>
                <a:lnTo>
                  <a:pt x="458" y="1058"/>
                </a:lnTo>
                <a:lnTo>
                  <a:pt x="446" y="1046"/>
                </a:lnTo>
                <a:lnTo>
                  <a:pt x="433" y="1035"/>
                </a:lnTo>
                <a:lnTo>
                  <a:pt x="422" y="1023"/>
                </a:lnTo>
                <a:lnTo>
                  <a:pt x="411" y="1010"/>
                </a:lnTo>
                <a:lnTo>
                  <a:pt x="401" y="998"/>
                </a:lnTo>
                <a:lnTo>
                  <a:pt x="392" y="986"/>
                </a:lnTo>
                <a:lnTo>
                  <a:pt x="382" y="972"/>
                </a:lnTo>
                <a:lnTo>
                  <a:pt x="373" y="960"/>
                </a:lnTo>
                <a:lnTo>
                  <a:pt x="363" y="946"/>
                </a:lnTo>
                <a:lnTo>
                  <a:pt x="355" y="932"/>
                </a:lnTo>
                <a:lnTo>
                  <a:pt x="349" y="920"/>
                </a:lnTo>
                <a:lnTo>
                  <a:pt x="341" y="905"/>
                </a:lnTo>
                <a:lnTo>
                  <a:pt x="335" y="891"/>
                </a:lnTo>
                <a:lnTo>
                  <a:pt x="329" y="877"/>
                </a:lnTo>
                <a:lnTo>
                  <a:pt x="324" y="863"/>
                </a:lnTo>
                <a:lnTo>
                  <a:pt x="319" y="848"/>
                </a:lnTo>
                <a:lnTo>
                  <a:pt x="314" y="834"/>
                </a:lnTo>
                <a:lnTo>
                  <a:pt x="311" y="819"/>
                </a:lnTo>
                <a:lnTo>
                  <a:pt x="308" y="805"/>
                </a:lnTo>
                <a:lnTo>
                  <a:pt x="306" y="790"/>
                </a:lnTo>
                <a:lnTo>
                  <a:pt x="303" y="774"/>
                </a:lnTo>
                <a:lnTo>
                  <a:pt x="302" y="759"/>
                </a:lnTo>
                <a:lnTo>
                  <a:pt x="300" y="745"/>
                </a:lnTo>
                <a:lnTo>
                  <a:pt x="298" y="730"/>
                </a:lnTo>
                <a:lnTo>
                  <a:pt x="297" y="717"/>
                </a:lnTo>
                <a:lnTo>
                  <a:pt x="297" y="705"/>
                </a:lnTo>
                <a:lnTo>
                  <a:pt x="295" y="693"/>
                </a:lnTo>
                <a:lnTo>
                  <a:pt x="295" y="681"/>
                </a:lnTo>
                <a:lnTo>
                  <a:pt x="294" y="668"/>
                </a:lnTo>
                <a:lnTo>
                  <a:pt x="295" y="658"/>
                </a:lnTo>
                <a:lnTo>
                  <a:pt x="295" y="645"/>
                </a:lnTo>
                <a:lnTo>
                  <a:pt x="297" y="633"/>
                </a:lnTo>
                <a:lnTo>
                  <a:pt x="298" y="622"/>
                </a:lnTo>
                <a:lnTo>
                  <a:pt x="300" y="610"/>
                </a:lnTo>
                <a:lnTo>
                  <a:pt x="303" y="598"/>
                </a:lnTo>
                <a:lnTo>
                  <a:pt x="308" y="587"/>
                </a:lnTo>
                <a:lnTo>
                  <a:pt x="313" y="575"/>
                </a:lnTo>
                <a:lnTo>
                  <a:pt x="317" y="562"/>
                </a:lnTo>
                <a:lnTo>
                  <a:pt x="324" y="552"/>
                </a:lnTo>
                <a:lnTo>
                  <a:pt x="330" y="541"/>
                </a:lnTo>
                <a:lnTo>
                  <a:pt x="336" y="529"/>
                </a:lnTo>
                <a:lnTo>
                  <a:pt x="344" y="518"/>
                </a:lnTo>
                <a:lnTo>
                  <a:pt x="351" y="507"/>
                </a:lnTo>
                <a:lnTo>
                  <a:pt x="357" y="495"/>
                </a:lnTo>
                <a:lnTo>
                  <a:pt x="365" y="483"/>
                </a:lnTo>
                <a:lnTo>
                  <a:pt x="373" y="470"/>
                </a:lnTo>
                <a:lnTo>
                  <a:pt x="381" y="458"/>
                </a:lnTo>
                <a:lnTo>
                  <a:pt x="389" y="447"/>
                </a:lnTo>
                <a:lnTo>
                  <a:pt x="397" y="435"/>
                </a:lnTo>
                <a:lnTo>
                  <a:pt x="406" y="423"/>
                </a:lnTo>
                <a:lnTo>
                  <a:pt x="414" y="412"/>
                </a:lnTo>
                <a:lnTo>
                  <a:pt x="424" y="401"/>
                </a:lnTo>
                <a:lnTo>
                  <a:pt x="435" y="391"/>
                </a:lnTo>
                <a:lnTo>
                  <a:pt x="446" y="381"/>
                </a:lnTo>
                <a:lnTo>
                  <a:pt x="457" y="371"/>
                </a:lnTo>
                <a:lnTo>
                  <a:pt x="470" y="362"/>
                </a:lnTo>
                <a:lnTo>
                  <a:pt x="482" y="352"/>
                </a:lnTo>
                <a:lnTo>
                  <a:pt x="495" y="343"/>
                </a:lnTo>
                <a:lnTo>
                  <a:pt x="508" y="335"/>
                </a:lnTo>
                <a:lnTo>
                  <a:pt x="522" y="328"/>
                </a:lnTo>
                <a:lnTo>
                  <a:pt x="535" y="320"/>
                </a:lnTo>
                <a:lnTo>
                  <a:pt x="549" y="312"/>
                </a:lnTo>
                <a:lnTo>
                  <a:pt x="571" y="302"/>
                </a:lnTo>
                <a:lnTo>
                  <a:pt x="592" y="291"/>
                </a:lnTo>
                <a:lnTo>
                  <a:pt x="614" y="280"/>
                </a:lnTo>
                <a:lnTo>
                  <a:pt x="634" y="269"/>
                </a:lnTo>
                <a:lnTo>
                  <a:pt x="657" y="260"/>
                </a:lnTo>
                <a:lnTo>
                  <a:pt x="676" y="253"/>
                </a:lnTo>
                <a:lnTo>
                  <a:pt x="695" y="245"/>
                </a:lnTo>
                <a:lnTo>
                  <a:pt x="714" y="237"/>
                </a:lnTo>
                <a:lnTo>
                  <a:pt x="733" y="230"/>
                </a:lnTo>
                <a:lnTo>
                  <a:pt x="752" y="223"/>
                </a:lnTo>
                <a:lnTo>
                  <a:pt x="771" y="217"/>
                </a:lnTo>
                <a:lnTo>
                  <a:pt x="791" y="211"/>
                </a:lnTo>
                <a:lnTo>
                  <a:pt x="812" y="207"/>
                </a:lnTo>
                <a:lnTo>
                  <a:pt x="832" y="200"/>
                </a:lnTo>
                <a:lnTo>
                  <a:pt x="853" y="196"/>
                </a:lnTo>
                <a:lnTo>
                  <a:pt x="874" y="193"/>
                </a:lnTo>
                <a:lnTo>
                  <a:pt x="894" y="188"/>
                </a:lnTo>
                <a:lnTo>
                  <a:pt x="916" y="185"/>
                </a:lnTo>
                <a:lnTo>
                  <a:pt x="937" y="182"/>
                </a:lnTo>
                <a:lnTo>
                  <a:pt x="959" y="181"/>
                </a:lnTo>
                <a:lnTo>
                  <a:pt x="981" y="177"/>
                </a:lnTo>
                <a:lnTo>
                  <a:pt x="1005" y="176"/>
                </a:lnTo>
                <a:lnTo>
                  <a:pt x="1027" y="174"/>
                </a:lnTo>
                <a:lnTo>
                  <a:pt x="1050" y="174"/>
                </a:lnTo>
                <a:lnTo>
                  <a:pt x="1072" y="173"/>
                </a:lnTo>
                <a:lnTo>
                  <a:pt x="1096" y="174"/>
                </a:lnTo>
                <a:lnTo>
                  <a:pt x="1116" y="174"/>
                </a:lnTo>
                <a:lnTo>
                  <a:pt x="1137" y="176"/>
                </a:lnTo>
                <a:lnTo>
                  <a:pt x="1157" y="177"/>
                </a:lnTo>
                <a:lnTo>
                  <a:pt x="1178" y="179"/>
                </a:lnTo>
                <a:lnTo>
                  <a:pt x="1199" y="182"/>
                </a:lnTo>
                <a:lnTo>
                  <a:pt x="1219" y="185"/>
                </a:lnTo>
                <a:lnTo>
                  <a:pt x="1240" y="188"/>
                </a:lnTo>
                <a:lnTo>
                  <a:pt x="1262" y="191"/>
                </a:lnTo>
                <a:lnTo>
                  <a:pt x="1284" y="196"/>
                </a:lnTo>
                <a:lnTo>
                  <a:pt x="1308" y="200"/>
                </a:lnTo>
                <a:lnTo>
                  <a:pt x="1330" y="205"/>
                </a:lnTo>
                <a:lnTo>
                  <a:pt x="1352" y="211"/>
                </a:lnTo>
                <a:lnTo>
                  <a:pt x="1373" y="217"/>
                </a:lnTo>
                <a:lnTo>
                  <a:pt x="1397" y="223"/>
                </a:lnTo>
                <a:lnTo>
                  <a:pt x="1420" y="231"/>
                </a:lnTo>
                <a:lnTo>
                  <a:pt x="1444" y="240"/>
                </a:lnTo>
                <a:lnTo>
                  <a:pt x="1466" y="250"/>
                </a:lnTo>
                <a:lnTo>
                  <a:pt x="1489" y="259"/>
                </a:lnTo>
                <a:lnTo>
                  <a:pt x="1511" y="269"/>
                </a:lnTo>
                <a:lnTo>
                  <a:pt x="1528" y="277"/>
                </a:lnTo>
                <a:lnTo>
                  <a:pt x="1546" y="286"/>
                </a:lnTo>
                <a:lnTo>
                  <a:pt x="1561" y="296"/>
                </a:lnTo>
                <a:lnTo>
                  <a:pt x="1579" y="305"/>
                </a:lnTo>
                <a:lnTo>
                  <a:pt x="1595" y="316"/>
                </a:lnTo>
                <a:lnTo>
                  <a:pt x="1611" y="326"/>
                </a:lnTo>
                <a:lnTo>
                  <a:pt x="1626" y="337"/>
                </a:lnTo>
                <a:lnTo>
                  <a:pt x="1642" y="349"/>
                </a:lnTo>
                <a:lnTo>
                  <a:pt x="1658" y="363"/>
                </a:lnTo>
                <a:lnTo>
                  <a:pt x="1672" y="375"/>
                </a:lnTo>
                <a:lnTo>
                  <a:pt x="1687" y="389"/>
                </a:lnTo>
                <a:lnTo>
                  <a:pt x="1701" y="404"/>
                </a:lnTo>
                <a:lnTo>
                  <a:pt x="1714" y="420"/>
                </a:lnTo>
                <a:lnTo>
                  <a:pt x="1726" y="435"/>
                </a:lnTo>
                <a:lnTo>
                  <a:pt x="1739" y="450"/>
                </a:lnTo>
                <a:lnTo>
                  <a:pt x="1750" y="466"/>
                </a:lnTo>
                <a:lnTo>
                  <a:pt x="1761" y="483"/>
                </a:lnTo>
                <a:lnTo>
                  <a:pt x="1772" y="500"/>
                </a:lnTo>
                <a:lnTo>
                  <a:pt x="1782" y="518"/>
                </a:lnTo>
                <a:lnTo>
                  <a:pt x="1790" y="535"/>
                </a:lnTo>
                <a:lnTo>
                  <a:pt x="1799" y="553"/>
                </a:lnTo>
                <a:lnTo>
                  <a:pt x="1804" y="564"/>
                </a:lnTo>
                <a:lnTo>
                  <a:pt x="1807" y="575"/>
                </a:lnTo>
                <a:lnTo>
                  <a:pt x="1812" y="584"/>
                </a:lnTo>
                <a:lnTo>
                  <a:pt x="1815" y="595"/>
                </a:lnTo>
                <a:lnTo>
                  <a:pt x="1820" y="607"/>
                </a:lnTo>
                <a:lnTo>
                  <a:pt x="1821" y="618"/>
                </a:lnTo>
                <a:lnTo>
                  <a:pt x="1825" y="628"/>
                </a:lnTo>
                <a:lnTo>
                  <a:pt x="1826" y="639"/>
                </a:lnTo>
                <a:lnTo>
                  <a:pt x="1829" y="653"/>
                </a:lnTo>
                <a:lnTo>
                  <a:pt x="1829" y="668"/>
                </a:lnTo>
                <a:lnTo>
                  <a:pt x="1831" y="682"/>
                </a:lnTo>
                <a:lnTo>
                  <a:pt x="1831" y="697"/>
                </a:lnTo>
                <a:lnTo>
                  <a:pt x="1829" y="711"/>
                </a:lnTo>
                <a:lnTo>
                  <a:pt x="1828" y="725"/>
                </a:lnTo>
                <a:lnTo>
                  <a:pt x="1826" y="740"/>
                </a:lnTo>
                <a:lnTo>
                  <a:pt x="1823" y="754"/>
                </a:lnTo>
                <a:lnTo>
                  <a:pt x="1820" y="771"/>
                </a:lnTo>
                <a:lnTo>
                  <a:pt x="1815" y="786"/>
                </a:lnTo>
                <a:lnTo>
                  <a:pt x="1809" y="802"/>
                </a:lnTo>
                <a:lnTo>
                  <a:pt x="1804" y="817"/>
                </a:lnTo>
                <a:lnTo>
                  <a:pt x="1798" y="832"/>
                </a:lnTo>
                <a:lnTo>
                  <a:pt x="1790" y="848"/>
                </a:lnTo>
                <a:lnTo>
                  <a:pt x="1782" y="862"/>
                </a:lnTo>
                <a:lnTo>
                  <a:pt x="1774" y="878"/>
                </a:lnTo>
                <a:lnTo>
                  <a:pt x="1764" y="892"/>
                </a:lnTo>
                <a:lnTo>
                  <a:pt x="1755" y="908"/>
                </a:lnTo>
                <a:lnTo>
                  <a:pt x="1744" y="923"/>
                </a:lnTo>
                <a:lnTo>
                  <a:pt x="1733" y="937"/>
                </a:lnTo>
                <a:lnTo>
                  <a:pt x="1722" y="951"/>
                </a:lnTo>
                <a:lnTo>
                  <a:pt x="1710" y="963"/>
                </a:lnTo>
                <a:lnTo>
                  <a:pt x="1698" y="975"/>
                </a:lnTo>
                <a:lnTo>
                  <a:pt x="1685" y="986"/>
                </a:lnTo>
                <a:lnTo>
                  <a:pt x="1672" y="997"/>
                </a:lnTo>
                <a:lnTo>
                  <a:pt x="1660" y="1007"/>
                </a:lnTo>
                <a:lnTo>
                  <a:pt x="1645" y="1018"/>
                </a:lnTo>
                <a:lnTo>
                  <a:pt x="1633" y="1029"/>
                </a:lnTo>
                <a:lnTo>
                  <a:pt x="1619" y="1038"/>
                </a:lnTo>
                <a:lnTo>
                  <a:pt x="1606" y="1049"/>
                </a:lnTo>
                <a:lnTo>
                  <a:pt x="1592" y="1058"/>
                </a:lnTo>
                <a:lnTo>
                  <a:pt x="1579" y="1067"/>
                </a:lnTo>
                <a:lnTo>
                  <a:pt x="1565" y="1076"/>
                </a:lnTo>
                <a:lnTo>
                  <a:pt x="1550" y="1086"/>
                </a:lnTo>
                <a:lnTo>
                  <a:pt x="1536" y="1095"/>
                </a:lnTo>
                <a:lnTo>
                  <a:pt x="1522" y="1102"/>
                </a:lnTo>
                <a:lnTo>
                  <a:pt x="1508" y="1110"/>
                </a:lnTo>
                <a:lnTo>
                  <a:pt x="1492" y="1118"/>
                </a:lnTo>
                <a:lnTo>
                  <a:pt x="1474" y="1125"/>
                </a:lnTo>
                <a:lnTo>
                  <a:pt x="1457" y="1133"/>
                </a:lnTo>
                <a:lnTo>
                  <a:pt x="1441" y="1139"/>
                </a:lnTo>
                <a:lnTo>
                  <a:pt x="1424" y="1145"/>
                </a:lnTo>
                <a:lnTo>
                  <a:pt x="1406" y="1152"/>
                </a:lnTo>
                <a:lnTo>
                  <a:pt x="1387" y="1156"/>
                </a:lnTo>
                <a:lnTo>
                  <a:pt x="1370" y="1161"/>
                </a:lnTo>
                <a:lnTo>
                  <a:pt x="1348" y="1165"/>
                </a:lnTo>
                <a:lnTo>
                  <a:pt x="1325" y="1170"/>
                </a:lnTo>
                <a:lnTo>
                  <a:pt x="1302" y="1175"/>
                </a:lnTo>
                <a:lnTo>
                  <a:pt x="1279" y="1178"/>
                </a:lnTo>
                <a:lnTo>
                  <a:pt x="1257" y="1181"/>
                </a:lnTo>
                <a:lnTo>
                  <a:pt x="1233" y="1182"/>
                </a:lnTo>
                <a:lnTo>
                  <a:pt x="1211" y="1184"/>
                </a:lnTo>
                <a:lnTo>
                  <a:pt x="1187" y="1185"/>
                </a:lnTo>
                <a:lnTo>
                  <a:pt x="1161" y="1187"/>
                </a:lnTo>
                <a:lnTo>
                  <a:pt x="1134" y="1187"/>
                </a:lnTo>
                <a:lnTo>
                  <a:pt x="1107" y="1187"/>
                </a:lnTo>
                <a:lnTo>
                  <a:pt x="1080" y="1187"/>
                </a:lnTo>
                <a:lnTo>
                  <a:pt x="1053" y="1185"/>
                </a:lnTo>
                <a:lnTo>
                  <a:pt x="1026" y="1184"/>
                </a:lnTo>
                <a:lnTo>
                  <a:pt x="999" y="1181"/>
                </a:lnTo>
                <a:lnTo>
                  <a:pt x="977" y="1178"/>
                </a:lnTo>
                <a:lnTo>
                  <a:pt x="953" y="1175"/>
                </a:lnTo>
                <a:lnTo>
                  <a:pt x="931" y="1170"/>
                </a:lnTo>
                <a:lnTo>
                  <a:pt x="909" y="1165"/>
                </a:lnTo>
                <a:lnTo>
                  <a:pt x="886" y="1161"/>
                </a:lnTo>
                <a:lnTo>
                  <a:pt x="864" y="1156"/>
                </a:lnTo>
                <a:lnTo>
                  <a:pt x="842" y="1150"/>
                </a:lnTo>
                <a:lnTo>
                  <a:pt x="825" y="1145"/>
                </a:lnTo>
                <a:lnTo>
                  <a:pt x="806" y="1139"/>
                </a:lnTo>
                <a:lnTo>
                  <a:pt x="788" y="1135"/>
                </a:lnTo>
                <a:lnTo>
                  <a:pt x="771" y="1129"/>
                </a:lnTo>
                <a:lnTo>
                  <a:pt x="753" y="1121"/>
                </a:lnTo>
                <a:lnTo>
                  <a:pt x="736" y="1115"/>
                </a:lnTo>
                <a:lnTo>
                  <a:pt x="718" y="1107"/>
                </a:lnTo>
                <a:lnTo>
                  <a:pt x="703" y="1098"/>
                </a:lnTo>
                <a:lnTo>
                  <a:pt x="687" y="1089"/>
                </a:lnTo>
                <a:lnTo>
                  <a:pt x="676" y="1081"/>
                </a:lnTo>
                <a:lnTo>
                  <a:pt x="664" y="1073"/>
                </a:lnTo>
                <a:lnTo>
                  <a:pt x="653" y="1066"/>
                </a:lnTo>
                <a:lnTo>
                  <a:pt x="642" y="1058"/>
                </a:lnTo>
                <a:lnTo>
                  <a:pt x="631" y="1049"/>
                </a:lnTo>
                <a:lnTo>
                  <a:pt x="622" y="1040"/>
                </a:lnTo>
                <a:lnTo>
                  <a:pt x="611" y="1032"/>
                </a:lnTo>
                <a:lnTo>
                  <a:pt x="600" y="1023"/>
                </a:lnTo>
                <a:lnTo>
                  <a:pt x="590" y="1013"/>
                </a:lnTo>
                <a:lnTo>
                  <a:pt x="576" y="1001"/>
                </a:lnTo>
                <a:lnTo>
                  <a:pt x="561" y="987"/>
                </a:lnTo>
                <a:lnTo>
                  <a:pt x="547" y="975"/>
                </a:lnTo>
                <a:lnTo>
                  <a:pt x="535" y="963"/>
                </a:lnTo>
                <a:lnTo>
                  <a:pt x="522" y="949"/>
                </a:lnTo>
                <a:lnTo>
                  <a:pt x="509" y="935"/>
                </a:lnTo>
                <a:lnTo>
                  <a:pt x="496" y="920"/>
                </a:lnTo>
                <a:lnTo>
                  <a:pt x="485" y="906"/>
                </a:lnTo>
                <a:lnTo>
                  <a:pt x="479" y="894"/>
                </a:lnTo>
                <a:lnTo>
                  <a:pt x="471" y="883"/>
                </a:lnTo>
                <a:lnTo>
                  <a:pt x="465" y="871"/>
                </a:lnTo>
                <a:lnTo>
                  <a:pt x="460" y="859"/>
                </a:lnTo>
                <a:lnTo>
                  <a:pt x="454" y="846"/>
                </a:lnTo>
                <a:lnTo>
                  <a:pt x="449" y="834"/>
                </a:lnTo>
                <a:lnTo>
                  <a:pt x="446" y="822"/>
                </a:lnTo>
                <a:lnTo>
                  <a:pt x="441" y="808"/>
                </a:lnTo>
                <a:lnTo>
                  <a:pt x="438" y="796"/>
                </a:lnTo>
                <a:lnTo>
                  <a:pt x="435" y="782"/>
                </a:lnTo>
                <a:lnTo>
                  <a:pt x="433" y="770"/>
                </a:lnTo>
                <a:lnTo>
                  <a:pt x="432" y="756"/>
                </a:lnTo>
                <a:lnTo>
                  <a:pt x="430" y="743"/>
                </a:lnTo>
                <a:lnTo>
                  <a:pt x="430" y="730"/>
                </a:lnTo>
                <a:lnTo>
                  <a:pt x="430" y="717"/>
                </a:lnTo>
                <a:lnTo>
                  <a:pt x="430" y="704"/>
                </a:lnTo>
                <a:lnTo>
                  <a:pt x="432" y="688"/>
                </a:lnTo>
                <a:lnTo>
                  <a:pt x="433" y="673"/>
                </a:lnTo>
                <a:lnTo>
                  <a:pt x="436" y="658"/>
                </a:lnTo>
                <a:lnTo>
                  <a:pt x="441" y="642"/>
                </a:lnTo>
                <a:lnTo>
                  <a:pt x="444" y="627"/>
                </a:lnTo>
                <a:lnTo>
                  <a:pt x="451" y="612"/>
                </a:lnTo>
                <a:lnTo>
                  <a:pt x="455" y="596"/>
                </a:lnTo>
                <a:lnTo>
                  <a:pt x="462" y="582"/>
                </a:lnTo>
                <a:lnTo>
                  <a:pt x="468" y="567"/>
                </a:lnTo>
                <a:lnTo>
                  <a:pt x="476" y="555"/>
                </a:lnTo>
                <a:lnTo>
                  <a:pt x="482" y="541"/>
                </a:lnTo>
                <a:lnTo>
                  <a:pt x="490" y="527"/>
                </a:lnTo>
                <a:lnTo>
                  <a:pt x="500" y="515"/>
                </a:lnTo>
                <a:lnTo>
                  <a:pt x="508" y="503"/>
                </a:lnTo>
                <a:lnTo>
                  <a:pt x="517" y="490"/>
                </a:lnTo>
                <a:lnTo>
                  <a:pt x="528" y="478"/>
                </a:lnTo>
                <a:lnTo>
                  <a:pt x="538" y="467"/>
                </a:lnTo>
                <a:lnTo>
                  <a:pt x="550" y="455"/>
                </a:lnTo>
                <a:lnTo>
                  <a:pt x="563" y="443"/>
                </a:lnTo>
                <a:lnTo>
                  <a:pt x="577" y="432"/>
                </a:lnTo>
                <a:lnTo>
                  <a:pt x="590" y="421"/>
                </a:lnTo>
                <a:lnTo>
                  <a:pt x="604" y="411"/>
                </a:lnTo>
                <a:lnTo>
                  <a:pt x="619" y="401"/>
                </a:lnTo>
                <a:lnTo>
                  <a:pt x="634" y="392"/>
                </a:lnTo>
                <a:lnTo>
                  <a:pt x="649" y="383"/>
                </a:lnTo>
                <a:lnTo>
                  <a:pt x="664" y="374"/>
                </a:lnTo>
                <a:lnTo>
                  <a:pt x="677" y="366"/>
                </a:lnTo>
                <a:lnTo>
                  <a:pt x="691" y="358"/>
                </a:lnTo>
                <a:lnTo>
                  <a:pt x="704" y="351"/>
                </a:lnTo>
                <a:lnTo>
                  <a:pt x="718" y="343"/>
                </a:lnTo>
                <a:lnTo>
                  <a:pt x="731" y="337"/>
                </a:lnTo>
                <a:lnTo>
                  <a:pt x="745" y="331"/>
                </a:lnTo>
                <a:lnTo>
                  <a:pt x="760" y="325"/>
                </a:lnTo>
                <a:lnTo>
                  <a:pt x="774" y="320"/>
                </a:lnTo>
                <a:lnTo>
                  <a:pt x="791" y="314"/>
                </a:lnTo>
                <a:lnTo>
                  <a:pt x="809" y="309"/>
                </a:lnTo>
                <a:lnTo>
                  <a:pt x="826" y="305"/>
                </a:lnTo>
                <a:lnTo>
                  <a:pt x="844" y="300"/>
                </a:lnTo>
                <a:lnTo>
                  <a:pt x="863" y="297"/>
                </a:lnTo>
                <a:lnTo>
                  <a:pt x="880" y="294"/>
                </a:lnTo>
                <a:lnTo>
                  <a:pt x="899" y="291"/>
                </a:lnTo>
                <a:lnTo>
                  <a:pt x="916" y="289"/>
                </a:lnTo>
                <a:lnTo>
                  <a:pt x="935" y="286"/>
                </a:lnTo>
                <a:lnTo>
                  <a:pt x="954" y="283"/>
                </a:lnTo>
                <a:lnTo>
                  <a:pt x="974" y="280"/>
                </a:lnTo>
                <a:lnTo>
                  <a:pt x="993" y="279"/>
                </a:lnTo>
                <a:lnTo>
                  <a:pt x="1012" y="276"/>
                </a:lnTo>
                <a:lnTo>
                  <a:pt x="1031" y="274"/>
                </a:lnTo>
                <a:lnTo>
                  <a:pt x="1051" y="273"/>
                </a:lnTo>
                <a:lnTo>
                  <a:pt x="1069" y="271"/>
                </a:lnTo>
                <a:lnTo>
                  <a:pt x="1088" y="271"/>
                </a:lnTo>
                <a:lnTo>
                  <a:pt x="1107" y="271"/>
                </a:lnTo>
                <a:lnTo>
                  <a:pt x="1126" y="273"/>
                </a:lnTo>
                <a:lnTo>
                  <a:pt x="1143" y="273"/>
                </a:lnTo>
                <a:lnTo>
                  <a:pt x="1162" y="274"/>
                </a:lnTo>
                <a:lnTo>
                  <a:pt x="1181" y="277"/>
                </a:lnTo>
                <a:lnTo>
                  <a:pt x="1199" y="280"/>
                </a:lnTo>
                <a:lnTo>
                  <a:pt x="1218" y="283"/>
                </a:lnTo>
                <a:lnTo>
                  <a:pt x="1237" y="288"/>
                </a:lnTo>
                <a:lnTo>
                  <a:pt x="1254" y="292"/>
                </a:lnTo>
                <a:lnTo>
                  <a:pt x="1273" y="297"/>
                </a:lnTo>
                <a:lnTo>
                  <a:pt x="1290" y="303"/>
                </a:lnTo>
                <a:lnTo>
                  <a:pt x="1309" y="309"/>
                </a:lnTo>
                <a:lnTo>
                  <a:pt x="1327" y="316"/>
                </a:lnTo>
                <a:lnTo>
                  <a:pt x="1344" y="323"/>
                </a:lnTo>
                <a:lnTo>
                  <a:pt x="1362" y="331"/>
                </a:lnTo>
                <a:lnTo>
                  <a:pt x="1381" y="339"/>
                </a:lnTo>
                <a:lnTo>
                  <a:pt x="1398" y="348"/>
                </a:lnTo>
                <a:lnTo>
                  <a:pt x="1417" y="357"/>
                </a:lnTo>
                <a:lnTo>
                  <a:pt x="1435" y="366"/>
                </a:lnTo>
                <a:lnTo>
                  <a:pt x="1452" y="375"/>
                </a:lnTo>
                <a:lnTo>
                  <a:pt x="1470" y="385"/>
                </a:lnTo>
                <a:lnTo>
                  <a:pt x="1482" y="391"/>
                </a:lnTo>
                <a:lnTo>
                  <a:pt x="1493" y="397"/>
                </a:lnTo>
                <a:lnTo>
                  <a:pt x="1506" y="403"/>
                </a:lnTo>
                <a:lnTo>
                  <a:pt x="1517" y="409"/>
                </a:lnTo>
                <a:lnTo>
                  <a:pt x="1528" y="415"/>
                </a:lnTo>
                <a:lnTo>
                  <a:pt x="1539" y="421"/>
                </a:lnTo>
                <a:lnTo>
                  <a:pt x="1550" y="429"/>
                </a:lnTo>
                <a:lnTo>
                  <a:pt x="1560" y="437"/>
                </a:lnTo>
                <a:lnTo>
                  <a:pt x="1571" y="446"/>
                </a:lnTo>
                <a:lnTo>
                  <a:pt x="1579" y="454"/>
                </a:lnTo>
                <a:lnTo>
                  <a:pt x="1588" y="461"/>
                </a:lnTo>
                <a:lnTo>
                  <a:pt x="1596" y="470"/>
                </a:lnTo>
                <a:lnTo>
                  <a:pt x="1604" y="480"/>
                </a:lnTo>
                <a:lnTo>
                  <a:pt x="1611" y="490"/>
                </a:lnTo>
                <a:lnTo>
                  <a:pt x="1619" y="500"/>
                </a:lnTo>
                <a:lnTo>
                  <a:pt x="1625" y="510"/>
                </a:lnTo>
                <a:lnTo>
                  <a:pt x="1630" y="521"/>
                </a:lnTo>
                <a:lnTo>
                  <a:pt x="1636" y="532"/>
                </a:lnTo>
                <a:lnTo>
                  <a:pt x="1641" y="544"/>
                </a:lnTo>
                <a:lnTo>
                  <a:pt x="1647" y="558"/>
                </a:lnTo>
                <a:lnTo>
                  <a:pt x="1652" y="572"/>
                </a:lnTo>
                <a:lnTo>
                  <a:pt x="1655" y="585"/>
                </a:lnTo>
                <a:lnTo>
                  <a:pt x="1660" y="599"/>
                </a:lnTo>
                <a:lnTo>
                  <a:pt x="1663" y="615"/>
                </a:lnTo>
                <a:lnTo>
                  <a:pt x="1664" y="628"/>
                </a:lnTo>
                <a:lnTo>
                  <a:pt x="1668" y="642"/>
                </a:lnTo>
                <a:lnTo>
                  <a:pt x="1669" y="658"/>
                </a:lnTo>
                <a:lnTo>
                  <a:pt x="1671" y="671"/>
                </a:lnTo>
                <a:lnTo>
                  <a:pt x="1671" y="687"/>
                </a:lnTo>
                <a:lnTo>
                  <a:pt x="1671" y="701"/>
                </a:lnTo>
                <a:lnTo>
                  <a:pt x="1671" y="714"/>
                </a:lnTo>
                <a:lnTo>
                  <a:pt x="1671" y="730"/>
                </a:lnTo>
                <a:lnTo>
                  <a:pt x="1669" y="743"/>
                </a:lnTo>
                <a:lnTo>
                  <a:pt x="1668" y="757"/>
                </a:lnTo>
                <a:lnTo>
                  <a:pt x="1664" y="770"/>
                </a:lnTo>
                <a:lnTo>
                  <a:pt x="1661" y="782"/>
                </a:lnTo>
                <a:lnTo>
                  <a:pt x="1658" y="794"/>
                </a:lnTo>
                <a:lnTo>
                  <a:pt x="1655" y="806"/>
                </a:lnTo>
                <a:lnTo>
                  <a:pt x="1650" y="817"/>
                </a:lnTo>
                <a:lnTo>
                  <a:pt x="1645" y="829"/>
                </a:lnTo>
                <a:lnTo>
                  <a:pt x="1639" y="840"/>
                </a:lnTo>
                <a:lnTo>
                  <a:pt x="1634" y="851"/>
                </a:lnTo>
                <a:lnTo>
                  <a:pt x="1625" y="865"/>
                </a:lnTo>
                <a:lnTo>
                  <a:pt x="1617" y="878"/>
                </a:lnTo>
                <a:lnTo>
                  <a:pt x="1607" y="891"/>
                </a:lnTo>
                <a:lnTo>
                  <a:pt x="1596" y="903"/>
                </a:lnTo>
                <a:lnTo>
                  <a:pt x="1587" y="915"/>
                </a:lnTo>
                <a:lnTo>
                  <a:pt x="1576" y="926"/>
                </a:lnTo>
                <a:lnTo>
                  <a:pt x="1563" y="938"/>
                </a:lnTo>
                <a:lnTo>
                  <a:pt x="1552" y="949"/>
                </a:lnTo>
                <a:lnTo>
                  <a:pt x="1542" y="957"/>
                </a:lnTo>
                <a:lnTo>
                  <a:pt x="1533" y="964"/>
                </a:lnTo>
                <a:lnTo>
                  <a:pt x="1523" y="974"/>
                </a:lnTo>
                <a:lnTo>
                  <a:pt x="1514" y="981"/>
                </a:lnTo>
                <a:lnTo>
                  <a:pt x="1503" y="987"/>
                </a:lnTo>
                <a:lnTo>
                  <a:pt x="1493" y="995"/>
                </a:lnTo>
                <a:lnTo>
                  <a:pt x="1482" y="1001"/>
                </a:lnTo>
                <a:lnTo>
                  <a:pt x="1473" y="1007"/>
                </a:lnTo>
                <a:lnTo>
                  <a:pt x="1458" y="1015"/>
                </a:lnTo>
                <a:lnTo>
                  <a:pt x="1444" y="1021"/>
                </a:lnTo>
                <a:lnTo>
                  <a:pt x="1432" y="1027"/>
                </a:lnTo>
                <a:lnTo>
                  <a:pt x="1417" y="1033"/>
                </a:lnTo>
                <a:lnTo>
                  <a:pt x="1403" y="1038"/>
                </a:lnTo>
                <a:lnTo>
                  <a:pt x="1387" y="1043"/>
                </a:lnTo>
                <a:lnTo>
                  <a:pt x="1373" y="1047"/>
                </a:lnTo>
                <a:lnTo>
                  <a:pt x="1359" y="1053"/>
                </a:lnTo>
                <a:lnTo>
                  <a:pt x="1344" y="1058"/>
                </a:lnTo>
                <a:lnTo>
                  <a:pt x="1328" y="1063"/>
                </a:lnTo>
                <a:lnTo>
                  <a:pt x="1314" y="1067"/>
                </a:lnTo>
                <a:lnTo>
                  <a:pt x="1300" y="1073"/>
                </a:lnTo>
                <a:lnTo>
                  <a:pt x="1284" y="1078"/>
                </a:lnTo>
                <a:lnTo>
                  <a:pt x="1270" y="1081"/>
                </a:lnTo>
                <a:lnTo>
                  <a:pt x="1254" y="1086"/>
                </a:lnTo>
                <a:lnTo>
                  <a:pt x="1238" y="1089"/>
                </a:lnTo>
                <a:lnTo>
                  <a:pt x="1221" y="1092"/>
                </a:lnTo>
                <a:lnTo>
                  <a:pt x="1203" y="1095"/>
                </a:lnTo>
                <a:lnTo>
                  <a:pt x="1186" y="1096"/>
                </a:lnTo>
                <a:lnTo>
                  <a:pt x="1167" y="1098"/>
                </a:lnTo>
                <a:lnTo>
                  <a:pt x="1149" y="1099"/>
                </a:lnTo>
                <a:lnTo>
                  <a:pt x="1132" y="1099"/>
                </a:lnTo>
                <a:lnTo>
                  <a:pt x="1115" y="1099"/>
                </a:lnTo>
                <a:lnTo>
                  <a:pt x="1097" y="1099"/>
                </a:lnTo>
                <a:lnTo>
                  <a:pt x="1080" y="1099"/>
                </a:lnTo>
                <a:lnTo>
                  <a:pt x="1064" y="1099"/>
                </a:lnTo>
                <a:lnTo>
                  <a:pt x="1046" y="1098"/>
                </a:lnTo>
                <a:lnTo>
                  <a:pt x="1029" y="1096"/>
                </a:lnTo>
                <a:lnTo>
                  <a:pt x="1012" y="1095"/>
                </a:lnTo>
                <a:lnTo>
                  <a:pt x="996" y="1092"/>
                </a:lnTo>
                <a:lnTo>
                  <a:pt x="981" y="1090"/>
                </a:lnTo>
                <a:lnTo>
                  <a:pt x="966" y="1087"/>
                </a:lnTo>
                <a:lnTo>
                  <a:pt x="951" y="1084"/>
                </a:lnTo>
                <a:lnTo>
                  <a:pt x="937" y="1079"/>
                </a:lnTo>
                <a:lnTo>
                  <a:pt x="923" y="1075"/>
                </a:lnTo>
                <a:lnTo>
                  <a:pt x="907" y="1070"/>
                </a:lnTo>
                <a:lnTo>
                  <a:pt x="894" y="1066"/>
                </a:lnTo>
                <a:lnTo>
                  <a:pt x="880" y="1059"/>
                </a:lnTo>
                <a:lnTo>
                  <a:pt x="864" y="1053"/>
                </a:lnTo>
                <a:lnTo>
                  <a:pt x="848" y="1044"/>
                </a:lnTo>
                <a:lnTo>
                  <a:pt x="832" y="1036"/>
                </a:lnTo>
                <a:lnTo>
                  <a:pt x="818" y="1027"/>
                </a:lnTo>
                <a:lnTo>
                  <a:pt x="802" y="1018"/>
                </a:lnTo>
                <a:lnTo>
                  <a:pt x="788" y="1009"/>
                </a:lnTo>
                <a:lnTo>
                  <a:pt x="772" y="998"/>
                </a:lnTo>
                <a:lnTo>
                  <a:pt x="758" y="989"/>
                </a:lnTo>
                <a:lnTo>
                  <a:pt x="742" y="980"/>
                </a:lnTo>
                <a:lnTo>
                  <a:pt x="731" y="972"/>
                </a:lnTo>
                <a:lnTo>
                  <a:pt x="718" y="964"/>
                </a:lnTo>
                <a:lnTo>
                  <a:pt x="706" y="957"/>
                </a:lnTo>
                <a:lnTo>
                  <a:pt x="695" y="949"/>
                </a:lnTo>
                <a:lnTo>
                  <a:pt x="683" y="941"/>
                </a:lnTo>
                <a:lnTo>
                  <a:pt x="672" y="934"/>
                </a:lnTo>
                <a:lnTo>
                  <a:pt x="661" y="926"/>
                </a:lnTo>
                <a:lnTo>
                  <a:pt x="650" y="917"/>
                </a:lnTo>
                <a:lnTo>
                  <a:pt x="641" y="908"/>
                </a:lnTo>
                <a:lnTo>
                  <a:pt x="631" y="898"/>
                </a:lnTo>
                <a:lnTo>
                  <a:pt x="623" y="888"/>
                </a:lnTo>
                <a:lnTo>
                  <a:pt x="615" y="877"/>
                </a:lnTo>
                <a:lnTo>
                  <a:pt x="609" y="865"/>
                </a:lnTo>
                <a:lnTo>
                  <a:pt x="603" y="854"/>
                </a:lnTo>
                <a:lnTo>
                  <a:pt x="598" y="842"/>
                </a:lnTo>
                <a:lnTo>
                  <a:pt x="593" y="828"/>
                </a:lnTo>
                <a:lnTo>
                  <a:pt x="590" y="816"/>
                </a:lnTo>
                <a:lnTo>
                  <a:pt x="587" y="802"/>
                </a:lnTo>
                <a:lnTo>
                  <a:pt x="585" y="790"/>
                </a:lnTo>
                <a:lnTo>
                  <a:pt x="584" y="776"/>
                </a:lnTo>
                <a:lnTo>
                  <a:pt x="582" y="762"/>
                </a:lnTo>
                <a:lnTo>
                  <a:pt x="582" y="750"/>
                </a:lnTo>
                <a:lnTo>
                  <a:pt x="582" y="737"/>
                </a:lnTo>
                <a:lnTo>
                  <a:pt x="584" y="727"/>
                </a:lnTo>
                <a:lnTo>
                  <a:pt x="585" y="716"/>
                </a:lnTo>
                <a:lnTo>
                  <a:pt x="585" y="705"/>
                </a:lnTo>
                <a:lnTo>
                  <a:pt x="587" y="694"/>
                </a:lnTo>
                <a:lnTo>
                  <a:pt x="590" y="684"/>
                </a:lnTo>
                <a:lnTo>
                  <a:pt x="592" y="671"/>
                </a:lnTo>
                <a:lnTo>
                  <a:pt x="593" y="661"/>
                </a:lnTo>
                <a:lnTo>
                  <a:pt x="595" y="650"/>
                </a:lnTo>
                <a:lnTo>
                  <a:pt x="598" y="639"/>
                </a:lnTo>
                <a:lnTo>
                  <a:pt x="600" y="628"/>
                </a:lnTo>
                <a:lnTo>
                  <a:pt x="603" y="618"/>
                </a:lnTo>
                <a:lnTo>
                  <a:pt x="604" y="607"/>
                </a:lnTo>
                <a:lnTo>
                  <a:pt x="607" y="596"/>
                </a:lnTo>
                <a:lnTo>
                  <a:pt x="611" y="585"/>
                </a:lnTo>
                <a:lnTo>
                  <a:pt x="614" y="576"/>
                </a:lnTo>
                <a:lnTo>
                  <a:pt x="619" y="566"/>
                </a:lnTo>
                <a:lnTo>
                  <a:pt x="623" y="556"/>
                </a:lnTo>
                <a:lnTo>
                  <a:pt x="630" y="546"/>
                </a:lnTo>
                <a:lnTo>
                  <a:pt x="638" y="536"/>
                </a:lnTo>
                <a:lnTo>
                  <a:pt x="645" y="526"/>
                </a:lnTo>
                <a:lnTo>
                  <a:pt x="653" y="516"/>
                </a:lnTo>
                <a:lnTo>
                  <a:pt x="663" y="509"/>
                </a:lnTo>
                <a:lnTo>
                  <a:pt x="674" y="500"/>
                </a:lnTo>
                <a:lnTo>
                  <a:pt x="683" y="492"/>
                </a:lnTo>
                <a:lnTo>
                  <a:pt x="695" y="484"/>
                </a:lnTo>
                <a:lnTo>
                  <a:pt x="706" y="478"/>
                </a:lnTo>
                <a:lnTo>
                  <a:pt x="718" y="469"/>
                </a:lnTo>
                <a:lnTo>
                  <a:pt x="731" y="461"/>
                </a:lnTo>
                <a:lnTo>
                  <a:pt x="745" y="455"/>
                </a:lnTo>
                <a:lnTo>
                  <a:pt x="760" y="449"/>
                </a:lnTo>
                <a:lnTo>
                  <a:pt x="774" y="443"/>
                </a:lnTo>
                <a:lnTo>
                  <a:pt x="788" y="437"/>
                </a:lnTo>
                <a:lnTo>
                  <a:pt x="802" y="431"/>
                </a:lnTo>
                <a:lnTo>
                  <a:pt x="823" y="423"/>
                </a:lnTo>
                <a:lnTo>
                  <a:pt x="844" y="417"/>
                </a:lnTo>
                <a:lnTo>
                  <a:pt x="866" y="409"/>
                </a:lnTo>
                <a:lnTo>
                  <a:pt x="888" y="403"/>
                </a:lnTo>
                <a:lnTo>
                  <a:pt x="910" y="397"/>
                </a:lnTo>
                <a:lnTo>
                  <a:pt x="932" y="391"/>
                </a:lnTo>
                <a:lnTo>
                  <a:pt x="945" y="388"/>
                </a:lnTo>
                <a:lnTo>
                  <a:pt x="958" y="385"/>
                </a:lnTo>
                <a:lnTo>
                  <a:pt x="970" y="381"/>
                </a:lnTo>
                <a:lnTo>
                  <a:pt x="983" y="378"/>
                </a:lnTo>
                <a:lnTo>
                  <a:pt x="996" y="375"/>
                </a:lnTo>
                <a:lnTo>
                  <a:pt x="1010" y="374"/>
                </a:lnTo>
                <a:lnTo>
                  <a:pt x="1023" y="371"/>
                </a:lnTo>
                <a:lnTo>
                  <a:pt x="1035" y="369"/>
                </a:lnTo>
                <a:lnTo>
                  <a:pt x="1050" y="369"/>
                </a:lnTo>
                <a:lnTo>
                  <a:pt x="1062" y="369"/>
                </a:lnTo>
                <a:lnTo>
                  <a:pt x="1077" y="369"/>
                </a:lnTo>
                <a:lnTo>
                  <a:pt x="1089" y="369"/>
                </a:lnTo>
                <a:lnTo>
                  <a:pt x="1103" y="369"/>
                </a:lnTo>
                <a:lnTo>
                  <a:pt x="1116" y="371"/>
                </a:lnTo>
                <a:lnTo>
                  <a:pt x="1130" y="372"/>
                </a:lnTo>
                <a:lnTo>
                  <a:pt x="1143" y="374"/>
                </a:lnTo>
                <a:lnTo>
                  <a:pt x="1159" y="375"/>
                </a:lnTo>
                <a:lnTo>
                  <a:pt x="1173" y="377"/>
                </a:lnTo>
                <a:lnTo>
                  <a:pt x="1189" y="378"/>
                </a:lnTo>
                <a:lnTo>
                  <a:pt x="1205" y="380"/>
                </a:lnTo>
                <a:lnTo>
                  <a:pt x="1219" y="381"/>
                </a:lnTo>
                <a:lnTo>
                  <a:pt x="1235" y="385"/>
                </a:lnTo>
                <a:lnTo>
                  <a:pt x="1249" y="388"/>
                </a:lnTo>
                <a:lnTo>
                  <a:pt x="1267" y="392"/>
                </a:lnTo>
                <a:lnTo>
                  <a:pt x="1283" y="397"/>
                </a:lnTo>
                <a:lnTo>
                  <a:pt x="1298" y="403"/>
                </a:lnTo>
                <a:lnTo>
                  <a:pt x="1316" y="409"/>
                </a:lnTo>
                <a:lnTo>
                  <a:pt x="1332" y="415"/>
                </a:lnTo>
                <a:lnTo>
                  <a:pt x="1348" y="423"/>
                </a:lnTo>
                <a:lnTo>
                  <a:pt x="1362" y="431"/>
                </a:lnTo>
                <a:lnTo>
                  <a:pt x="1374" y="438"/>
                </a:lnTo>
                <a:lnTo>
                  <a:pt x="1387" y="444"/>
                </a:lnTo>
                <a:lnTo>
                  <a:pt x="1398" y="452"/>
                </a:lnTo>
                <a:lnTo>
                  <a:pt x="1409" y="460"/>
                </a:lnTo>
                <a:lnTo>
                  <a:pt x="1420" y="469"/>
                </a:lnTo>
                <a:lnTo>
                  <a:pt x="1432" y="477"/>
                </a:lnTo>
                <a:lnTo>
                  <a:pt x="1441" y="486"/>
                </a:lnTo>
                <a:lnTo>
                  <a:pt x="1451" y="497"/>
                </a:lnTo>
                <a:lnTo>
                  <a:pt x="1458" y="506"/>
                </a:lnTo>
                <a:lnTo>
                  <a:pt x="1466" y="516"/>
                </a:lnTo>
                <a:lnTo>
                  <a:pt x="1473" y="526"/>
                </a:lnTo>
                <a:lnTo>
                  <a:pt x="1479" y="536"/>
                </a:lnTo>
                <a:lnTo>
                  <a:pt x="1484" y="547"/>
                </a:lnTo>
                <a:lnTo>
                  <a:pt x="1489" y="558"/>
                </a:lnTo>
                <a:lnTo>
                  <a:pt x="1493" y="569"/>
                </a:lnTo>
                <a:lnTo>
                  <a:pt x="1498" y="581"/>
                </a:lnTo>
                <a:lnTo>
                  <a:pt x="1503" y="592"/>
                </a:lnTo>
                <a:lnTo>
                  <a:pt x="1508" y="604"/>
                </a:lnTo>
                <a:lnTo>
                  <a:pt x="1511" y="613"/>
                </a:lnTo>
                <a:lnTo>
                  <a:pt x="1515" y="624"/>
                </a:lnTo>
                <a:lnTo>
                  <a:pt x="1519" y="633"/>
                </a:lnTo>
                <a:lnTo>
                  <a:pt x="1522" y="644"/>
                </a:lnTo>
                <a:lnTo>
                  <a:pt x="1525" y="653"/>
                </a:lnTo>
                <a:lnTo>
                  <a:pt x="1527" y="664"/>
                </a:lnTo>
                <a:lnTo>
                  <a:pt x="1530" y="673"/>
                </a:lnTo>
                <a:lnTo>
                  <a:pt x="1531" y="684"/>
                </a:lnTo>
                <a:lnTo>
                  <a:pt x="1531" y="693"/>
                </a:lnTo>
                <a:lnTo>
                  <a:pt x="1531" y="705"/>
                </a:lnTo>
                <a:lnTo>
                  <a:pt x="1531" y="719"/>
                </a:lnTo>
                <a:lnTo>
                  <a:pt x="1530" y="731"/>
                </a:lnTo>
                <a:lnTo>
                  <a:pt x="1527" y="743"/>
                </a:lnTo>
                <a:lnTo>
                  <a:pt x="1523" y="756"/>
                </a:lnTo>
                <a:lnTo>
                  <a:pt x="1519" y="768"/>
                </a:lnTo>
                <a:lnTo>
                  <a:pt x="1514" y="780"/>
                </a:lnTo>
                <a:lnTo>
                  <a:pt x="1509" y="793"/>
                </a:lnTo>
                <a:lnTo>
                  <a:pt x="1504" y="805"/>
                </a:lnTo>
                <a:lnTo>
                  <a:pt x="1498" y="816"/>
                </a:lnTo>
                <a:lnTo>
                  <a:pt x="1492" y="828"/>
                </a:lnTo>
                <a:lnTo>
                  <a:pt x="1484" y="839"/>
                </a:lnTo>
                <a:lnTo>
                  <a:pt x="1477" y="848"/>
                </a:lnTo>
                <a:lnTo>
                  <a:pt x="1470" y="859"/>
                </a:lnTo>
                <a:lnTo>
                  <a:pt x="1462" y="868"/>
                </a:lnTo>
                <a:lnTo>
                  <a:pt x="1452" y="877"/>
                </a:lnTo>
                <a:lnTo>
                  <a:pt x="1443" y="885"/>
                </a:lnTo>
                <a:lnTo>
                  <a:pt x="1433" y="892"/>
                </a:lnTo>
                <a:lnTo>
                  <a:pt x="1424" y="898"/>
                </a:lnTo>
                <a:lnTo>
                  <a:pt x="1414" y="905"/>
                </a:lnTo>
                <a:lnTo>
                  <a:pt x="1405" y="911"/>
                </a:lnTo>
                <a:lnTo>
                  <a:pt x="1393" y="915"/>
                </a:lnTo>
                <a:lnTo>
                  <a:pt x="1384" y="920"/>
                </a:lnTo>
                <a:lnTo>
                  <a:pt x="1373" y="925"/>
                </a:lnTo>
                <a:lnTo>
                  <a:pt x="1362" y="928"/>
                </a:lnTo>
                <a:lnTo>
                  <a:pt x="1351" y="932"/>
                </a:lnTo>
                <a:lnTo>
                  <a:pt x="1340" y="935"/>
                </a:lnTo>
                <a:lnTo>
                  <a:pt x="1321" y="943"/>
                </a:lnTo>
                <a:lnTo>
                  <a:pt x="1302" y="949"/>
                </a:lnTo>
                <a:lnTo>
                  <a:pt x="1283" y="954"/>
                </a:lnTo>
                <a:lnTo>
                  <a:pt x="1264" y="960"/>
                </a:lnTo>
                <a:lnTo>
                  <a:pt x="1245" y="964"/>
                </a:lnTo>
                <a:lnTo>
                  <a:pt x="1225" y="969"/>
                </a:lnTo>
                <a:lnTo>
                  <a:pt x="1206" y="974"/>
                </a:lnTo>
                <a:lnTo>
                  <a:pt x="1189" y="977"/>
                </a:lnTo>
                <a:lnTo>
                  <a:pt x="1170" y="980"/>
                </a:lnTo>
                <a:lnTo>
                  <a:pt x="1153" y="983"/>
                </a:lnTo>
                <a:lnTo>
                  <a:pt x="1134" y="984"/>
                </a:lnTo>
                <a:lnTo>
                  <a:pt x="1116" y="986"/>
                </a:lnTo>
                <a:lnTo>
                  <a:pt x="1097" y="987"/>
                </a:lnTo>
                <a:lnTo>
                  <a:pt x="1080" y="987"/>
                </a:lnTo>
                <a:lnTo>
                  <a:pt x="1061" y="986"/>
                </a:lnTo>
                <a:lnTo>
                  <a:pt x="1043" y="984"/>
                </a:lnTo>
                <a:lnTo>
                  <a:pt x="1026" y="983"/>
                </a:lnTo>
                <a:lnTo>
                  <a:pt x="1008" y="978"/>
                </a:lnTo>
                <a:lnTo>
                  <a:pt x="991" y="975"/>
                </a:lnTo>
                <a:lnTo>
                  <a:pt x="974" y="971"/>
                </a:lnTo>
                <a:lnTo>
                  <a:pt x="956" y="964"/>
                </a:lnTo>
                <a:lnTo>
                  <a:pt x="940" y="958"/>
                </a:lnTo>
                <a:lnTo>
                  <a:pt x="923" y="952"/>
                </a:lnTo>
                <a:lnTo>
                  <a:pt x="907" y="944"/>
                </a:lnTo>
                <a:lnTo>
                  <a:pt x="891" y="938"/>
                </a:lnTo>
                <a:lnTo>
                  <a:pt x="878" y="932"/>
                </a:lnTo>
                <a:lnTo>
                  <a:pt x="866" y="925"/>
                </a:lnTo>
                <a:lnTo>
                  <a:pt x="853" y="918"/>
                </a:lnTo>
                <a:lnTo>
                  <a:pt x="842" y="911"/>
                </a:lnTo>
                <a:lnTo>
                  <a:pt x="829" y="905"/>
                </a:lnTo>
                <a:lnTo>
                  <a:pt x="818" y="895"/>
                </a:lnTo>
                <a:lnTo>
                  <a:pt x="807" y="888"/>
                </a:lnTo>
                <a:lnTo>
                  <a:pt x="798" y="878"/>
                </a:lnTo>
                <a:lnTo>
                  <a:pt x="787" y="869"/>
                </a:lnTo>
                <a:lnTo>
                  <a:pt x="777" y="860"/>
                </a:lnTo>
                <a:lnTo>
                  <a:pt x="769" y="851"/>
                </a:lnTo>
                <a:lnTo>
                  <a:pt x="761" y="840"/>
                </a:lnTo>
                <a:lnTo>
                  <a:pt x="753" y="829"/>
                </a:lnTo>
                <a:lnTo>
                  <a:pt x="747" y="819"/>
                </a:lnTo>
                <a:lnTo>
                  <a:pt x="741" y="808"/>
                </a:lnTo>
                <a:lnTo>
                  <a:pt x="736" y="796"/>
                </a:lnTo>
                <a:lnTo>
                  <a:pt x="731" y="785"/>
                </a:lnTo>
                <a:lnTo>
                  <a:pt x="728" y="773"/>
                </a:lnTo>
                <a:lnTo>
                  <a:pt x="725" y="762"/>
                </a:lnTo>
                <a:lnTo>
                  <a:pt x="723" y="750"/>
                </a:lnTo>
                <a:lnTo>
                  <a:pt x="722" y="739"/>
                </a:lnTo>
                <a:lnTo>
                  <a:pt x="722" y="728"/>
                </a:lnTo>
                <a:lnTo>
                  <a:pt x="722" y="716"/>
                </a:lnTo>
                <a:lnTo>
                  <a:pt x="723" y="705"/>
                </a:lnTo>
                <a:lnTo>
                  <a:pt x="725" y="694"/>
                </a:lnTo>
                <a:lnTo>
                  <a:pt x="726" y="682"/>
                </a:lnTo>
                <a:lnTo>
                  <a:pt x="729" y="671"/>
                </a:lnTo>
                <a:lnTo>
                  <a:pt x="734" y="659"/>
                </a:lnTo>
                <a:lnTo>
                  <a:pt x="739" y="645"/>
                </a:lnTo>
                <a:lnTo>
                  <a:pt x="744" y="633"/>
                </a:lnTo>
                <a:lnTo>
                  <a:pt x="752" y="621"/>
                </a:lnTo>
                <a:lnTo>
                  <a:pt x="758" y="610"/>
                </a:lnTo>
                <a:lnTo>
                  <a:pt x="766" y="599"/>
                </a:lnTo>
                <a:lnTo>
                  <a:pt x="775" y="587"/>
                </a:lnTo>
                <a:lnTo>
                  <a:pt x="785" y="578"/>
                </a:lnTo>
                <a:lnTo>
                  <a:pt x="794" y="567"/>
                </a:lnTo>
                <a:lnTo>
                  <a:pt x="806" y="558"/>
                </a:lnTo>
                <a:lnTo>
                  <a:pt x="817" y="549"/>
                </a:lnTo>
                <a:lnTo>
                  <a:pt x="828" y="539"/>
                </a:lnTo>
                <a:lnTo>
                  <a:pt x="840" y="532"/>
                </a:lnTo>
                <a:lnTo>
                  <a:pt x="853" y="524"/>
                </a:lnTo>
                <a:lnTo>
                  <a:pt x="866" y="516"/>
                </a:lnTo>
                <a:lnTo>
                  <a:pt x="878" y="510"/>
                </a:lnTo>
                <a:lnTo>
                  <a:pt x="893" y="504"/>
                </a:lnTo>
                <a:lnTo>
                  <a:pt x="905" y="500"/>
                </a:lnTo>
                <a:lnTo>
                  <a:pt x="921" y="493"/>
                </a:lnTo>
                <a:lnTo>
                  <a:pt x="939" y="489"/>
                </a:lnTo>
                <a:lnTo>
                  <a:pt x="954" y="486"/>
                </a:lnTo>
                <a:lnTo>
                  <a:pt x="972" y="483"/>
                </a:lnTo>
                <a:lnTo>
                  <a:pt x="988" y="480"/>
                </a:lnTo>
                <a:lnTo>
                  <a:pt x="1005" y="478"/>
                </a:lnTo>
                <a:lnTo>
                  <a:pt x="1023" y="475"/>
                </a:lnTo>
                <a:lnTo>
                  <a:pt x="1040" y="474"/>
                </a:lnTo>
                <a:lnTo>
                  <a:pt x="1053" y="474"/>
                </a:lnTo>
                <a:lnTo>
                  <a:pt x="1067" y="472"/>
                </a:lnTo>
                <a:lnTo>
                  <a:pt x="1081" y="470"/>
                </a:lnTo>
                <a:lnTo>
                  <a:pt x="1096" y="470"/>
                </a:lnTo>
                <a:lnTo>
                  <a:pt x="1110" y="470"/>
                </a:lnTo>
                <a:lnTo>
                  <a:pt x="1122" y="472"/>
                </a:lnTo>
                <a:lnTo>
                  <a:pt x="1137" y="472"/>
                </a:lnTo>
                <a:lnTo>
                  <a:pt x="1151" y="474"/>
                </a:lnTo>
                <a:lnTo>
                  <a:pt x="1165" y="477"/>
                </a:lnTo>
                <a:lnTo>
                  <a:pt x="1180" y="480"/>
                </a:lnTo>
                <a:lnTo>
                  <a:pt x="1194" y="484"/>
                </a:lnTo>
                <a:lnTo>
                  <a:pt x="1208" y="489"/>
                </a:lnTo>
                <a:lnTo>
                  <a:pt x="1222" y="493"/>
                </a:lnTo>
                <a:lnTo>
                  <a:pt x="1237" y="500"/>
                </a:lnTo>
                <a:lnTo>
                  <a:pt x="1251" y="506"/>
                </a:lnTo>
                <a:lnTo>
                  <a:pt x="1264" y="513"/>
                </a:lnTo>
                <a:lnTo>
                  <a:pt x="1275" y="520"/>
                </a:lnTo>
                <a:lnTo>
                  <a:pt x="1284" y="526"/>
                </a:lnTo>
                <a:lnTo>
                  <a:pt x="1294" y="532"/>
                </a:lnTo>
                <a:lnTo>
                  <a:pt x="1303" y="538"/>
                </a:lnTo>
                <a:lnTo>
                  <a:pt x="1313" y="546"/>
                </a:lnTo>
                <a:lnTo>
                  <a:pt x="1321" y="552"/>
                </a:lnTo>
                <a:lnTo>
                  <a:pt x="1330" y="559"/>
                </a:lnTo>
                <a:lnTo>
                  <a:pt x="1336" y="569"/>
                </a:lnTo>
                <a:lnTo>
                  <a:pt x="1344" y="576"/>
                </a:lnTo>
                <a:lnTo>
                  <a:pt x="1351" y="585"/>
                </a:lnTo>
                <a:lnTo>
                  <a:pt x="1355" y="595"/>
                </a:lnTo>
                <a:lnTo>
                  <a:pt x="1360" y="604"/>
                </a:lnTo>
                <a:lnTo>
                  <a:pt x="1365" y="613"/>
                </a:lnTo>
                <a:lnTo>
                  <a:pt x="1370" y="622"/>
                </a:lnTo>
                <a:lnTo>
                  <a:pt x="1373" y="633"/>
                </a:lnTo>
                <a:lnTo>
                  <a:pt x="1376" y="644"/>
                </a:lnTo>
                <a:lnTo>
                  <a:pt x="1379" y="655"/>
                </a:lnTo>
                <a:lnTo>
                  <a:pt x="1382" y="665"/>
                </a:lnTo>
                <a:lnTo>
                  <a:pt x="1386" y="673"/>
                </a:lnTo>
                <a:lnTo>
                  <a:pt x="1387" y="682"/>
                </a:lnTo>
                <a:lnTo>
                  <a:pt x="1389" y="690"/>
                </a:lnTo>
                <a:lnTo>
                  <a:pt x="1390" y="699"/>
                </a:lnTo>
                <a:lnTo>
                  <a:pt x="1392" y="708"/>
                </a:lnTo>
                <a:lnTo>
                  <a:pt x="1392" y="716"/>
                </a:lnTo>
                <a:lnTo>
                  <a:pt x="1392" y="725"/>
                </a:lnTo>
                <a:lnTo>
                  <a:pt x="1392" y="733"/>
                </a:lnTo>
                <a:lnTo>
                  <a:pt x="1390" y="740"/>
                </a:lnTo>
                <a:lnTo>
                  <a:pt x="1389" y="750"/>
                </a:lnTo>
                <a:lnTo>
                  <a:pt x="1386" y="756"/>
                </a:lnTo>
                <a:lnTo>
                  <a:pt x="1382" y="763"/>
                </a:lnTo>
                <a:lnTo>
                  <a:pt x="1378" y="770"/>
                </a:lnTo>
                <a:lnTo>
                  <a:pt x="1373" y="777"/>
                </a:lnTo>
                <a:lnTo>
                  <a:pt x="1368" y="783"/>
                </a:lnTo>
                <a:lnTo>
                  <a:pt x="1362" y="790"/>
                </a:lnTo>
                <a:lnTo>
                  <a:pt x="1355" y="796"/>
                </a:lnTo>
                <a:lnTo>
                  <a:pt x="1349" y="800"/>
                </a:lnTo>
                <a:lnTo>
                  <a:pt x="1343" y="806"/>
                </a:lnTo>
                <a:lnTo>
                  <a:pt x="1336" y="813"/>
                </a:lnTo>
                <a:lnTo>
                  <a:pt x="1327" y="820"/>
                </a:lnTo>
                <a:lnTo>
                  <a:pt x="1317" y="828"/>
                </a:lnTo>
                <a:lnTo>
                  <a:pt x="1306" y="834"/>
                </a:lnTo>
                <a:lnTo>
                  <a:pt x="1297" y="842"/>
                </a:lnTo>
                <a:lnTo>
                  <a:pt x="1287" y="848"/>
                </a:lnTo>
                <a:lnTo>
                  <a:pt x="1276" y="854"/>
                </a:lnTo>
                <a:lnTo>
                  <a:pt x="1265" y="860"/>
                </a:lnTo>
                <a:lnTo>
                  <a:pt x="1254" y="866"/>
                </a:lnTo>
                <a:lnTo>
                  <a:pt x="1238" y="874"/>
                </a:lnTo>
                <a:lnTo>
                  <a:pt x="1222" y="880"/>
                </a:lnTo>
                <a:lnTo>
                  <a:pt x="1205" y="886"/>
                </a:lnTo>
                <a:lnTo>
                  <a:pt x="1187" y="891"/>
                </a:lnTo>
                <a:lnTo>
                  <a:pt x="1170" y="895"/>
                </a:lnTo>
                <a:lnTo>
                  <a:pt x="1153" y="898"/>
                </a:lnTo>
                <a:lnTo>
                  <a:pt x="1134" y="900"/>
                </a:lnTo>
                <a:lnTo>
                  <a:pt x="1116" y="901"/>
                </a:lnTo>
                <a:lnTo>
                  <a:pt x="1102" y="903"/>
                </a:lnTo>
                <a:lnTo>
                  <a:pt x="1089" y="901"/>
                </a:lnTo>
                <a:lnTo>
                  <a:pt x="1075" y="901"/>
                </a:lnTo>
                <a:lnTo>
                  <a:pt x="1062" y="900"/>
                </a:lnTo>
                <a:lnTo>
                  <a:pt x="1048" y="898"/>
                </a:lnTo>
                <a:lnTo>
                  <a:pt x="1035" y="895"/>
                </a:lnTo>
                <a:lnTo>
                  <a:pt x="1023" y="892"/>
                </a:lnTo>
                <a:lnTo>
                  <a:pt x="1010" y="889"/>
                </a:lnTo>
                <a:lnTo>
                  <a:pt x="999" y="883"/>
                </a:lnTo>
                <a:lnTo>
                  <a:pt x="989" y="880"/>
                </a:lnTo>
                <a:lnTo>
                  <a:pt x="980" y="874"/>
                </a:lnTo>
                <a:lnTo>
                  <a:pt x="972" y="869"/>
                </a:lnTo>
                <a:lnTo>
                  <a:pt x="962" y="863"/>
                </a:lnTo>
                <a:lnTo>
                  <a:pt x="954" y="857"/>
                </a:lnTo>
                <a:lnTo>
                  <a:pt x="947" y="851"/>
                </a:lnTo>
                <a:lnTo>
                  <a:pt x="939" y="845"/>
                </a:lnTo>
                <a:lnTo>
                  <a:pt x="931" y="837"/>
                </a:lnTo>
                <a:lnTo>
                  <a:pt x="923" y="829"/>
                </a:lnTo>
                <a:lnTo>
                  <a:pt x="915" y="823"/>
                </a:lnTo>
                <a:lnTo>
                  <a:pt x="909" y="817"/>
                </a:lnTo>
                <a:lnTo>
                  <a:pt x="902" y="811"/>
                </a:lnTo>
                <a:lnTo>
                  <a:pt x="896" y="803"/>
                </a:lnTo>
                <a:lnTo>
                  <a:pt x="890" y="796"/>
                </a:lnTo>
                <a:lnTo>
                  <a:pt x="885" y="790"/>
                </a:lnTo>
                <a:lnTo>
                  <a:pt x="880" y="782"/>
                </a:lnTo>
                <a:lnTo>
                  <a:pt x="875" y="774"/>
                </a:lnTo>
                <a:lnTo>
                  <a:pt x="872" y="767"/>
                </a:lnTo>
                <a:lnTo>
                  <a:pt x="869" y="757"/>
                </a:lnTo>
                <a:lnTo>
                  <a:pt x="866" y="748"/>
                </a:lnTo>
                <a:lnTo>
                  <a:pt x="864" y="739"/>
                </a:lnTo>
                <a:lnTo>
                  <a:pt x="864" y="730"/>
                </a:lnTo>
                <a:lnTo>
                  <a:pt x="864" y="719"/>
                </a:lnTo>
                <a:lnTo>
                  <a:pt x="866" y="710"/>
                </a:lnTo>
                <a:lnTo>
                  <a:pt x="867" y="699"/>
                </a:lnTo>
                <a:lnTo>
                  <a:pt x="869" y="690"/>
                </a:lnTo>
                <a:lnTo>
                  <a:pt x="872" y="681"/>
                </a:lnTo>
                <a:lnTo>
                  <a:pt x="875" y="670"/>
                </a:lnTo>
                <a:lnTo>
                  <a:pt x="880" y="661"/>
                </a:lnTo>
                <a:lnTo>
                  <a:pt x="885" y="651"/>
                </a:lnTo>
                <a:lnTo>
                  <a:pt x="890" y="642"/>
                </a:lnTo>
                <a:lnTo>
                  <a:pt x="896" y="633"/>
                </a:lnTo>
                <a:lnTo>
                  <a:pt x="902" y="625"/>
                </a:lnTo>
                <a:lnTo>
                  <a:pt x="909" y="616"/>
                </a:lnTo>
                <a:lnTo>
                  <a:pt x="915" y="608"/>
                </a:lnTo>
                <a:lnTo>
                  <a:pt x="923" y="602"/>
                </a:lnTo>
                <a:lnTo>
                  <a:pt x="931" y="595"/>
                </a:lnTo>
                <a:lnTo>
                  <a:pt x="939" y="589"/>
                </a:lnTo>
                <a:lnTo>
                  <a:pt x="950" y="582"/>
                </a:lnTo>
                <a:lnTo>
                  <a:pt x="961" y="576"/>
                </a:lnTo>
                <a:lnTo>
                  <a:pt x="972" y="570"/>
                </a:lnTo>
                <a:lnTo>
                  <a:pt x="985" y="566"/>
                </a:lnTo>
                <a:lnTo>
                  <a:pt x="996" y="562"/>
                </a:lnTo>
                <a:lnTo>
                  <a:pt x="1008" y="558"/>
                </a:lnTo>
                <a:lnTo>
                  <a:pt x="1021" y="556"/>
                </a:lnTo>
                <a:lnTo>
                  <a:pt x="1034" y="555"/>
                </a:lnTo>
                <a:lnTo>
                  <a:pt x="1046" y="553"/>
                </a:lnTo>
                <a:lnTo>
                  <a:pt x="1059" y="553"/>
                </a:lnTo>
                <a:lnTo>
                  <a:pt x="1072" y="553"/>
                </a:lnTo>
                <a:lnTo>
                  <a:pt x="1084" y="555"/>
                </a:lnTo>
                <a:lnTo>
                  <a:pt x="1097" y="556"/>
                </a:lnTo>
                <a:lnTo>
                  <a:pt x="1110" y="559"/>
                </a:lnTo>
                <a:lnTo>
                  <a:pt x="1121" y="562"/>
                </a:lnTo>
                <a:lnTo>
                  <a:pt x="1134" y="566"/>
                </a:lnTo>
                <a:lnTo>
                  <a:pt x="1145" y="572"/>
                </a:lnTo>
                <a:lnTo>
                  <a:pt x="1154" y="575"/>
                </a:lnTo>
                <a:lnTo>
                  <a:pt x="1162" y="579"/>
                </a:lnTo>
                <a:lnTo>
                  <a:pt x="1170" y="584"/>
                </a:lnTo>
                <a:lnTo>
                  <a:pt x="1178" y="590"/>
                </a:lnTo>
                <a:lnTo>
                  <a:pt x="1186" y="595"/>
                </a:lnTo>
                <a:lnTo>
                  <a:pt x="1192" y="601"/>
                </a:lnTo>
                <a:lnTo>
                  <a:pt x="1199" y="607"/>
                </a:lnTo>
                <a:lnTo>
                  <a:pt x="1205" y="615"/>
                </a:lnTo>
                <a:lnTo>
                  <a:pt x="1210" y="621"/>
                </a:lnTo>
                <a:lnTo>
                  <a:pt x="1214" y="628"/>
                </a:lnTo>
                <a:lnTo>
                  <a:pt x="1219" y="638"/>
                </a:lnTo>
                <a:lnTo>
                  <a:pt x="1222" y="645"/>
                </a:lnTo>
                <a:lnTo>
                  <a:pt x="1225" y="655"/>
                </a:lnTo>
                <a:lnTo>
                  <a:pt x="1229" y="662"/>
                </a:lnTo>
                <a:lnTo>
                  <a:pt x="1230" y="671"/>
                </a:lnTo>
                <a:lnTo>
                  <a:pt x="1233" y="681"/>
                </a:lnTo>
                <a:lnTo>
                  <a:pt x="1235" y="691"/>
                </a:lnTo>
                <a:lnTo>
                  <a:pt x="1237" y="701"/>
                </a:lnTo>
                <a:lnTo>
                  <a:pt x="1237" y="707"/>
                </a:lnTo>
                <a:lnTo>
                  <a:pt x="1238" y="713"/>
                </a:lnTo>
                <a:lnTo>
                  <a:pt x="1238" y="719"/>
                </a:lnTo>
                <a:lnTo>
                  <a:pt x="1240" y="725"/>
                </a:lnTo>
                <a:lnTo>
                  <a:pt x="1240" y="731"/>
                </a:lnTo>
                <a:lnTo>
                  <a:pt x="1240" y="737"/>
                </a:lnTo>
                <a:lnTo>
                  <a:pt x="1240" y="743"/>
                </a:lnTo>
                <a:lnTo>
                  <a:pt x="1238" y="748"/>
                </a:lnTo>
                <a:lnTo>
                  <a:pt x="1237" y="754"/>
                </a:lnTo>
                <a:lnTo>
                  <a:pt x="1235" y="759"/>
                </a:lnTo>
                <a:lnTo>
                  <a:pt x="1232" y="763"/>
                </a:lnTo>
                <a:lnTo>
                  <a:pt x="1229" y="768"/>
                </a:lnTo>
                <a:lnTo>
                  <a:pt x="1224" y="773"/>
                </a:lnTo>
                <a:lnTo>
                  <a:pt x="1219" y="777"/>
                </a:lnTo>
                <a:lnTo>
                  <a:pt x="1213" y="780"/>
                </a:lnTo>
                <a:lnTo>
                  <a:pt x="1206" y="783"/>
                </a:lnTo>
                <a:lnTo>
                  <a:pt x="1199" y="786"/>
                </a:lnTo>
                <a:lnTo>
                  <a:pt x="1192" y="790"/>
                </a:lnTo>
                <a:lnTo>
                  <a:pt x="1184" y="791"/>
                </a:lnTo>
                <a:lnTo>
                  <a:pt x="1176" y="793"/>
                </a:lnTo>
                <a:lnTo>
                  <a:pt x="1170" y="793"/>
                </a:lnTo>
                <a:lnTo>
                  <a:pt x="1162" y="794"/>
                </a:lnTo>
                <a:lnTo>
                  <a:pt x="1151" y="794"/>
                </a:lnTo>
                <a:lnTo>
                  <a:pt x="1138" y="794"/>
                </a:lnTo>
                <a:lnTo>
                  <a:pt x="1127" y="793"/>
                </a:lnTo>
                <a:lnTo>
                  <a:pt x="1118" y="793"/>
                </a:lnTo>
                <a:lnTo>
                  <a:pt x="1107" y="790"/>
                </a:lnTo>
                <a:lnTo>
                  <a:pt x="1096" y="788"/>
                </a:lnTo>
                <a:lnTo>
                  <a:pt x="1084" y="785"/>
                </a:lnTo>
                <a:lnTo>
                  <a:pt x="1073" y="783"/>
                </a:lnTo>
                <a:lnTo>
                  <a:pt x="1067" y="782"/>
                </a:lnTo>
                <a:lnTo>
                  <a:pt x="1061" y="780"/>
                </a:lnTo>
                <a:lnTo>
                  <a:pt x="1054" y="779"/>
                </a:lnTo>
                <a:lnTo>
                  <a:pt x="1048" y="777"/>
                </a:lnTo>
                <a:lnTo>
                  <a:pt x="1042" y="776"/>
                </a:lnTo>
                <a:lnTo>
                  <a:pt x="1035" y="774"/>
                </a:lnTo>
                <a:lnTo>
                  <a:pt x="1031" y="771"/>
                </a:lnTo>
                <a:lnTo>
                  <a:pt x="1024" y="768"/>
                </a:lnTo>
                <a:lnTo>
                  <a:pt x="1019" y="765"/>
                </a:lnTo>
                <a:lnTo>
                  <a:pt x="1015" y="762"/>
                </a:lnTo>
                <a:lnTo>
                  <a:pt x="1012" y="757"/>
                </a:lnTo>
                <a:lnTo>
                  <a:pt x="1008" y="753"/>
                </a:lnTo>
                <a:lnTo>
                  <a:pt x="1005" y="748"/>
                </a:lnTo>
                <a:lnTo>
                  <a:pt x="1002" y="742"/>
                </a:lnTo>
                <a:lnTo>
                  <a:pt x="1000" y="736"/>
                </a:lnTo>
                <a:lnTo>
                  <a:pt x="1000" y="730"/>
                </a:lnTo>
                <a:lnTo>
                  <a:pt x="999" y="722"/>
                </a:lnTo>
                <a:lnTo>
                  <a:pt x="1000" y="716"/>
                </a:lnTo>
                <a:lnTo>
                  <a:pt x="1000" y="710"/>
                </a:lnTo>
                <a:lnTo>
                  <a:pt x="1002" y="702"/>
                </a:lnTo>
                <a:lnTo>
                  <a:pt x="1004" y="696"/>
                </a:lnTo>
                <a:lnTo>
                  <a:pt x="1005" y="690"/>
                </a:lnTo>
                <a:lnTo>
                  <a:pt x="1008" y="685"/>
                </a:lnTo>
                <a:lnTo>
                  <a:pt x="1012" y="679"/>
                </a:lnTo>
                <a:lnTo>
                  <a:pt x="1015" y="674"/>
                </a:lnTo>
                <a:lnTo>
                  <a:pt x="1018" y="670"/>
                </a:lnTo>
                <a:lnTo>
                  <a:pt x="1023" y="667"/>
                </a:lnTo>
                <a:lnTo>
                  <a:pt x="1027" y="662"/>
                </a:lnTo>
                <a:lnTo>
                  <a:pt x="1031" y="659"/>
                </a:lnTo>
                <a:lnTo>
                  <a:pt x="1037" y="656"/>
                </a:lnTo>
                <a:lnTo>
                  <a:pt x="1042" y="653"/>
                </a:lnTo>
                <a:lnTo>
                  <a:pt x="1048" y="651"/>
                </a:lnTo>
                <a:lnTo>
                  <a:pt x="1056" y="648"/>
                </a:lnTo>
                <a:lnTo>
                  <a:pt x="1062" y="647"/>
                </a:lnTo>
                <a:lnTo>
                  <a:pt x="1070" y="645"/>
                </a:lnTo>
                <a:lnTo>
                  <a:pt x="1078" y="645"/>
                </a:lnTo>
                <a:lnTo>
                  <a:pt x="1086" y="645"/>
                </a:lnTo>
                <a:lnTo>
                  <a:pt x="1094" y="647"/>
                </a:lnTo>
                <a:lnTo>
                  <a:pt x="1100" y="648"/>
                </a:lnTo>
                <a:lnTo>
                  <a:pt x="1108" y="651"/>
                </a:lnTo>
                <a:lnTo>
                  <a:pt x="1116" y="655"/>
                </a:lnTo>
                <a:lnTo>
                  <a:pt x="1122" y="659"/>
                </a:lnTo>
                <a:lnTo>
                  <a:pt x="1129" y="664"/>
                </a:lnTo>
                <a:lnTo>
                  <a:pt x="1134" y="670"/>
                </a:lnTo>
                <a:lnTo>
                  <a:pt x="1138" y="676"/>
                </a:lnTo>
                <a:lnTo>
                  <a:pt x="1143" y="684"/>
                </a:lnTo>
                <a:lnTo>
                  <a:pt x="1148" y="691"/>
                </a:lnTo>
                <a:lnTo>
                  <a:pt x="1149" y="696"/>
                </a:lnTo>
                <a:lnTo>
                  <a:pt x="1151" y="702"/>
                </a:lnTo>
                <a:lnTo>
                  <a:pt x="1151" y="707"/>
                </a:lnTo>
                <a:lnTo>
                  <a:pt x="1153" y="713"/>
                </a:lnTo>
                <a:lnTo>
                  <a:pt x="1153" y="717"/>
                </a:lnTo>
                <a:lnTo>
                  <a:pt x="1153" y="722"/>
                </a:lnTo>
                <a:lnTo>
                  <a:pt x="1153" y="728"/>
                </a:lnTo>
                <a:lnTo>
                  <a:pt x="1151" y="733"/>
                </a:lnTo>
                <a:lnTo>
                  <a:pt x="1149" y="736"/>
                </a:lnTo>
                <a:lnTo>
                  <a:pt x="1148" y="740"/>
                </a:lnTo>
                <a:lnTo>
                  <a:pt x="1145" y="743"/>
                </a:lnTo>
                <a:lnTo>
                  <a:pt x="1141" y="747"/>
                </a:lnTo>
                <a:lnTo>
                  <a:pt x="1138" y="748"/>
                </a:lnTo>
                <a:lnTo>
                  <a:pt x="1134" y="750"/>
                </a:lnTo>
                <a:lnTo>
                  <a:pt x="1129" y="751"/>
                </a:lnTo>
                <a:lnTo>
                  <a:pt x="1124" y="753"/>
                </a:lnTo>
                <a:lnTo>
                  <a:pt x="1119" y="753"/>
                </a:lnTo>
                <a:lnTo>
                  <a:pt x="1115" y="753"/>
                </a:lnTo>
                <a:lnTo>
                  <a:pt x="1108" y="753"/>
                </a:lnTo>
                <a:lnTo>
                  <a:pt x="1103" y="753"/>
                </a:lnTo>
                <a:lnTo>
                  <a:pt x="1097" y="751"/>
                </a:lnTo>
                <a:lnTo>
                  <a:pt x="1091" y="751"/>
                </a:lnTo>
                <a:lnTo>
                  <a:pt x="1086" y="750"/>
                </a:lnTo>
                <a:lnTo>
                  <a:pt x="1081" y="748"/>
                </a:lnTo>
                <a:lnTo>
                  <a:pt x="1077" y="748"/>
                </a:lnTo>
                <a:lnTo>
                  <a:pt x="1072" y="747"/>
                </a:lnTo>
                <a:lnTo>
                  <a:pt x="1067" y="743"/>
                </a:lnTo>
                <a:lnTo>
                  <a:pt x="1064" y="742"/>
                </a:lnTo>
                <a:lnTo>
                  <a:pt x="1059" y="739"/>
                </a:lnTo>
                <a:lnTo>
                  <a:pt x="1057" y="736"/>
                </a:lnTo>
                <a:lnTo>
                  <a:pt x="1054" y="733"/>
                </a:lnTo>
                <a:lnTo>
                  <a:pt x="1053" y="730"/>
                </a:lnTo>
                <a:lnTo>
                  <a:pt x="1051" y="725"/>
                </a:lnTo>
                <a:lnTo>
                  <a:pt x="1050" y="722"/>
                </a:lnTo>
                <a:lnTo>
                  <a:pt x="1050" y="717"/>
                </a:lnTo>
                <a:lnTo>
                  <a:pt x="1050" y="713"/>
                </a:lnTo>
                <a:lnTo>
                  <a:pt x="1051" y="708"/>
                </a:lnTo>
                <a:lnTo>
                  <a:pt x="1053" y="705"/>
                </a:lnTo>
                <a:lnTo>
                  <a:pt x="1054" y="701"/>
                </a:lnTo>
                <a:lnTo>
                  <a:pt x="1056" y="697"/>
                </a:lnTo>
                <a:lnTo>
                  <a:pt x="1059" y="693"/>
                </a:lnTo>
                <a:lnTo>
                  <a:pt x="1062" y="691"/>
                </a:lnTo>
                <a:lnTo>
                  <a:pt x="1065" y="688"/>
                </a:lnTo>
                <a:lnTo>
                  <a:pt x="1069" y="685"/>
                </a:lnTo>
                <a:lnTo>
                  <a:pt x="1072" y="684"/>
                </a:lnTo>
                <a:lnTo>
                  <a:pt x="1077" y="684"/>
                </a:lnTo>
                <a:lnTo>
                  <a:pt x="1080" y="682"/>
                </a:lnTo>
                <a:lnTo>
                  <a:pt x="1084" y="682"/>
                </a:lnTo>
                <a:lnTo>
                  <a:pt x="1088" y="684"/>
                </a:lnTo>
                <a:lnTo>
                  <a:pt x="1089" y="684"/>
                </a:lnTo>
                <a:lnTo>
                  <a:pt x="1092" y="685"/>
                </a:lnTo>
                <a:lnTo>
                  <a:pt x="1096" y="687"/>
                </a:lnTo>
                <a:lnTo>
                  <a:pt x="1097" y="688"/>
                </a:lnTo>
                <a:lnTo>
                  <a:pt x="1100" y="691"/>
                </a:lnTo>
                <a:lnTo>
                  <a:pt x="1102" y="693"/>
                </a:lnTo>
                <a:lnTo>
                  <a:pt x="1105" y="696"/>
                </a:lnTo>
                <a:lnTo>
                  <a:pt x="1107" y="699"/>
                </a:lnTo>
                <a:lnTo>
                  <a:pt x="1108" y="702"/>
                </a:lnTo>
                <a:lnTo>
                  <a:pt x="1110" y="705"/>
                </a:lnTo>
                <a:lnTo>
                  <a:pt x="1111" y="708"/>
                </a:lnTo>
                <a:lnTo>
                  <a:pt x="1111" y="711"/>
                </a:lnTo>
                <a:lnTo>
                  <a:pt x="1111" y="713"/>
                </a:lnTo>
                <a:lnTo>
                  <a:pt x="1111" y="716"/>
                </a:lnTo>
                <a:lnTo>
                  <a:pt x="1110" y="719"/>
                </a:lnTo>
                <a:lnTo>
                  <a:pt x="1107" y="722"/>
                </a:lnTo>
                <a:lnTo>
                  <a:pt x="1103" y="724"/>
                </a:lnTo>
                <a:lnTo>
                  <a:pt x="1099" y="725"/>
                </a:lnTo>
                <a:lnTo>
                  <a:pt x="1092" y="725"/>
                </a:lnTo>
                <a:lnTo>
                  <a:pt x="1088" y="725"/>
                </a:lnTo>
                <a:lnTo>
                  <a:pt x="1083" y="724"/>
                </a:lnTo>
                <a:lnTo>
                  <a:pt x="1078" y="722"/>
                </a:lnTo>
                <a:lnTo>
                  <a:pt x="1075" y="719"/>
                </a:lnTo>
                <a:lnTo>
                  <a:pt x="1073" y="714"/>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3600" y="2590920"/>
            <a:ext cx="1453320" cy="228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Systèmes embarqué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aractéris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Elé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Conception d’un S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ycle en V</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cc0000"/>
                </a:solidFill>
                <a:latin typeface="Times New Roman"/>
              </a:rPr>
              <a:t>Intégr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cc0000"/>
                </a:solidFill>
                <a:latin typeface="Times New Roman"/>
              </a:rPr>
              <a:t>cycle en spira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Points de v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automatiq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logici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matéri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Intégr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5238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ycle en spirale</a:t>
            </a:r>
            <a:endParaRPr b="0" lang="en-US" sz="2800" spc="-1" strike="noStrike">
              <a:solidFill>
                <a:srgbClr val="3333cc"/>
              </a:solidFill>
              <a:latin typeface="Arial"/>
            </a:endParaRPr>
          </a:p>
        </p:txBody>
      </p:sp>
      <p:sp>
        <p:nvSpPr>
          <p:cNvPr id="443" name=""/>
          <p:cNvSpPr/>
          <p:nvPr/>
        </p:nvSpPr>
        <p:spPr>
          <a:xfrm>
            <a:off x="1600200" y="990720"/>
            <a:ext cx="7391520" cy="5410080"/>
          </a:xfrm>
          <a:custGeom>
            <a:avLst/>
            <a:gdLst/>
            <a:ahLst/>
            <a:rect l="l" t="t" r="r" b="b"/>
            <a:pathLst>
              <a:path w="2202" h="1484">
                <a:moveTo>
                  <a:pt x="2202" y="921"/>
                </a:moveTo>
                <a:lnTo>
                  <a:pt x="2186" y="948"/>
                </a:lnTo>
                <a:lnTo>
                  <a:pt x="2172" y="972"/>
                </a:lnTo>
                <a:lnTo>
                  <a:pt x="2156" y="998"/>
                </a:lnTo>
                <a:lnTo>
                  <a:pt x="2140" y="1024"/>
                </a:lnTo>
                <a:lnTo>
                  <a:pt x="2122" y="1050"/>
                </a:lnTo>
                <a:lnTo>
                  <a:pt x="2105" y="1075"/>
                </a:lnTo>
                <a:lnTo>
                  <a:pt x="2088" y="1099"/>
                </a:lnTo>
                <a:lnTo>
                  <a:pt x="2069" y="1124"/>
                </a:lnTo>
                <a:lnTo>
                  <a:pt x="2048" y="1147"/>
                </a:lnTo>
                <a:lnTo>
                  <a:pt x="2027" y="1168"/>
                </a:lnTo>
                <a:lnTo>
                  <a:pt x="2005" y="1190"/>
                </a:lnTo>
                <a:lnTo>
                  <a:pt x="1994" y="1199"/>
                </a:lnTo>
                <a:lnTo>
                  <a:pt x="1981" y="1208"/>
                </a:lnTo>
                <a:lnTo>
                  <a:pt x="1970" y="1217"/>
                </a:lnTo>
                <a:lnTo>
                  <a:pt x="1958" y="1227"/>
                </a:lnTo>
                <a:lnTo>
                  <a:pt x="1945" y="1234"/>
                </a:lnTo>
                <a:lnTo>
                  <a:pt x="1932" y="1244"/>
                </a:lnTo>
                <a:lnTo>
                  <a:pt x="1920" y="1251"/>
                </a:lnTo>
                <a:lnTo>
                  <a:pt x="1907" y="1259"/>
                </a:lnTo>
                <a:lnTo>
                  <a:pt x="1894" y="1267"/>
                </a:lnTo>
                <a:lnTo>
                  <a:pt x="1880" y="1276"/>
                </a:lnTo>
                <a:lnTo>
                  <a:pt x="1867" y="1283"/>
                </a:lnTo>
                <a:lnTo>
                  <a:pt x="1847" y="1294"/>
                </a:lnTo>
                <a:lnTo>
                  <a:pt x="1826" y="1306"/>
                </a:lnTo>
                <a:lnTo>
                  <a:pt x="1807" y="1319"/>
                </a:lnTo>
                <a:lnTo>
                  <a:pt x="1786" y="1329"/>
                </a:lnTo>
                <a:lnTo>
                  <a:pt x="1764" y="1340"/>
                </a:lnTo>
                <a:lnTo>
                  <a:pt x="1744" y="1351"/>
                </a:lnTo>
                <a:lnTo>
                  <a:pt x="1723" y="1362"/>
                </a:lnTo>
                <a:lnTo>
                  <a:pt x="1701" y="1371"/>
                </a:lnTo>
                <a:lnTo>
                  <a:pt x="1680" y="1380"/>
                </a:lnTo>
                <a:lnTo>
                  <a:pt x="1660" y="1388"/>
                </a:lnTo>
                <a:lnTo>
                  <a:pt x="1639" y="1395"/>
                </a:lnTo>
                <a:lnTo>
                  <a:pt x="1619" y="1402"/>
                </a:lnTo>
                <a:lnTo>
                  <a:pt x="1598" y="1408"/>
                </a:lnTo>
                <a:lnTo>
                  <a:pt x="1577" y="1414"/>
                </a:lnTo>
                <a:lnTo>
                  <a:pt x="1557" y="1420"/>
                </a:lnTo>
                <a:lnTo>
                  <a:pt x="1536" y="1425"/>
                </a:lnTo>
                <a:lnTo>
                  <a:pt x="1515" y="1431"/>
                </a:lnTo>
                <a:lnTo>
                  <a:pt x="1485" y="1437"/>
                </a:lnTo>
                <a:lnTo>
                  <a:pt x="1457" y="1443"/>
                </a:lnTo>
                <a:lnTo>
                  <a:pt x="1428" y="1449"/>
                </a:lnTo>
                <a:lnTo>
                  <a:pt x="1398" y="1454"/>
                </a:lnTo>
                <a:lnTo>
                  <a:pt x="1370" y="1458"/>
                </a:lnTo>
                <a:lnTo>
                  <a:pt x="1340" y="1463"/>
                </a:lnTo>
                <a:lnTo>
                  <a:pt x="1311" y="1468"/>
                </a:lnTo>
                <a:lnTo>
                  <a:pt x="1292" y="1471"/>
                </a:lnTo>
                <a:lnTo>
                  <a:pt x="1273" y="1474"/>
                </a:lnTo>
                <a:lnTo>
                  <a:pt x="1254" y="1477"/>
                </a:lnTo>
                <a:lnTo>
                  <a:pt x="1235" y="1478"/>
                </a:lnTo>
                <a:lnTo>
                  <a:pt x="1216" y="1481"/>
                </a:lnTo>
                <a:lnTo>
                  <a:pt x="1197" y="1483"/>
                </a:lnTo>
                <a:lnTo>
                  <a:pt x="1178" y="1483"/>
                </a:lnTo>
                <a:lnTo>
                  <a:pt x="1159" y="1484"/>
                </a:lnTo>
                <a:lnTo>
                  <a:pt x="1137" y="1484"/>
                </a:lnTo>
                <a:lnTo>
                  <a:pt x="1115" y="1484"/>
                </a:lnTo>
                <a:lnTo>
                  <a:pt x="1092" y="1483"/>
                </a:lnTo>
                <a:lnTo>
                  <a:pt x="1070" y="1481"/>
                </a:lnTo>
                <a:lnTo>
                  <a:pt x="1050" y="1478"/>
                </a:lnTo>
                <a:lnTo>
                  <a:pt x="1027" y="1475"/>
                </a:lnTo>
                <a:lnTo>
                  <a:pt x="1005" y="1474"/>
                </a:lnTo>
                <a:lnTo>
                  <a:pt x="983" y="1471"/>
                </a:lnTo>
                <a:lnTo>
                  <a:pt x="951" y="1464"/>
                </a:lnTo>
                <a:lnTo>
                  <a:pt x="921" y="1460"/>
                </a:lnTo>
                <a:lnTo>
                  <a:pt x="890" y="1455"/>
                </a:lnTo>
                <a:lnTo>
                  <a:pt x="858" y="1451"/>
                </a:lnTo>
                <a:lnTo>
                  <a:pt x="826" y="1446"/>
                </a:lnTo>
                <a:lnTo>
                  <a:pt x="794" y="1441"/>
                </a:lnTo>
                <a:lnTo>
                  <a:pt x="775" y="1438"/>
                </a:lnTo>
                <a:lnTo>
                  <a:pt x="755" y="1435"/>
                </a:lnTo>
                <a:lnTo>
                  <a:pt x="736" y="1432"/>
                </a:lnTo>
                <a:lnTo>
                  <a:pt x="717" y="1431"/>
                </a:lnTo>
                <a:lnTo>
                  <a:pt x="696" y="1428"/>
                </a:lnTo>
                <a:lnTo>
                  <a:pt x="677" y="1423"/>
                </a:lnTo>
                <a:lnTo>
                  <a:pt x="658" y="1420"/>
                </a:lnTo>
                <a:lnTo>
                  <a:pt x="639" y="1415"/>
                </a:lnTo>
                <a:lnTo>
                  <a:pt x="620" y="1411"/>
                </a:lnTo>
                <a:lnTo>
                  <a:pt x="601" y="1405"/>
                </a:lnTo>
                <a:lnTo>
                  <a:pt x="582" y="1399"/>
                </a:lnTo>
                <a:lnTo>
                  <a:pt x="561" y="1391"/>
                </a:lnTo>
                <a:lnTo>
                  <a:pt x="542" y="1383"/>
                </a:lnTo>
                <a:lnTo>
                  <a:pt x="523" y="1374"/>
                </a:lnTo>
                <a:lnTo>
                  <a:pt x="504" y="1365"/>
                </a:lnTo>
                <a:lnTo>
                  <a:pt x="487" y="1356"/>
                </a:lnTo>
                <a:lnTo>
                  <a:pt x="468" y="1345"/>
                </a:lnTo>
                <a:lnTo>
                  <a:pt x="451" y="1334"/>
                </a:lnTo>
                <a:lnTo>
                  <a:pt x="433" y="1323"/>
                </a:lnTo>
                <a:lnTo>
                  <a:pt x="416" y="1311"/>
                </a:lnTo>
                <a:lnTo>
                  <a:pt x="398" y="1300"/>
                </a:lnTo>
                <a:lnTo>
                  <a:pt x="381" y="1288"/>
                </a:lnTo>
                <a:lnTo>
                  <a:pt x="365" y="1277"/>
                </a:lnTo>
                <a:lnTo>
                  <a:pt x="348" y="1265"/>
                </a:lnTo>
                <a:lnTo>
                  <a:pt x="332" y="1253"/>
                </a:lnTo>
                <a:lnTo>
                  <a:pt x="314" y="1241"/>
                </a:lnTo>
                <a:lnTo>
                  <a:pt x="298" y="1228"/>
                </a:lnTo>
                <a:lnTo>
                  <a:pt x="281" y="1217"/>
                </a:lnTo>
                <a:lnTo>
                  <a:pt x="265" y="1205"/>
                </a:lnTo>
                <a:lnTo>
                  <a:pt x="248" y="1193"/>
                </a:lnTo>
                <a:lnTo>
                  <a:pt x="232" y="1181"/>
                </a:lnTo>
                <a:lnTo>
                  <a:pt x="216" y="1168"/>
                </a:lnTo>
                <a:lnTo>
                  <a:pt x="200" y="1156"/>
                </a:lnTo>
                <a:lnTo>
                  <a:pt x="184" y="1142"/>
                </a:lnTo>
                <a:lnTo>
                  <a:pt x="170" y="1129"/>
                </a:lnTo>
                <a:lnTo>
                  <a:pt x="159" y="1118"/>
                </a:lnTo>
                <a:lnTo>
                  <a:pt x="149" y="1106"/>
                </a:lnTo>
                <a:lnTo>
                  <a:pt x="140" y="1095"/>
                </a:lnTo>
                <a:lnTo>
                  <a:pt x="130" y="1083"/>
                </a:lnTo>
                <a:lnTo>
                  <a:pt x="121" y="1070"/>
                </a:lnTo>
                <a:lnTo>
                  <a:pt x="113" y="1056"/>
                </a:lnTo>
                <a:lnTo>
                  <a:pt x="103" y="1044"/>
                </a:lnTo>
                <a:lnTo>
                  <a:pt x="96" y="1032"/>
                </a:lnTo>
                <a:lnTo>
                  <a:pt x="88" y="1017"/>
                </a:lnTo>
                <a:lnTo>
                  <a:pt x="78" y="1001"/>
                </a:lnTo>
                <a:lnTo>
                  <a:pt x="70" y="987"/>
                </a:lnTo>
                <a:lnTo>
                  <a:pt x="62" y="972"/>
                </a:lnTo>
                <a:lnTo>
                  <a:pt x="54" y="957"/>
                </a:lnTo>
                <a:lnTo>
                  <a:pt x="48" y="941"/>
                </a:lnTo>
                <a:lnTo>
                  <a:pt x="42" y="925"/>
                </a:lnTo>
                <a:lnTo>
                  <a:pt x="37" y="909"/>
                </a:lnTo>
                <a:lnTo>
                  <a:pt x="32" y="895"/>
                </a:lnTo>
                <a:lnTo>
                  <a:pt x="29" y="883"/>
                </a:lnTo>
                <a:lnTo>
                  <a:pt x="26" y="869"/>
                </a:lnTo>
                <a:lnTo>
                  <a:pt x="24" y="855"/>
                </a:lnTo>
                <a:lnTo>
                  <a:pt x="21" y="842"/>
                </a:lnTo>
                <a:lnTo>
                  <a:pt x="19" y="828"/>
                </a:lnTo>
                <a:lnTo>
                  <a:pt x="16" y="816"/>
                </a:lnTo>
                <a:lnTo>
                  <a:pt x="15" y="802"/>
                </a:lnTo>
                <a:lnTo>
                  <a:pt x="12" y="790"/>
                </a:lnTo>
                <a:lnTo>
                  <a:pt x="10" y="777"/>
                </a:lnTo>
                <a:lnTo>
                  <a:pt x="8" y="767"/>
                </a:lnTo>
                <a:lnTo>
                  <a:pt x="5" y="754"/>
                </a:lnTo>
                <a:lnTo>
                  <a:pt x="4" y="743"/>
                </a:lnTo>
                <a:lnTo>
                  <a:pt x="2" y="731"/>
                </a:lnTo>
                <a:lnTo>
                  <a:pt x="2" y="720"/>
                </a:lnTo>
                <a:lnTo>
                  <a:pt x="0" y="708"/>
                </a:lnTo>
                <a:lnTo>
                  <a:pt x="0" y="697"/>
                </a:lnTo>
                <a:lnTo>
                  <a:pt x="0" y="687"/>
                </a:lnTo>
                <a:lnTo>
                  <a:pt x="4" y="671"/>
                </a:lnTo>
                <a:lnTo>
                  <a:pt x="5" y="658"/>
                </a:lnTo>
                <a:lnTo>
                  <a:pt x="10" y="644"/>
                </a:lnTo>
                <a:lnTo>
                  <a:pt x="13" y="630"/>
                </a:lnTo>
                <a:lnTo>
                  <a:pt x="18" y="616"/>
                </a:lnTo>
                <a:lnTo>
                  <a:pt x="24" y="602"/>
                </a:lnTo>
                <a:lnTo>
                  <a:pt x="29" y="589"/>
                </a:lnTo>
                <a:lnTo>
                  <a:pt x="35" y="575"/>
                </a:lnTo>
                <a:lnTo>
                  <a:pt x="40" y="561"/>
                </a:lnTo>
                <a:lnTo>
                  <a:pt x="46" y="547"/>
                </a:lnTo>
                <a:lnTo>
                  <a:pt x="51" y="533"/>
                </a:lnTo>
                <a:lnTo>
                  <a:pt x="56" y="520"/>
                </a:lnTo>
                <a:lnTo>
                  <a:pt x="61" y="506"/>
                </a:lnTo>
                <a:lnTo>
                  <a:pt x="65" y="492"/>
                </a:lnTo>
                <a:lnTo>
                  <a:pt x="70" y="478"/>
                </a:lnTo>
                <a:lnTo>
                  <a:pt x="75" y="464"/>
                </a:lnTo>
                <a:lnTo>
                  <a:pt x="80" y="452"/>
                </a:lnTo>
                <a:lnTo>
                  <a:pt x="86" y="438"/>
                </a:lnTo>
                <a:lnTo>
                  <a:pt x="92" y="426"/>
                </a:lnTo>
                <a:lnTo>
                  <a:pt x="99" y="414"/>
                </a:lnTo>
                <a:lnTo>
                  <a:pt x="107" y="401"/>
                </a:lnTo>
                <a:lnTo>
                  <a:pt x="116" y="391"/>
                </a:lnTo>
                <a:lnTo>
                  <a:pt x="124" y="380"/>
                </a:lnTo>
                <a:lnTo>
                  <a:pt x="135" y="371"/>
                </a:lnTo>
                <a:lnTo>
                  <a:pt x="145" y="360"/>
                </a:lnTo>
                <a:lnTo>
                  <a:pt x="156" y="351"/>
                </a:lnTo>
                <a:lnTo>
                  <a:pt x="167" y="342"/>
                </a:lnTo>
                <a:lnTo>
                  <a:pt x="178" y="332"/>
                </a:lnTo>
                <a:lnTo>
                  <a:pt x="191" y="323"/>
                </a:lnTo>
                <a:lnTo>
                  <a:pt x="202" y="316"/>
                </a:lnTo>
                <a:lnTo>
                  <a:pt x="214" y="306"/>
                </a:lnTo>
                <a:lnTo>
                  <a:pt x="225" y="297"/>
                </a:lnTo>
                <a:lnTo>
                  <a:pt x="246" y="283"/>
                </a:lnTo>
                <a:lnTo>
                  <a:pt x="265" y="268"/>
                </a:lnTo>
                <a:lnTo>
                  <a:pt x="284" y="254"/>
                </a:lnTo>
                <a:lnTo>
                  <a:pt x="303" y="240"/>
                </a:lnTo>
                <a:lnTo>
                  <a:pt x="324" y="225"/>
                </a:lnTo>
                <a:lnTo>
                  <a:pt x="343" y="211"/>
                </a:lnTo>
                <a:lnTo>
                  <a:pt x="360" y="200"/>
                </a:lnTo>
                <a:lnTo>
                  <a:pt x="378" y="188"/>
                </a:lnTo>
                <a:lnTo>
                  <a:pt x="395" y="177"/>
                </a:lnTo>
                <a:lnTo>
                  <a:pt x="412" y="167"/>
                </a:lnTo>
                <a:lnTo>
                  <a:pt x="430" y="156"/>
                </a:lnTo>
                <a:lnTo>
                  <a:pt x="449" y="145"/>
                </a:lnTo>
                <a:lnTo>
                  <a:pt x="462" y="138"/>
                </a:lnTo>
                <a:lnTo>
                  <a:pt x="474" y="130"/>
                </a:lnTo>
                <a:lnTo>
                  <a:pt x="489" y="124"/>
                </a:lnTo>
                <a:lnTo>
                  <a:pt x="501" y="116"/>
                </a:lnTo>
                <a:lnTo>
                  <a:pt x="514" y="110"/>
                </a:lnTo>
                <a:lnTo>
                  <a:pt x="528" y="102"/>
                </a:lnTo>
                <a:lnTo>
                  <a:pt x="541" y="96"/>
                </a:lnTo>
                <a:lnTo>
                  <a:pt x="558" y="88"/>
                </a:lnTo>
                <a:lnTo>
                  <a:pt x="576" y="81"/>
                </a:lnTo>
                <a:lnTo>
                  <a:pt x="595" y="75"/>
                </a:lnTo>
                <a:lnTo>
                  <a:pt x="612" y="69"/>
                </a:lnTo>
                <a:lnTo>
                  <a:pt x="630" y="62"/>
                </a:lnTo>
                <a:lnTo>
                  <a:pt x="649" y="56"/>
                </a:lnTo>
                <a:lnTo>
                  <a:pt x="666" y="52"/>
                </a:lnTo>
                <a:lnTo>
                  <a:pt x="685" y="46"/>
                </a:lnTo>
                <a:lnTo>
                  <a:pt x="707" y="41"/>
                </a:lnTo>
                <a:lnTo>
                  <a:pt x="729" y="36"/>
                </a:lnTo>
                <a:lnTo>
                  <a:pt x="753" y="32"/>
                </a:lnTo>
                <a:lnTo>
                  <a:pt x="775" y="29"/>
                </a:lnTo>
                <a:lnTo>
                  <a:pt x="799" y="24"/>
                </a:lnTo>
                <a:lnTo>
                  <a:pt x="821" y="21"/>
                </a:lnTo>
                <a:lnTo>
                  <a:pt x="845" y="18"/>
                </a:lnTo>
                <a:lnTo>
                  <a:pt x="869" y="15"/>
                </a:lnTo>
                <a:lnTo>
                  <a:pt x="891" y="13"/>
                </a:lnTo>
                <a:lnTo>
                  <a:pt x="915" y="10"/>
                </a:lnTo>
                <a:lnTo>
                  <a:pt x="939" y="7"/>
                </a:lnTo>
                <a:lnTo>
                  <a:pt x="961" y="4"/>
                </a:lnTo>
                <a:lnTo>
                  <a:pt x="985" y="3"/>
                </a:lnTo>
                <a:lnTo>
                  <a:pt x="1008" y="1"/>
                </a:lnTo>
                <a:lnTo>
                  <a:pt x="1031" y="0"/>
                </a:lnTo>
                <a:lnTo>
                  <a:pt x="1054" y="0"/>
                </a:lnTo>
                <a:lnTo>
                  <a:pt x="1080" y="0"/>
                </a:lnTo>
                <a:lnTo>
                  <a:pt x="1107" y="1"/>
                </a:lnTo>
                <a:lnTo>
                  <a:pt x="1132" y="3"/>
                </a:lnTo>
                <a:lnTo>
                  <a:pt x="1157" y="4"/>
                </a:lnTo>
                <a:lnTo>
                  <a:pt x="1184" y="7"/>
                </a:lnTo>
                <a:lnTo>
                  <a:pt x="1210" y="10"/>
                </a:lnTo>
                <a:lnTo>
                  <a:pt x="1237" y="13"/>
                </a:lnTo>
                <a:lnTo>
                  <a:pt x="1262" y="15"/>
                </a:lnTo>
                <a:lnTo>
                  <a:pt x="1284" y="18"/>
                </a:lnTo>
                <a:lnTo>
                  <a:pt x="1306" y="21"/>
                </a:lnTo>
                <a:lnTo>
                  <a:pt x="1328" y="23"/>
                </a:lnTo>
                <a:lnTo>
                  <a:pt x="1351" y="26"/>
                </a:lnTo>
                <a:lnTo>
                  <a:pt x="1373" y="29"/>
                </a:lnTo>
                <a:lnTo>
                  <a:pt x="1395" y="32"/>
                </a:lnTo>
                <a:lnTo>
                  <a:pt x="1416" y="35"/>
                </a:lnTo>
                <a:lnTo>
                  <a:pt x="1438" y="39"/>
                </a:lnTo>
                <a:lnTo>
                  <a:pt x="1458" y="44"/>
                </a:lnTo>
                <a:lnTo>
                  <a:pt x="1477" y="49"/>
                </a:lnTo>
                <a:lnTo>
                  <a:pt x="1495" y="55"/>
                </a:lnTo>
                <a:lnTo>
                  <a:pt x="1514" y="61"/>
                </a:lnTo>
                <a:lnTo>
                  <a:pt x="1531" y="67"/>
                </a:lnTo>
                <a:lnTo>
                  <a:pt x="1549" y="73"/>
                </a:lnTo>
                <a:lnTo>
                  <a:pt x="1566" y="79"/>
                </a:lnTo>
                <a:lnTo>
                  <a:pt x="1584" y="87"/>
                </a:lnTo>
                <a:lnTo>
                  <a:pt x="1601" y="95"/>
                </a:lnTo>
                <a:lnTo>
                  <a:pt x="1619" y="102"/>
                </a:lnTo>
                <a:lnTo>
                  <a:pt x="1636" y="110"/>
                </a:lnTo>
                <a:lnTo>
                  <a:pt x="1653" y="118"/>
                </a:lnTo>
                <a:lnTo>
                  <a:pt x="1671" y="125"/>
                </a:lnTo>
                <a:lnTo>
                  <a:pt x="1688" y="134"/>
                </a:lnTo>
                <a:lnTo>
                  <a:pt x="1704" y="142"/>
                </a:lnTo>
                <a:lnTo>
                  <a:pt x="1720" y="151"/>
                </a:lnTo>
                <a:lnTo>
                  <a:pt x="1737" y="162"/>
                </a:lnTo>
                <a:lnTo>
                  <a:pt x="1753" y="171"/>
                </a:lnTo>
                <a:lnTo>
                  <a:pt x="1769" y="184"/>
                </a:lnTo>
                <a:lnTo>
                  <a:pt x="1785" y="196"/>
                </a:lnTo>
                <a:lnTo>
                  <a:pt x="1799" y="208"/>
                </a:lnTo>
                <a:lnTo>
                  <a:pt x="1815" y="220"/>
                </a:lnTo>
                <a:lnTo>
                  <a:pt x="1829" y="234"/>
                </a:lnTo>
                <a:lnTo>
                  <a:pt x="1844" y="246"/>
                </a:lnTo>
                <a:lnTo>
                  <a:pt x="1859" y="260"/>
                </a:lnTo>
                <a:lnTo>
                  <a:pt x="1874" y="274"/>
                </a:lnTo>
                <a:lnTo>
                  <a:pt x="1886" y="288"/>
                </a:lnTo>
                <a:lnTo>
                  <a:pt x="1901" y="300"/>
                </a:lnTo>
                <a:lnTo>
                  <a:pt x="1915" y="314"/>
                </a:lnTo>
                <a:lnTo>
                  <a:pt x="1928" y="328"/>
                </a:lnTo>
                <a:lnTo>
                  <a:pt x="1940" y="342"/>
                </a:lnTo>
                <a:lnTo>
                  <a:pt x="1953" y="355"/>
                </a:lnTo>
                <a:lnTo>
                  <a:pt x="1966" y="369"/>
                </a:lnTo>
                <a:lnTo>
                  <a:pt x="1977" y="385"/>
                </a:lnTo>
                <a:lnTo>
                  <a:pt x="1988" y="398"/>
                </a:lnTo>
                <a:lnTo>
                  <a:pt x="1999" y="414"/>
                </a:lnTo>
                <a:lnTo>
                  <a:pt x="2010" y="429"/>
                </a:lnTo>
                <a:lnTo>
                  <a:pt x="2021" y="446"/>
                </a:lnTo>
                <a:lnTo>
                  <a:pt x="2031" y="461"/>
                </a:lnTo>
                <a:lnTo>
                  <a:pt x="2040" y="478"/>
                </a:lnTo>
                <a:lnTo>
                  <a:pt x="2051" y="493"/>
                </a:lnTo>
                <a:lnTo>
                  <a:pt x="2061" y="510"/>
                </a:lnTo>
                <a:lnTo>
                  <a:pt x="2065" y="518"/>
                </a:lnTo>
                <a:lnTo>
                  <a:pt x="2072" y="527"/>
                </a:lnTo>
                <a:lnTo>
                  <a:pt x="2077" y="535"/>
                </a:lnTo>
                <a:lnTo>
                  <a:pt x="2081" y="544"/>
                </a:lnTo>
                <a:lnTo>
                  <a:pt x="2086" y="552"/>
                </a:lnTo>
                <a:lnTo>
                  <a:pt x="2091" y="561"/>
                </a:lnTo>
                <a:lnTo>
                  <a:pt x="2096" y="570"/>
                </a:lnTo>
                <a:lnTo>
                  <a:pt x="2099" y="578"/>
                </a:lnTo>
                <a:lnTo>
                  <a:pt x="2102" y="587"/>
                </a:lnTo>
                <a:lnTo>
                  <a:pt x="2105" y="596"/>
                </a:lnTo>
                <a:lnTo>
                  <a:pt x="2108" y="607"/>
                </a:lnTo>
                <a:lnTo>
                  <a:pt x="2110" y="618"/>
                </a:lnTo>
                <a:lnTo>
                  <a:pt x="2110" y="628"/>
                </a:lnTo>
                <a:lnTo>
                  <a:pt x="2111" y="639"/>
                </a:lnTo>
                <a:lnTo>
                  <a:pt x="2111" y="651"/>
                </a:lnTo>
                <a:lnTo>
                  <a:pt x="2110" y="662"/>
                </a:lnTo>
                <a:lnTo>
                  <a:pt x="2110" y="673"/>
                </a:lnTo>
                <a:lnTo>
                  <a:pt x="2108" y="685"/>
                </a:lnTo>
                <a:lnTo>
                  <a:pt x="2107" y="696"/>
                </a:lnTo>
                <a:lnTo>
                  <a:pt x="2105" y="708"/>
                </a:lnTo>
                <a:lnTo>
                  <a:pt x="2103" y="725"/>
                </a:lnTo>
                <a:lnTo>
                  <a:pt x="2100" y="743"/>
                </a:lnTo>
                <a:lnTo>
                  <a:pt x="2099" y="762"/>
                </a:lnTo>
                <a:lnTo>
                  <a:pt x="2096" y="779"/>
                </a:lnTo>
                <a:lnTo>
                  <a:pt x="2092" y="796"/>
                </a:lnTo>
                <a:lnTo>
                  <a:pt x="2089" y="814"/>
                </a:lnTo>
                <a:lnTo>
                  <a:pt x="2084" y="831"/>
                </a:lnTo>
                <a:lnTo>
                  <a:pt x="2080" y="848"/>
                </a:lnTo>
                <a:lnTo>
                  <a:pt x="2073" y="865"/>
                </a:lnTo>
                <a:lnTo>
                  <a:pt x="2067" y="882"/>
                </a:lnTo>
                <a:lnTo>
                  <a:pt x="2061" y="897"/>
                </a:lnTo>
                <a:lnTo>
                  <a:pt x="2053" y="912"/>
                </a:lnTo>
                <a:lnTo>
                  <a:pt x="2045" y="929"/>
                </a:lnTo>
                <a:lnTo>
                  <a:pt x="2035" y="944"/>
                </a:lnTo>
                <a:lnTo>
                  <a:pt x="2026" y="960"/>
                </a:lnTo>
                <a:lnTo>
                  <a:pt x="2016" y="974"/>
                </a:lnTo>
                <a:lnTo>
                  <a:pt x="2008" y="984"/>
                </a:lnTo>
                <a:lnTo>
                  <a:pt x="1999" y="997"/>
                </a:lnTo>
                <a:lnTo>
                  <a:pt x="1991" y="1007"/>
                </a:lnTo>
                <a:lnTo>
                  <a:pt x="1981" y="1018"/>
                </a:lnTo>
                <a:lnTo>
                  <a:pt x="1972" y="1029"/>
                </a:lnTo>
                <a:lnTo>
                  <a:pt x="1962" y="1040"/>
                </a:lnTo>
                <a:lnTo>
                  <a:pt x="1953" y="1049"/>
                </a:lnTo>
                <a:lnTo>
                  <a:pt x="1939" y="1064"/>
                </a:lnTo>
                <a:lnTo>
                  <a:pt x="1924" y="1078"/>
                </a:lnTo>
                <a:lnTo>
                  <a:pt x="1910" y="1092"/>
                </a:lnTo>
                <a:lnTo>
                  <a:pt x="1894" y="1106"/>
                </a:lnTo>
                <a:lnTo>
                  <a:pt x="1880" y="1119"/>
                </a:lnTo>
                <a:lnTo>
                  <a:pt x="1864" y="1132"/>
                </a:lnTo>
                <a:lnTo>
                  <a:pt x="1847" y="1145"/>
                </a:lnTo>
                <a:lnTo>
                  <a:pt x="1829" y="1158"/>
                </a:lnTo>
                <a:lnTo>
                  <a:pt x="1812" y="1170"/>
                </a:lnTo>
                <a:lnTo>
                  <a:pt x="1793" y="1182"/>
                </a:lnTo>
                <a:lnTo>
                  <a:pt x="1775" y="1193"/>
                </a:lnTo>
                <a:lnTo>
                  <a:pt x="1756" y="1204"/>
                </a:lnTo>
                <a:lnTo>
                  <a:pt x="1734" y="1216"/>
                </a:lnTo>
                <a:lnTo>
                  <a:pt x="1712" y="1228"/>
                </a:lnTo>
                <a:lnTo>
                  <a:pt x="1690" y="1239"/>
                </a:lnTo>
                <a:lnTo>
                  <a:pt x="1668" y="1251"/>
                </a:lnTo>
                <a:lnTo>
                  <a:pt x="1645" y="1262"/>
                </a:lnTo>
                <a:lnTo>
                  <a:pt x="1625" y="1271"/>
                </a:lnTo>
                <a:lnTo>
                  <a:pt x="1604" y="1279"/>
                </a:lnTo>
                <a:lnTo>
                  <a:pt x="1584" y="1288"/>
                </a:lnTo>
                <a:lnTo>
                  <a:pt x="1563" y="1296"/>
                </a:lnTo>
                <a:lnTo>
                  <a:pt x="1542" y="1303"/>
                </a:lnTo>
                <a:lnTo>
                  <a:pt x="1522" y="1311"/>
                </a:lnTo>
                <a:lnTo>
                  <a:pt x="1500" y="1320"/>
                </a:lnTo>
                <a:lnTo>
                  <a:pt x="1476" y="1326"/>
                </a:lnTo>
                <a:lnTo>
                  <a:pt x="1452" y="1334"/>
                </a:lnTo>
                <a:lnTo>
                  <a:pt x="1428" y="1340"/>
                </a:lnTo>
                <a:lnTo>
                  <a:pt x="1405" y="1346"/>
                </a:lnTo>
                <a:lnTo>
                  <a:pt x="1381" y="1351"/>
                </a:lnTo>
                <a:lnTo>
                  <a:pt x="1362" y="1356"/>
                </a:lnTo>
                <a:lnTo>
                  <a:pt x="1343" y="1359"/>
                </a:lnTo>
                <a:lnTo>
                  <a:pt x="1324" y="1362"/>
                </a:lnTo>
                <a:lnTo>
                  <a:pt x="1305" y="1363"/>
                </a:lnTo>
                <a:lnTo>
                  <a:pt x="1286" y="1366"/>
                </a:lnTo>
                <a:lnTo>
                  <a:pt x="1267" y="1368"/>
                </a:lnTo>
                <a:lnTo>
                  <a:pt x="1246" y="1369"/>
                </a:lnTo>
                <a:lnTo>
                  <a:pt x="1225" y="1369"/>
                </a:lnTo>
                <a:lnTo>
                  <a:pt x="1205" y="1371"/>
                </a:lnTo>
                <a:lnTo>
                  <a:pt x="1184" y="1371"/>
                </a:lnTo>
                <a:lnTo>
                  <a:pt x="1164" y="1372"/>
                </a:lnTo>
                <a:lnTo>
                  <a:pt x="1143" y="1372"/>
                </a:lnTo>
                <a:lnTo>
                  <a:pt x="1124" y="1374"/>
                </a:lnTo>
                <a:lnTo>
                  <a:pt x="1107" y="1374"/>
                </a:lnTo>
                <a:lnTo>
                  <a:pt x="1088" y="1374"/>
                </a:lnTo>
                <a:lnTo>
                  <a:pt x="1069" y="1375"/>
                </a:lnTo>
                <a:lnTo>
                  <a:pt x="1050" y="1374"/>
                </a:lnTo>
                <a:lnTo>
                  <a:pt x="1032" y="1374"/>
                </a:lnTo>
                <a:lnTo>
                  <a:pt x="1013" y="1372"/>
                </a:lnTo>
                <a:lnTo>
                  <a:pt x="994" y="1371"/>
                </a:lnTo>
                <a:lnTo>
                  <a:pt x="975" y="1368"/>
                </a:lnTo>
                <a:lnTo>
                  <a:pt x="954" y="1365"/>
                </a:lnTo>
                <a:lnTo>
                  <a:pt x="935" y="1360"/>
                </a:lnTo>
                <a:lnTo>
                  <a:pt x="916" y="1357"/>
                </a:lnTo>
                <a:lnTo>
                  <a:pt x="897" y="1352"/>
                </a:lnTo>
                <a:lnTo>
                  <a:pt x="878" y="1348"/>
                </a:lnTo>
                <a:lnTo>
                  <a:pt x="856" y="1343"/>
                </a:lnTo>
                <a:lnTo>
                  <a:pt x="834" y="1337"/>
                </a:lnTo>
                <a:lnTo>
                  <a:pt x="812" y="1333"/>
                </a:lnTo>
                <a:lnTo>
                  <a:pt x="790" y="1328"/>
                </a:lnTo>
                <a:lnTo>
                  <a:pt x="767" y="1322"/>
                </a:lnTo>
                <a:lnTo>
                  <a:pt x="748" y="1317"/>
                </a:lnTo>
                <a:lnTo>
                  <a:pt x="728" y="1313"/>
                </a:lnTo>
                <a:lnTo>
                  <a:pt x="709" y="1308"/>
                </a:lnTo>
                <a:lnTo>
                  <a:pt x="688" y="1302"/>
                </a:lnTo>
                <a:lnTo>
                  <a:pt x="669" y="1296"/>
                </a:lnTo>
                <a:lnTo>
                  <a:pt x="649" y="1290"/>
                </a:lnTo>
                <a:lnTo>
                  <a:pt x="634" y="1285"/>
                </a:lnTo>
                <a:lnTo>
                  <a:pt x="620" y="1280"/>
                </a:lnTo>
                <a:lnTo>
                  <a:pt x="606" y="1276"/>
                </a:lnTo>
                <a:lnTo>
                  <a:pt x="592" y="1270"/>
                </a:lnTo>
                <a:lnTo>
                  <a:pt x="577" y="1264"/>
                </a:lnTo>
                <a:lnTo>
                  <a:pt x="563" y="1257"/>
                </a:lnTo>
                <a:lnTo>
                  <a:pt x="549" y="1251"/>
                </a:lnTo>
                <a:lnTo>
                  <a:pt x="531" y="1241"/>
                </a:lnTo>
                <a:lnTo>
                  <a:pt x="514" y="1231"/>
                </a:lnTo>
                <a:lnTo>
                  <a:pt x="498" y="1221"/>
                </a:lnTo>
                <a:lnTo>
                  <a:pt x="481" y="1210"/>
                </a:lnTo>
                <a:lnTo>
                  <a:pt x="465" y="1199"/>
                </a:lnTo>
                <a:lnTo>
                  <a:pt x="447" y="1187"/>
                </a:lnTo>
                <a:lnTo>
                  <a:pt x="432" y="1175"/>
                </a:lnTo>
                <a:lnTo>
                  <a:pt x="416" y="1164"/>
                </a:lnTo>
                <a:lnTo>
                  <a:pt x="400" y="1152"/>
                </a:lnTo>
                <a:lnTo>
                  <a:pt x="384" y="1139"/>
                </a:lnTo>
                <a:lnTo>
                  <a:pt x="368" y="1127"/>
                </a:lnTo>
                <a:lnTo>
                  <a:pt x="352" y="1113"/>
                </a:lnTo>
                <a:lnTo>
                  <a:pt x="340" y="1102"/>
                </a:lnTo>
                <a:lnTo>
                  <a:pt x="327" y="1092"/>
                </a:lnTo>
                <a:lnTo>
                  <a:pt x="314" y="1081"/>
                </a:lnTo>
                <a:lnTo>
                  <a:pt x="302" y="1070"/>
                </a:lnTo>
                <a:lnTo>
                  <a:pt x="289" y="1058"/>
                </a:lnTo>
                <a:lnTo>
                  <a:pt x="278" y="1046"/>
                </a:lnTo>
                <a:lnTo>
                  <a:pt x="267" y="1033"/>
                </a:lnTo>
                <a:lnTo>
                  <a:pt x="256" y="1020"/>
                </a:lnTo>
                <a:lnTo>
                  <a:pt x="245" y="1006"/>
                </a:lnTo>
                <a:lnTo>
                  <a:pt x="235" y="992"/>
                </a:lnTo>
                <a:lnTo>
                  <a:pt x="225" y="978"/>
                </a:lnTo>
                <a:lnTo>
                  <a:pt x="218" y="963"/>
                </a:lnTo>
                <a:lnTo>
                  <a:pt x="210" y="949"/>
                </a:lnTo>
                <a:lnTo>
                  <a:pt x="203" y="937"/>
                </a:lnTo>
                <a:lnTo>
                  <a:pt x="197" y="925"/>
                </a:lnTo>
                <a:lnTo>
                  <a:pt x="192" y="914"/>
                </a:lnTo>
                <a:lnTo>
                  <a:pt x="187" y="901"/>
                </a:lnTo>
                <a:lnTo>
                  <a:pt x="183" y="889"/>
                </a:lnTo>
                <a:lnTo>
                  <a:pt x="178" y="877"/>
                </a:lnTo>
                <a:lnTo>
                  <a:pt x="173" y="865"/>
                </a:lnTo>
                <a:lnTo>
                  <a:pt x="170" y="852"/>
                </a:lnTo>
                <a:lnTo>
                  <a:pt x="165" y="840"/>
                </a:lnTo>
                <a:lnTo>
                  <a:pt x="162" y="828"/>
                </a:lnTo>
                <a:lnTo>
                  <a:pt x="159" y="816"/>
                </a:lnTo>
                <a:lnTo>
                  <a:pt x="156" y="803"/>
                </a:lnTo>
                <a:lnTo>
                  <a:pt x="154" y="791"/>
                </a:lnTo>
                <a:lnTo>
                  <a:pt x="151" y="777"/>
                </a:lnTo>
                <a:lnTo>
                  <a:pt x="151" y="765"/>
                </a:lnTo>
                <a:lnTo>
                  <a:pt x="149" y="753"/>
                </a:lnTo>
                <a:lnTo>
                  <a:pt x="149" y="740"/>
                </a:lnTo>
                <a:lnTo>
                  <a:pt x="149" y="728"/>
                </a:lnTo>
                <a:lnTo>
                  <a:pt x="149" y="716"/>
                </a:lnTo>
                <a:lnTo>
                  <a:pt x="151" y="704"/>
                </a:lnTo>
                <a:lnTo>
                  <a:pt x="151" y="691"/>
                </a:lnTo>
                <a:lnTo>
                  <a:pt x="153" y="681"/>
                </a:lnTo>
                <a:lnTo>
                  <a:pt x="154" y="670"/>
                </a:lnTo>
                <a:lnTo>
                  <a:pt x="156" y="659"/>
                </a:lnTo>
                <a:lnTo>
                  <a:pt x="157" y="648"/>
                </a:lnTo>
                <a:lnTo>
                  <a:pt x="159" y="638"/>
                </a:lnTo>
                <a:lnTo>
                  <a:pt x="161" y="627"/>
                </a:lnTo>
                <a:lnTo>
                  <a:pt x="164" y="616"/>
                </a:lnTo>
                <a:lnTo>
                  <a:pt x="167" y="605"/>
                </a:lnTo>
                <a:lnTo>
                  <a:pt x="172" y="590"/>
                </a:lnTo>
                <a:lnTo>
                  <a:pt x="176" y="576"/>
                </a:lnTo>
                <a:lnTo>
                  <a:pt x="183" y="561"/>
                </a:lnTo>
                <a:lnTo>
                  <a:pt x="189" y="547"/>
                </a:lnTo>
                <a:lnTo>
                  <a:pt x="195" y="532"/>
                </a:lnTo>
                <a:lnTo>
                  <a:pt x="203" y="518"/>
                </a:lnTo>
                <a:lnTo>
                  <a:pt x="211" y="504"/>
                </a:lnTo>
                <a:lnTo>
                  <a:pt x="219" y="490"/>
                </a:lnTo>
                <a:lnTo>
                  <a:pt x="225" y="477"/>
                </a:lnTo>
                <a:lnTo>
                  <a:pt x="233" y="463"/>
                </a:lnTo>
                <a:lnTo>
                  <a:pt x="241" y="449"/>
                </a:lnTo>
                <a:lnTo>
                  <a:pt x="249" y="435"/>
                </a:lnTo>
                <a:lnTo>
                  <a:pt x="259" y="423"/>
                </a:lnTo>
                <a:lnTo>
                  <a:pt x="267" y="409"/>
                </a:lnTo>
                <a:lnTo>
                  <a:pt x="276" y="397"/>
                </a:lnTo>
                <a:lnTo>
                  <a:pt x="286" y="385"/>
                </a:lnTo>
                <a:lnTo>
                  <a:pt x="297" y="374"/>
                </a:lnTo>
                <a:lnTo>
                  <a:pt x="308" y="363"/>
                </a:lnTo>
                <a:lnTo>
                  <a:pt x="317" y="354"/>
                </a:lnTo>
                <a:lnTo>
                  <a:pt x="329" y="345"/>
                </a:lnTo>
                <a:lnTo>
                  <a:pt x="338" y="337"/>
                </a:lnTo>
                <a:lnTo>
                  <a:pt x="349" y="329"/>
                </a:lnTo>
                <a:lnTo>
                  <a:pt x="362" y="320"/>
                </a:lnTo>
                <a:lnTo>
                  <a:pt x="373" y="314"/>
                </a:lnTo>
                <a:lnTo>
                  <a:pt x="384" y="306"/>
                </a:lnTo>
                <a:lnTo>
                  <a:pt x="395" y="299"/>
                </a:lnTo>
                <a:lnTo>
                  <a:pt x="408" y="291"/>
                </a:lnTo>
                <a:lnTo>
                  <a:pt x="419" y="283"/>
                </a:lnTo>
                <a:lnTo>
                  <a:pt x="435" y="273"/>
                </a:lnTo>
                <a:lnTo>
                  <a:pt x="451" y="262"/>
                </a:lnTo>
                <a:lnTo>
                  <a:pt x="466" y="251"/>
                </a:lnTo>
                <a:lnTo>
                  <a:pt x="482" y="242"/>
                </a:lnTo>
                <a:lnTo>
                  <a:pt x="496" y="231"/>
                </a:lnTo>
                <a:lnTo>
                  <a:pt x="512" y="220"/>
                </a:lnTo>
                <a:lnTo>
                  <a:pt x="528" y="211"/>
                </a:lnTo>
                <a:lnTo>
                  <a:pt x="546" y="202"/>
                </a:lnTo>
                <a:lnTo>
                  <a:pt x="563" y="194"/>
                </a:lnTo>
                <a:lnTo>
                  <a:pt x="580" y="187"/>
                </a:lnTo>
                <a:lnTo>
                  <a:pt x="598" y="179"/>
                </a:lnTo>
                <a:lnTo>
                  <a:pt x="617" y="171"/>
                </a:lnTo>
                <a:lnTo>
                  <a:pt x="634" y="165"/>
                </a:lnTo>
                <a:lnTo>
                  <a:pt x="653" y="159"/>
                </a:lnTo>
                <a:lnTo>
                  <a:pt x="672" y="153"/>
                </a:lnTo>
                <a:lnTo>
                  <a:pt x="690" y="147"/>
                </a:lnTo>
                <a:lnTo>
                  <a:pt x="707" y="141"/>
                </a:lnTo>
                <a:lnTo>
                  <a:pt x="725" y="136"/>
                </a:lnTo>
                <a:lnTo>
                  <a:pt x="742" y="130"/>
                </a:lnTo>
                <a:lnTo>
                  <a:pt x="760" y="124"/>
                </a:lnTo>
                <a:lnTo>
                  <a:pt x="777" y="119"/>
                </a:lnTo>
                <a:lnTo>
                  <a:pt x="794" y="115"/>
                </a:lnTo>
                <a:lnTo>
                  <a:pt x="812" y="110"/>
                </a:lnTo>
                <a:lnTo>
                  <a:pt x="829" y="105"/>
                </a:lnTo>
                <a:lnTo>
                  <a:pt x="847" y="102"/>
                </a:lnTo>
                <a:lnTo>
                  <a:pt x="866" y="98"/>
                </a:lnTo>
                <a:lnTo>
                  <a:pt x="885" y="96"/>
                </a:lnTo>
                <a:lnTo>
                  <a:pt x="905" y="93"/>
                </a:lnTo>
                <a:lnTo>
                  <a:pt x="924" y="92"/>
                </a:lnTo>
                <a:lnTo>
                  <a:pt x="945" y="90"/>
                </a:lnTo>
                <a:lnTo>
                  <a:pt x="964" y="88"/>
                </a:lnTo>
                <a:lnTo>
                  <a:pt x="985" y="88"/>
                </a:lnTo>
                <a:lnTo>
                  <a:pt x="1005" y="88"/>
                </a:lnTo>
                <a:lnTo>
                  <a:pt x="1024" y="87"/>
                </a:lnTo>
                <a:lnTo>
                  <a:pt x="1053" y="87"/>
                </a:lnTo>
                <a:lnTo>
                  <a:pt x="1080" y="87"/>
                </a:lnTo>
                <a:lnTo>
                  <a:pt x="1107" y="87"/>
                </a:lnTo>
                <a:lnTo>
                  <a:pt x="1135" y="88"/>
                </a:lnTo>
                <a:lnTo>
                  <a:pt x="1162" y="88"/>
                </a:lnTo>
                <a:lnTo>
                  <a:pt x="1189" y="92"/>
                </a:lnTo>
                <a:lnTo>
                  <a:pt x="1216" y="93"/>
                </a:lnTo>
                <a:lnTo>
                  <a:pt x="1243" y="96"/>
                </a:lnTo>
                <a:lnTo>
                  <a:pt x="1265" y="99"/>
                </a:lnTo>
                <a:lnTo>
                  <a:pt x="1287" y="104"/>
                </a:lnTo>
                <a:lnTo>
                  <a:pt x="1308" y="107"/>
                </a:lnTo>
                <a:lnTo>
                  <a:pt x="1330" y="111"/>
                </a:lnTo>
                <a:lnTo>
                  <a:pt x="1351" y="116"/>
                </a:lnTo>
                <a:lnTo>
                  <a:pt x="1371" y="122"/>
                </a:lnTo>
                <a:lnTo>
                  <a:pt x="1393" y="127"/>
                </a:lnTo>
                <a:lnTo>
                  <a:pt x="1414" y="133"/>
                </a:lnTo>
                <a:lnTo>
                  <a:pt x="1435" y="138"/>
                </a:lnTo>
                <a:lnTo>
                  <a:pt x="1455" y="144"/>
                </a:lnTo>
                <a:lnTo>
                  <a:pt x="1476" y="148"/>
                </a:lnTo>
                <a:lnTo>
                  <a:pt x="1496" y="154"/>
                </a:lnTo>
                <a:lnTo>
                  <a:pt x="1515" y="162"/>
                </a:lnTo>
                <a:lnTo>
                  <a:pt x="1536" y="168"/>
                </a:lnTo>
                <a:lnTo>
                  <a:pt x="1555" y="176"/>
                </a:lnTo>
                <a:lnTo>
                  <a:pt x="1574" y="185"/>
                </a:lnTo>
                <a:lnTo>
                  <a:pt x="1593" y="193"/>
                </a:lnTo>
                <a:lnTo>
                  <a:pt x="1609" y="202"/>
                </a:lnTo>
                <a:lnTo>
                  <a:pt x="1625" y="213"/>
                </a:lnTo>
                <a:lnTo>
                  <a:pt x="1642" y="222"/>
                </a:lnTo>
                <a:lnTo>
                  <a:pt x="1657" y="233"/>
                </a:lnTo>
                <a:lnTo>
                  <a:pt x="1672" y="243"/>
                </a:lnTo>
                <a:lnTo>
                  <a:pt x="1688" y="254"/>
                </a:lnTo>
                <a:lnTo>
                  <a:pt x="1704" y="266"/>
                </a:lnTo>
                <a:lnTo>
                  <a:pt x="1718" y="277"/>
                </a:lnTo>
                <a:lnTo>
                  <a:pt x="1734" y="289"/>
                </a:lnTo>
                <a:lnTo>
                  <a:pt x="1745" y="297"/>
                </a:lnTo>
                <a:lnTo>
                  <a:pt x="1758" y="306"/>
                </a:lnTo>
                <a:lnTo>
                  <a:pt x="1769" y="316"/>
                </a:lnTo>
                <a:lnTo>
                  <a:pt x="1780" y="325"/>
                </a:lnTo>
                <a:lnTo>
                  <a:pt x="1793" y="334"/>
                </a:lnTo>
                <a:lnTo>
                  <a:pt x="1802" y="343"/>
                </a:lnTo>
                <a:lnTo>
                  <a:pt x="1813" y="352"/>
                </a:lnTo>
                <a:lnTo>
                  <a:pt x="1825" y="363"/>
                </a:lnTo>
                <a:lnTo>
                  <a:pt x="1834" y="374"/>
                </a:lnTo>
                <a:lnTo>
                  <a:pt x="1844" y="385"/>
                </a:lnTo>
                <a:lnTo>
                  <a:pt x="1853" y="395"/>
                </a:lnTo>
                <a:lnTo>
                  <a:pt x="1863" y="408"/>
                </a:lnTo>
                <a:lnTo>
                  <a:pt x="1870" y="420"/>
                </a:lnTo>
                <a:lnTo>
                  <a:pt x="1878" y="432"/>
                </a:lnTo>
                <a:lnTo>
                  <a:pt x="1886" y="446"/>
                </a:lnTo>
                <a:lnTo>
                  <a:pt x="1894" y="458"/>
                </a:lnTo>
                <a:lnTo>
                  <a:pt x="1901" y="472"/>
                </a:lnTo>
                <a:lnTo>
                  <a:pt x="1909" y="484"/>
                </a:lnTo>
                <a:lnTo>
                  <a:pt x="1916" y="498"/>
                </a:lnTo>
                <a:lnTo>
                  <a:pt x="1923" y="513"/>
                </a:lnTo>
                <a:lnTo>
                  <a:pt x="1931" y="527"/>
                </a:lnTo>
                <a:lnTo>
                  <a:pt x="1937" y="541"/>
                </a:lnTo>
                <a:lnTo>
                  <a:pt x="1942" y="555"/>
                </a:lnTo>
                <a:lnTo>
                  <a:pt x="1948" y="570"/>
                </a:lnTo>
                <a:lnTo>
                  <a:pt x="1953" y="584"/>
                </a:lnTo>
                <a:lnTo>
                  <a:pt x="1958" y="599"/>
                </a:lnTo>
                <a:lnTo>
                  <a:pt x="1961" y="615"/>
                </a:lnTo>
                <a:lnTo>
                  <a:pt x="1962" y="630"/>
                </a:lnTo>
                <a:lnTo>
                  <a:pt x="1964" y="647"/>
                </a:lnTo>
                <a:lnTo>
                  <a:pt x="1966" y="662"/>
                </a:lnTo>
                <a:lnTo>
                  <a:pt x="1966" y="679"/>
                </a:lnTo>
                <a:lnTo>
                  <a:pt x="1966" y="696"/>
                </a:lnTo>
                <a:lnTo>
                  <a:pt x="1964" y="713"/>
                </a:lnTo>
                <a:lnTo>
                  <a:pt x="1962" y="728"/>
                </a:lnTo>
                <a:lnTo>
                  <a:pt x="1959" y="745"/>
                </a:lnTo>
                <a:lnTo>
                  <a:pt x="1956" y="762"/>
                </a:lnTo>
                <a:lnTo>
                  <a:pt x="1953" y="779"/>
                </a:lnTo>
                <a:lnTo>
                  <a:pt x="1950" y="796"/>
                </a:lnTo>
                <a:lnTo>
                  <a:pt x="1947" y="813"/>
                </a:lnTo>
                <a:lnTo>
                  <a:pt x="1942" y="829"/>
                </a:lnTo>
                <a:lnTo>
                  <a:pt x="1937" y="845"/>
                </a:lnTo>
                <a:lnTo>
                  <a:pt x="1931" y="862"/>
                </a:lnTo>
                <a:lnTo>
                  <a:pt x="1924" y="877"/>
                </a:lnTo>
                <a:lnTo>
                  <a:pt x="1918" y="892"/>
                </a:lnTo>
                <a:lnTo>
                  <a:pt x="1910" y="908"/>
                </a:lnTo>
                <a:lnTo>
                  <a:pt x="1902" y="923"/>
                </a:lnTo>
                <a:lnTo>
                  <a:pt x="1894" y="937"/>
                </a:lnTo>
                <a:lnTo>
                  <a:pt x="1885" y="951"/>
                </a:lnTo>
                <a:lnTo>
                  <a:pt x="1875" y="964"/>
                </a:lnTo>
                <a:lnTo>
                  <a:pt x="1864" y="978"/>
                </a:lnTo>
                <a:lnTo>
                  <a:pt x="1853" y="990"/>
                </a:lnTo>
                <a:lnTo>
                  <a:pt x="1842" y="1003"/>
                </a:lnTo>
                <a:lnTo>
                  <a:pt x="1828" y="1015"/>
                </a:lnTo>
                <a:lnTo>
                  <a:pt x="1815" y="1027"/>
                </a:lnTo>
                <a:lnTo>
                  <a:pt x="1799" y="1040"/>
                </a:lnTo>
                <a:lnTo>
                  <a:pt x="1785" y="1050"/>
                </a:lnTo>
                <a:lnTo>
                  <a:pt x="1769" y="1061"/>
                </a:lnTo>
                <a:lnTo>
                  <a:pt x="1755" y="1072"/>
                </a:lnTo>
                <a:lnTo>
                  <a:pt x="1739" y="1083"/>
                </a:lnTo>
                <a:lnTo>
                  <a:pt x="1723" y="1092"/>
                </a:lnTo>
                <a:lnTo>
                  <a:pt x="1702" y="1104"/>
                </a:lnTo>
                <a:lnTo>
                  <a:pt x="1683" y="1116"/>
                </a:lnTo>
                <a:lnTo>
                  <a:pt x="1663" y="1129"/>
                </a:lnTo>
                <a:lnTo>
                  <a:pt x="1642" y="1141"/>
                </a:lnTo>
                <a:lnTo>
                  <a:pt x="1623" y="1153"/>
                </a:lnTo>
                <a:lnTo>
                  <a:pt x="1607" y="1162"/>
                </a:lnTo>
                <a:lnTo>
                  <a:pt x="1593" y="1171"/>
                </a:lnTo>
                <a:lnTo>
                  <a:pt x="1579" y="1181"/>
                </a:lnTo>
                <a:lnTo>
                  <a:pt x="1565" y="1190"/>
                </a:lnTo>
                <a:lnTo>
                  <a:pt x="1549" y="1198"/>
                </a:lnTo>
                <a:lnTo>
                  <a:pt x="1535" y="1207"/>
                </a:lnTo>
                <a:lnTo>
                  <a:pt x="1519" y="1214"/>
                </a:lnTo>
                <a:lnTo>
                  <a:pt x="1504" y="1222"/>
                </a:lnTo>
                <a:lnTo>
                  <a:pt x="1487" y="1230"/>
                </a:lnTo>
                <a:lnTo>
                  <a:pt x="1470" y="1236"/>
                </a:lnTo>
                <a:lnTo>
                  <a:pt x="1451" y="1242"/>
                </a:lnTo>
                <a:lnTo>
                  <a:pt x="1433" y="1248"/>
                </a:lnTo>
                <a:lnTo>
                  <a:pt x="1414" y="1253"/>
                </a:lnTo>
                <a:lnTo>
                  <a:pt x="1397" y="1257"/>
                </a:lnTo>
                <a:lnTo>
                  <a:pt x="1378" y="1262"/>
                </a:lnTo>
                <a:lnTo>
                  <a:pt x="1359" y="1265"/>
                </a:lnTo>
                <a:lnTo>
                  <a:pt x="1333" y="1270"/>
                </a:lnTo>
                <a:lnTo>
                  <a:pt x="1308" y="1273"/>
                </a:lnTo>
                <a:lnTo>
                  <a:pt x="1283" y="1276"/>
                </a:lnTo>
                <a:lnTo>
                  <a:pt x="1257" y="1279"/>
                </a:lnTo>
                <a:lnTo>
                  <a:pt x="1232" y="1280"/>
                </a:lnTo>
                <a:lnTo>
                  <a:pt x="1206" y="1282"/>
                </a:lnTo>
                <a:lnTo>
                  <a:pt x="1181" y="1283"/>
                </a:lnTo>
                <a:lnTo>
                  <a:pt x="1154" y="1283"/>
                </a:lnTo>
                <a:lnTo>
                  <a:pt x="1127" y="1283"/>
                </a:lnTo>
                <a:lnTo>
                  <a:pt x="1100" y="1283"/>
                </a:lnTo>
                <a:lnTo>
                  <a:pt x="1073" y="1282"/>
                </a:lnTo>
                <a:lnTo>
                  <a:pt x="1048" y="1282"/>
                </a:lnTo>
                <a:lnTo>
                  <a:pt x="1021" y="1279"/>
                </a:lnTo>
                <a:lnTo>
                  <a:pt x="993" y="1277"/>
                </a:lnTo>
                <a:lnTo>
                  <a:pt x="964" y="1273"/>
                </a:lnTo>
                <a:lnTo>
                  <a:pt x="935" y="1270"/>
                </a:lnTo>
                <a:lnTo>
                  <a:pt x="907" y="1265"/>
                </a:lnTo>
                <a:lnTo>
                  <a:pt x="878" y="1260"/>
                </a:lnTo>
                <a:lnTo>
                  <a:pt x="850" y="1254"/>
                </a:lnTo>
                <a:lnTo>
                  <a:pt x="828" y="1250"/>
                </a:lnTo>
                <a:lnTo>
                  <a:pt x="807" y="1245"/>
                </a:lnTo>
                <a:lnTo>
                  <a:pt x="787" y="1239"/>
                </a:lnTo>
                <a:lnTo>
                  <a:pt x="764" y="1233"/>
                </a:lnTo>
                <a:lnTo>
                  <a:pt x="744" y="1227"/>
                </a:lnTo>
                <a:lnTo>
                  <a:pt x="723" y="1219"/>
                </a:lnTo>
                <a:lnTo>
                  <a:pt x="703" y="1213"/>
                </a:lnTo>
                <a:lnTo>
                  <a:pt x="683" y="1204"/>
                </a:lnTo>
                <a:lnTo>
                  <a:pt x="664" y="1196"/>
                </a:lnTo>
                <a:lnTo>
                  <a:pt x="647" y="1187"/>
                </a:lnTo>
                <a:lnTo>
                  <a:pt x="630" y="1178"/>
                </a:lnTo>
                <a:lnTo>
                  <a:pt x="612" y="1167"/>
                </a:lnTo>
                <a:lnTo>
                  <a:pt x="595" y="1158"/>
                </a:lnTo>
                <a:lnTo>
                  <a:pt x="579" y="1147"/>
                </a:lnTo>
                <a:lnTo>
                  <a:pt x="561" y="1136"/>
                </a:lnTo>
                <a:lnTo>
                  <a:pt x="546" y="1125"/>
                </a:lnTo>
                <a:lnTo>
                  <a:pt x="530" y="1115"/>
                </a:lnTo>
                <a:lnTo>
                  <a:pt x="516" y="1104"/>
                </a:lnTo>
                <a:lnTo>
                  <a:pt x="501" y="1093"/>
                </a:lnTo>
                <a:lnTo>
                  <a:pt x="487" y="1081"/>
                </a:lnTo>
                <a:lnTo>
                  <a:pt x="473" y="1070"/>
                </a:lnTo>
                <a:lnTo>
                  <a:pt x="458" y="1058"/>
                </a:lnTo>
                <a:lnTo>
                  <a:pt x="446" y="1046"/>
                </a:lnTo>
                <a:lnTo>
                  <a:pt x="433" y="1035"/>
                </a:lnTo>
                <a:lnTo>
                  <a:pt x="422" y="1023"/>
                </a:lnTo>
                <a:lnTo>
                  <a:pt x="411" y="1010"/>
                </a:lnTo>
                <a:lnTo>
                  <a:pt x="401" y="998"/>
                </a:lnTo>
                <a:lnTo>
                  <a:pt x="392" y="986"/>
                </a:lnTo>
                <a:lnTo>
                  <a:pt x="382" y="972"/>
                </a:lnTo>
                <a:lnTo>
                  <a:pt x="373" y="960"/>
                </a:lnTo>
                <a:lnTo>
                  <a:pt x="363" y="946"/>
                </a:lnTo>
                <a:lnTo>
                  <a:pt x="355" y="932"/>
                </a:lnTo>
                <a:lnTo>
                  <a:pt x="349" y="920"/>
                </a:lnTo>
                <a:lnTo>
                  <a:pt x="341" y="905"/>
                </a:lnTo>
                <a:lnTo>
                  <a:pt x="335" y="891"/>
                </a:lnTo>
                <a:lnTo>
                  <a:pt x="329" y="877"/>
                </a:lnTo>
                <a:lnTo>
                  <a:pt x="324" y="863"/>
                </a:lnTo>
                <a:lnTo>
                  <a:pt x="319" y="848"/>
                </a:lnTo>
                <a:lnTo>
                  <a:pt x="314" y="834"/>
                </a:lnTo>
                <a:lnTo>
                  <a:pt x="311" y="819"/>
                </a:lnTo>
                <a:lnTo>
                  <a:pt x="308" y="805"/>
                </a:lnTo>
                <a:lnTo>
                  <a:pt x="306" y="790"/>
                </a:lnTo>
                <a:lnTo>
                  <a:pt x="303" y="774"/>
                </a:lnTo>
                <a:lnTo>
                  <a:pt x="302" y="759"/>
                </a:lnTo>
                <a:lnTo>
                  <a:pt x="300" y="745"/>
                </a:lnTo>
                <a:lnTo>
                  <a:pt x="298" y="730"/>
                </a:lnTo>
                <a:lnTo>
                  <a:pt x="297" y="717"/>
                </a:lnTo>
                <a:lnTo>
                  <a:pt x="297" y="705"/>
                </a:lnTo>
                <a:lnTo>
                  <a:pt x="295" y="693"/>
                </a:lnTo>
                <a:lnTo>
                  <a:pt x="295" y="681"/>
                </a:lnTo>
                <a:lnTo>
                  <a:pt x="294" y="668"/>
                </a:lnTo>
                <a:lnTo>
                  <a:pt x="295" y="658"/>
                </a:lnTo>
                <a:lnTo>
                  <a:pt x="295" y="645"/>
                </a:lnTo>
                <a:lnTo>
                  <a:pt x="297" y="633"/>
                </a:lnTo>
                <a:lnTo>
                  <a:pt x="298" y="622"/>
                </a:lnTo>
                <a:lnTo>
                  <a:pt x="300" y="610"/>
                </a:lnTo>
                <a:lnTo>
                  <a:pt x="303" y="598"/>
                </a:lnTo>
                <a:lnTo>
                  <a:pt x="308" y="587"/>
                </a:lnTo>
                <a:lnTo>
                  <a:pt x="313" y="575"/>
                </a:lnTo>
                <a:lnTo>
                  <a:pt x="317" y="562"/>
                </a:lnTo>
                <a:lnTo>
                  <a:pt x="324" y="552"/>
                </a:lnTo>
                <a:lnTo>
                  <a:pt x="330" y="541"/>
                </a:lnTo>
                <a:lnTo>
                  <a:pt x="336" y="529"/>
                </a:lnTo>
                <a:lnTo>
                  <a:pt x="344" y="518"/>
                </a:lnTo>
                <a:lnTo>
                  <a:pt x="351" y="507"/>
                </a:lnTo>
                <a:lnTo>
                  <a:pt x="357" y="495"/>
                </a:lnTo>
                <a:lnTo>
                  <a:pt x="365" y="483"/>
                </a:lnTo>
                <a:lnTo>
                  <a:pt x="373" y="470"/>
                </a:lnTo>
                <a:lnTo>
                  <a:pt x="381" y="458"/>
                </a:lnTo>
                <a:lnTo>
                  <a:pt x="389" y="447"/>
                </a:lnTo>
                <a:lnTo>
                  <a:pt x="397" y="435"/>
                </a:lnTo>
                <a:lnTo>
                  <a:pt x="406" y="423"/>
                </a:lnTo>
                <a:lnTo>
                  <a:pt x="414" y="412"/>
                </a:lnTo>
                <a:lnTo>
                  <a:pt x="424" y="401"/>
                </a:lnTo>
                <a:lnTo>
                  <a:pt x="435" y="391"/>
                </a:lnTo>
                <a:lnTo>
                  <a:pt x="446" y="381"/>
                </a:lnTo>
                <a:lnTo>
                  <a:pt x="457" y="371"/>
                </a:lnTo>
                <a:lnTo>
                  <a:pt x="470" y="362"/>
                </a:lnTo>
                <a:lnTo>
                  <a:pt x="482" y="352"/>
                </a:lnTo>
                <a:lnTo>
                  <a:pt x="495" y="343"/>
                </a:lnTo>
                <a:lnTo>
                  <a:pt x="508" y="335"/>
                </a:lnTo>
                <a:lnTo>
                  <a:pt x="522" y="328"/>
                </a:lnTo>
                <a:lnTo>
                  <a:pt x="535" y="320"/>
                </a:lnTo>
                <a:lnTo>
                  <a:pt x="549" y="312"/>
                </a:lnTo>
                <a:lnTo>
                  <a:pt x="571" y="302"/>
                </a:lnTo>
                <a:lnTo>
                  <a:pt x="592" y="291"/>
                </a:lnTo>
                <a:lnTo>
                  <a:pt x="614" y="280"/>
                </a:lnTo>
                <a:lnTo>
                  <a:pt x="634" y="269"/>
                </a:lnTo>
                <a:lnTo>
                  <a:pt x="657" y="260"/>
                </a:lnTo>
                <a:lnTo>
                  <a:pt x="676" y="253"/>
                </a:lnTo>
                <a:lnTo>
                  <a:pt x="695" y="245"/>
                </a:lnTo>
                <a:lnTo>
                  <a:pt x="714" y="237"/>
                </a:lnTo>
                <a:lnTo>
                  <a:pt x="733" y="230"/>
                </a:lnTo>
                <a:lnTo>
                  <a:pt x="752" y="223"/>
                </a:lnTo>
                <a:lnTo>
                  <a:pt x="771" y="217"/>
                </a:lnTo>
                <a:lnTo>
                  <a:pt x="791" y="211"/>
                </a:lnTo>
                <a:lnTo>
                  <a:pt x="812" y="207"/>
                </a:lnTo>
                <a:lnTo>
                  <a:pt x="832" y="200"/>
                </a:lnTo>
                <a:lnTo>
                  <a:pt x="853" y="196"/>
                </a:lnTo>
                <a:lnTo>
                  <a:pt x="874" y="193"/>
                </a:lnTo>
                <a:lnTo>
                  <a:pt x="894" y="188"/>
                </a:lnTo>
                <a:lnTo>
                  <a:pt x="916" y="185"/>
                </a:lnTo>
                <a:lnTo>
                  <a:pt x="937" y="182"/>
                </a:lnTo>
                <a:lnTo>
                  <a:pt x="959" y="181"/>
                </a:lnTo>
                <a:lnTo>
                  <a:pt x="981" y="177"/>
                </a:lnTo>
                <a:lnTo>
                  <a:pt x="1005" y="176"/>
                </a:lnTo>
                <a:lnTo>
                  <a:pt x="1027" y="174"/>
                </a:lnTo>
                <a:lnTo>
                  <a:pt x="1050" y="174"/>
                </a:lnTo>
                <a:lnTo>
                  <a:pt x="1072" y="173"/>
                </a:lnTo>
                <a:lnTo>
                  <a:pt x="1096" y="174"/>
                </a:lnTo>
                <a:lnTo>
                  <a:pt x="1116" y="174"/>
                </a:lnTo>
                <a:lnTo>
                  <a:pt x="1137" y="176"/>
                </a:lnTo>
                <a:lnTo>
                  <a:pt x="1157" y="177"/>
                </a:lnTo>
                <a:lnTo>
                  <a:pt x="1178" y="179"/>
                </a:lnTo>
                <a:lnTo>
                  <a:pt x="1199" y="182"/>
                </a:lnTo>
                <a:lnTo>
                  <a:pt x="1219" y="185"/>
                </a:lnTo>
                <a:lnTo>
                  <a:pt x="1240" y="188"/>
                </a:lnTo>
                <a:lnTo>
                  <a:pt x="1262" y="191"/>
                </a:lnTo>
                <a:lnTo>
                  <a:pt x="1284" y="196"/>
                </a:lnTo>
                <a:lnTo>
                  <a:pt x="1308" y="200"/>
                </a:lnTo>
                <a:lnTo>
                  <a:pt x="1330" y="205"/>
                </a:lnTo>
                <a:lnTo>
                  <a:pt x="1352" y="211"/>
                </a:lnTo>
                <a:lnTo>
                  <a:pt x="1373" y="217"/>
                </a:lnTo>
                <a:lnTo>
                  <a:pt x="1397" y="223"/>
                </a:lnTo>
                <a:lnTo>
                  <a:pt x="1420" y="231"/>
                </a:lnTo>
                <a:lnTo>
                  <a:pt x="1444" y="240"/>
                </a:lnTo>
                <a:lnTo>
                  <a:pt x="1466" y="250"/>
                </a:lnTo>
                <a:lnTo>
                  <a:pt x="1489" y="259"/>
                </a:lnTo>
                <a:lnTo>
                  <a:pt x="1511" y="269"/>
                </a:lnTo>
                <a:lnTo>
                  <a:pt x="1528" y="277"/>
                </a:lnTo>
                <a:lnTo>
                  <a:pt x="1546" y="286"/>
                </a:lnTo>
                <a:lnTo>
                  <a:pt x="1561" y="296"/>
                </a:lnTo>
                <a:lnTo>
                  <a:pt x="1579" y="305"/>
                </a:lnTo>
                <a:lnTo>
                  <a:pt x="1595" y="316"/>
                </a:lnTo>
                <a:lnTo>
                  <a:pt x="1611" y="326"/>
                </a:lnTo>
                <a:lnTo>
                  <a:pt x="1626" y="337"/>
                </a:lnTo>
                <a:lnTo>
                  <a:pt x="1642" y="349"/>
                </a:lnTo>
                <a:lnTo>
                  <a:pt x="1658" y="363"/>
                </a:lnTo>
                <a:lnTo>
                  <a:pt x="1672" y="375"/>
                </a:lnTo>
                <a:lnTo>
                  <a:pt x="1687" y="389"/>
                </a:lnTo>
                <a:lnTo>
                  <a:pt x="1701" y="404"/>
                </a:lnTo>
                <a:lnTo>
                  <a:pt x="1714" y="420"/>
                </a:lnTo>
                <a:lnTo>
                  <a:pt x="1726" y="435"/>
                </a:lnTo>
                <a:lnTo>
                  <a:pt x="1739" y="450"/>
                </a:lnTo>
                <a:lnTo>
                  <a:pt x="1750" y="466"/>
                </a:lnTo>
                <a:lnTo>
                  <a:pt x="1761" y="483"/>
                </a:lnTo>
                <a:lnTo>
                  <a:pt x="1772" y="500"/>
                </a:lnTo>
                <a:lnTo>
                  <a:pt x="1782" y="518"/>
                </a:lnTo>
                <a:lnTo>
                  <a:pt x="1790" y="535"/>
                </a:lnTo>
                <a:lnTo>
                  <a:pt x="1799" y="553"/>
                </a:lnTo>
                <a:lnTo>
                  <a:pt x="1804" y="564"/>
                </a:lnTo>
                <a:lnTo>
                  <a:pt x="1807" y="575"/>
                </a:lnTo>
                <a:lnTo>
                  <a:pt x="1812" y="584"/>
                </a:lnTo>
                <a:lnTo>
                  <a:pt x="1815" y="595"/>
                </a:lnTo>
                <a:lnTo>
                  <a:pt x="1820" y="607"/>
                </a:lnTo>
                <a:lnTo>
                  <a:pt x="1821" y="618"/>
                </a:lnTo>
                <a:lnTo>
                  <a:pt x="1825" y="628"/>
                </a:lnTo>
                <a:lnTo>
                  <a:pt x="1826" y="639"/>
                </a:lnTo>
                <a:lnTo>
                  <a:pt x="1829" y="653"/>
                </a:lnTo>
                <a:lnTo>
                  <a:pt x="1829" y="668"/>
                </a:lnTo>
                <a:lnTo>
                  <a:pt x="1831" y="682"/>
                </a:lnTo>
                <a:lnTo>
                  <a:pt x="1831" y="697"/>
                </a:lnTo>
                <a:lnTo>
                  <a:pt x="1829" y="711"/>
                </a:lnTo>
                <a:lnTo>
                  <a:pt x="1828" y="725"/>
                </a:lnTo>
                <a:lnTo>
                  <a:pt x="1826" y="740"/>
                </a:lnTo>
                <a:lnTo>
                  <a:pt x="1823" y="754"/>
                </a:lnTo>
                <a:lnTo>
                  <a:pt x="1820" y="771"/>
                </a:lnTo>
                <a:lnTo>
                  <a:pt x="1815" y="786"/>
                </a:lnTo>
                <a:lnTo>
                  <a:pt x="1809" y="802"/>
                </a:lnTo>
                <a:lnTo>
                  <a:pt x="1804" y="817"/>
                </a:lnTo>
                <a:lnTo>
                  <a:pt x="1798" y="832"/>
                </a:lnTo>
                <a:lnTo>
                  <a:pt x="1790" y="848"/>
                </a:lnTo>
                <a:lnTo>
                  <a:pt x="1782" y="862"/>
                </a:lnTo>
                <a:lnTo>
                  <a:pt x="1774" y="878"/>
                </a:lnTo>
                <a:lnTo>
                  <a:pt x="1764" y="892"/>
                </a:lnTo>
                <a:lnTo>
                  <a:pt x="1755" y="908"/>
                </a:lnTo>
                <a:lnTo>
                  <a:pt x="1744" y="923"/>
                </a:lnTo>
                <a:lnTo>
                  <a:pt x="1733" y="937"/>
                </a:lnTo>
                <a:lnTo>
                  <a:pt x="1722" y="951"/>
                </a:lnTo>
                <a:lnTo>
                  <a:pt x="1710" y="963"/>
                </a:lnTo>
                <a:lnTo>
                  <a:pt x="1698" y="975"/>
                </a:lnTo>
                <a:lnTo>
                  <a:pt x="1685" y="986"/>
                </a:lnTo>
                <a:lnTo>
                  <a:pt x="1672" y="997"/>
                </a:lnTo>
                <a:lnTo>
                  <a:pt x="1660" y="1007"/>
                </a:lnTo>
                <a:lnTo>
                  <a:pt x="1645" y="1018"/>
                </a:lnTo>
                <a:lnTo>
                  <a:pt x="1633" y="1029"/>
                </a:lnTo>
                <a:lnTo>
                  <a:pt x="1619" y="1038"/>
                </a:lnTo>
                <a:lnTo>
                  <a:pt x="1606" y="1049"/>
                </a:lnTo>
                <a:lnTo>
                  <a:pt x="1592" y="1058"/>
                </a:lnTo>
                <a:lnTo>
                  <a:pt x="1579" y="1067"/>
                </a:lnTo>
                <a:lnTo>
                  <a:pt x="1565" y="1076"/>
                </a:lnTo>
                <a:lnTo>
                  <a:pt x="1550" y="1086"/>
                </a:lnTo>
                <a:lnTo>
                  <a:pt x="1536" y="1095"/>
                </a:lnTo>
                <a:lnTo>
                  <a:pt x="1522" y="1102"/>
                </a:lnTo>
                <a:lnTo>
                  <a:pt x="1508" y="1110"/>
                </a:lnTo>
                <a:lnTo>
                  <a:pt x="1492" y="1118"/>
                </a:lnTo>
                <a:lnTo>
                  <a:pt x="1474" y="1125"/>
                </a:lnTo>
                <a:lnTo>
                  <a:pt x="1457" y="1133"/>
                </a:lnTo>
                <a:lnTo>
                  <a:pt x="1441" y="1139"/>
                </a:lnTo>
                <a:lnTo>
                  <a:pt x="1424" y="1145"/>
                </a:lnTo>
                <a:lnTo>
                  <a:pt x="1406" y="1152"/>
                </a:lnTo>
                <a:lnTo>
                  <a:pt x="1387" y="1156"/>
                </a:lnTo>
                <a:lnTo>
                  <a:pt x="1370" y="1161"/>
                </a:lnTo>
                <a:lnTo>
                  <a:pt x="1348" y="1165"/>
                </a:lnTo>
                <a:lnTo>
                  <a:pt x="1325" y="1170"/>
                </a:lnTo>
                <a:lnTo>
                  <a:pt x="1302" y="1175"/>
                </a:lnTo>
                <a:lnTo>
                  <a:pt x="1279" y="1178"/>
                </a:lnTo>
                <a:lnTo>
                  <a:pt x="1257" y="1181"/>
                </a:lnTo>
                <a:lnTo>
                  <a:pt x="1233" y="1182"/>
                </a:lnTo>
                <a:lnTo>
                  <a:pt x="1211" y="1184"/>
                </a:lnTo>
                <a:lnTo>
                  <a:pt x="1187" y="1185"/>
                </a:lnTo>
                <a:lnTo>
                  <a:pt x="1161" y="1187"/>
                </a:lnTo>
                <a:lnTo>
                  <a:pt x="1134" y="1187"/>
                </a:lnTo>
                <a:lnTo>
                  <a:pt x="1107" y="1187"/>
                </a:lnTo>
                <a:lnTo>
                  <a:pt x="1080" y="1187"/>
                </a:lnTo>
                <a:lnTo>
                  <a:pt x="1053" y="1185"/>
                </a:lnTo>
                <a:lnTo>
                  <a:pt x="1026" y="1184"/>
                </a:lnTo>
                <a:lnTo>
                  <a:pt x="999" y="1181"/>
                </a:lnTo>
                <a:lnTo>
                  <a:pt x="977" y="1178"/>
                </a:lnTo>
                <a:lnTo>
                  <a:pt x="953" y="1175"/>
                </a:lnTo>
                <a:lnTo>
                  <a:pt x="931" y="1170"/>
                </a:lnTo>
                <a:lnTo>
                  <a:pt x="909" y="1165"/>
                </a:lnTo>
                <a:lnTo>
                  <a:pt x="886" y="1161"/>
                </a:lnTo>
                <a:lnTo>
                  <a:pt x="864" y="1156"/>
                </a:lnTo>
                <a:lnTo>
                  <a:pt x="842" y="1150"/>
                </a:lnTo>
                <a:lnTo>
                  <a:pt x="825" y="1145"/>
                </a:lnTo>
                <a:lnTo>
                  <a:pt x="806" y="1139"/>
                </a:lnTo>
                <a:lnTo>
                  <a:pt x="788" y="1135"/>
                </a:lnTo>
                <a:lnTo>
                  <a:pt x="771" y="1129"/>
                </a:lnTo>
                <a:lnTo>
                  <a:pt x="753" y="1121"/>
                </a:lnTo>
                <a:lnTo>
                  <a:pt x="736" y="1115"/>
                </a:lnTo>
                <a:lnTo>
                  <a:pt x="718" y="1107"/>
                </a:lnTo>
                <a:lnTo>
                  <a:pt x="703" y="1098"/>
                </a:lnTo>
                <a:lnTo>
                  <a:pt x="687" y="1089"/>
                </a:lnTo>
                <a:lnTo>
                  <a:pt x="676" y="1081"/>
                </a:lnTo>
                <a:lnTo>
                  <a:pt x="664" y="1073"/>
                </a:lnTo>
                <a:lnTo>
                  <a:pt x="653" y="1066"/>
                </a:lnTo>
                <a:lnTo>
                  <a:pt x="642" y="1058"/>
                </a:lnTo>
                <a:lnTo>
                  <a:pt x="631" y="1049"/>
                </a:lnTo>
                <a:lnTo>
                  <a:pt x="622" y="1040"/>
                </a:lnTo>
                <a:lnTo>
                  <a:pt x="611" y="1032"/>
                </a:lnTo>
                <a:lnTo>
                  <a:pt x="600" y="1023"/>
                </a:lnTo>
                <a:lnTo>
                  <a:pt x="590" y="1013"/>
                </a:lnTo>
                <a:lnTo>
                  <a:pt x="576" y="1001"/>
                </a:lnTo>
                <a:lnTo>
                  <a:pt x="561" y="987"/>
                </a:lnTo>
                <a:lnTo>
                  <a:pt x="547" y="975"/>
                </a:lnTo>
                <a:lnTo>
                  <a:pt x="535" y="963"/>
                </a:lnTo>
                <a:lnTo>
                  <a:pt x="522" y="949"/>
                </a:lnTo>
                <a:lnTo>
                  <a:pt x="509" y="935"/>
                </a:lnTo>
                <a:lnTo>
                  <a:pt x="496" y="920"/>
                </a:lnTo>
                <a:lnTo>
                  <a:pt x="485" y="906"/>
                </a:lnTo>
                <a:lnTo>
                  <a:pt x="479" y="894"/>
                </a:lnTo>
                <a:lnTo>
                  <a:pt x="471" y="883"/>
                </a:lnTo>
                <a:lnTo>
                  <a:pt x="465" y="871"/>
                </a:lnTo>
                <a:lnTo>
                  <a:pt x="460" y="859"/>
                </a:lnTo>
                <a:lnTo>
                  <a:pt x="454" y="846"/>
                </a:lnTo>
                <a:lnTo>
                  <a:pt x="449" y="834"/>
                </a:lnTo>
                <a:lnTo>
                  <a:pt x="446" y="822"/>
                </a:lnTo>
                <a:lnTo>
                  <a:pt x="441" y="808"/>
                </a:lnTo>
                <a:lnTo>
                  <a:pt x="438" y="796"/>
                </a:lnTo>
                <a:lnTo>
                  <a:pt x="435" y="782"/>
                </a:lnTo>
                <a:lnTo>
                  <a:pt x="433" y="770"/>
                </a:lnTo>
                <a:lnTo>
                  <a:pt x="432" y="756"/>
                </a:lnTo>
                <a:lnTo>
                  <a:pt x="430" y="743"/>
                </a:lnTo>
                <a:lnTo>
                  <a:pt x="430" y="730"/>
                </a:lnTo>
                <a:lnTo>
                  <a:pt x="430" y="717"/>
                </a:lnTo>
                <a:lnTo>
                  <a:pt x="430" y="704"/>
                </a:lnTo>
                <a:lnTo>
                  <a:pt x="432" y="688"/>
                </a:lnTo>
                <a:lnTo>
                  <a:pt x="433" y="673"/>
                </a:lnTo>
                <a:lnTo>
                  <a:pt x="436" y="658"/>
                </a:lnTo>
                <a:lnTo>
                  <a:pt x="441" y="642"/>
                </a:lnTo>
                <a:lnTo>
                  <a:pt x="444" y="627"/>
                </a:lnTo>
                <a:lnTo>
                  <a:pt x="451" y="612"/>
                </a:lnTo>
                <a:lnTo>
                  <a:pt x="455" y="596"/>
                </a:lnTo>
                <a:lnTo>
                  <a:pt x="462" y="582"/>
                </a:lnTo>
                <a:lnTo>
                  <a:pt x="468" y="567"/>
                </a:lnTo>
                <a:lnTo>
                  <a:pt x="476" y="555"/>
                </a:lnTo>
                <a:lnTo>
                  <a:pt x="482" y="541"/>
                </a:lnTo>
                <a:lnTo>
                  <a:pt x="490" y="527"/>
                </a:lnTo>
                <a:lnTo>
                  <a:pt x="500" y="515"/>
                </a:lnTo>
                <a:lnTo>
                  <a:pt x="508" y="503"/>
                </a:lnTo>
                <a:lnTo>
                  <a:pt x="517" y="490"/>
                </a:lnTo>
                <a:lnTo>
                  <a:pt x="528" y="478"/>
                </a:lnTo>
                <a:lnTo>
                  <a:pt x="538" y="467"/>
                </a:lnTo>
                <a:lnTo>
                  <a:pt x="550" y="455"/>
                </a:lnTo>
                <a:lnTo>
                  <a:pt x="563" y="443"/>
                </a:lnTo>
                <a:lnTo>
                  <a:pt x="577" y="432"/>
                </a:lnTo>
                <a:lnTo>
                  <a:pt x="590" y="421"/>
                </a:lnTo>
                <a:lnTo>
                  <a:pt x="604" y="411"/>
                </a:lnTo>
                <a:lnTo>
                  <a:pt x="619" y="401"/>
                </a:lnTo>
                <a:lnTo>
                  <a:pt x="634" y="392"/>
                </a:lnTo>
                <a:lnTo>
                  <a:pt x="649" y="383"/>
                </a:lnTo>
                <a:lnTo>
                  <a:pt x="664" y="374"/>
                </a:lnTo>
                <a:lnTo>
                  <a:pt x="677" y="366"/>
                </a:lnTo>
                <a:lnTo>
                  <a:pt x="691" y="358"/>
                </a:lnTo>
                <a:lnTo>
                  <a:pt x="704" y="351"/>
                </a:lnTo>
                <a:lnTo>
                  <a:pt x="718" y="343"/>
                </a:lnTo>
                <a:lnTo>
                  <a:pt x="731" y="337"/>
                </a:lnTo>
                <a:lnTo>
                  <a:pt x="745" y="331"/>
                </a:lnTo>
                <a:lnTo>
                  <a:pt x="760" y="325"/>
                </a:lnTo>
                <a:lnTo>
                  <a:pt x="774" y="320"/>
                </a:lnTo>
                <a:lnTo>
                  <a:pt x="791" y="314"/>
                </a:lnTo>
                <a:lnTo>
                  <a:pt x="809" y="309"/>
                </a:lnTo>
                <a:lnTo>
                  <a:pt x="826" y="305"/>
                </a:lnTo>
                <a:lnTo>
                  <a:pt x="844" y="300"/>
                </a:lnTo>
                <a:lnTo>
                  <a:pt x="863" y="297"/>
                </a:lnTo>
                <a:lnTo>
                  <a:pt x="880" y="294"/>
                </a:lnTo>
                <a:lnTo>
                  <a:pt x="899" y="291"/>
                </a:lnTo>
                <a:lnTo>
                  <a:pt x="916" y="289"/>
                </a:lnTo>
                <a:lnTo>
                  <a:pt x="935" y="286"/>
                </a:lnTo>
                <a:lnTo>
                  <a:pt x="954" y="283"/>
                </a:lnTo>
                <a:lnTo>
                  <a:pt x="974" y="280"/>
                </a:lnTo>
                <a:lnTo>
                  <a:pt x="993" y="279"/>
                </a:lnTo>
                <a:lnTo>
                  <a:pt x="1012" y="276"/>
                </a:lnTo>
                <a:lnTo>
                  <a:pt x="1031" y="274"/>
                </a:lnTo>
                <a:lnTo>
                  <a:pt x="1051" y="273"/>
                </a:lnTo>
                <a:lnTo>
                  <a:pt x="1069" y="271"/>
                </a:lnTo>
                <a:lnTo>
                  <a:pt x="1088" y="271"/>
                </a:lnTo>
                <a:lnTo>
                  <a:pt x="1107" y="271"/>
                </a:lnTo>
                <a:lnTo>
                  <a:pt x="1126" y="273"/>
                </a:lnTo>
                <a:lnTo>
                  <a:pt x="1143" y="273"/>
                </a:lnTo>
                <a:lnTo>
                  <a:pt x="1162" y="274"/>
                </a:lnTo>
                <a:lnTo>
                  <a:pt x="1181" y="277"/>
                </a:lnTo>
                <a:lnTo>
                  <a:pt x="1199" y="280"/>
                </a:lnTo>
                <a:lnTo>
                  <a:pt x="1218" y="283"/>
                </a:lnTo>
                <a:lnTo>
                  <a:pt x="1237" y="288"/>
                </a:lnTo>
                <a:lnTo>
                  <a:pt x="1254" y="292"/>
                </a:lnTo>
                <a:lnTo>
                  <a:pt x="1273" y="297"/>
                </a:lnTo>
                <a:lnTo>
                  <a:pt x="1290" y="303"/>
                </a:lnTo>
                <a:lnTo>
                  <a:pt x="1309" y="309"/>
                </a:lnTo>
                <a:lnTo>
                  <a:pt x="1327" y="316"/>
                </a:lnTo>
                <a:lnTo>
                  <a:pt x="1344" y="323"/>
                </a:lnTo>
                <a:lnTo>
                  <a:pt x="1362" y="331"/>
                </a:lnTo>
                <a:lnTo>
                  <a:pt x="1381" y="339"/>
                </a:lnTo>
                <a:lnTo>
                  <a:pt x="1398" y="348"/>
                </a:lnTo>
                <a:lnTo>
                  <a:pt x="1417" y="357"/>
                </a:lnTo>
                <a:lnTo>
                  <a:pt x="1435" y="366"/>
                </a:lnTo>
                <a:lnTo>
                  <a:pt x="1452" y="375"/>
                </a:lnTo>
                <a:lnTo>
                  <a:pt x="1470" y="385"/>
                </a:lnTo>
                <a:lnTo>
                  <a:pt x="1482" y="391"/>
                </a:lnTo>
                <a:lnTo>
                  <a:pt x="1493" y="397"/>
                </a:lnTo>
                <a:lnTo>
                  <a:pt x="1506" y="403"/>
                </a:lnTo>
                <a:lnTo>
                  <a:pt x="1517" y="409"/>
                </a:lnTo>
                <a:lnTo>
                  <a:pt x="1528" y="415"/>
                </a:lnTo>
                <a:lnTo>
                  <a:pt x="1539" y="421"/>
                </a:lnTo>
                <a:lnTo>
                  <a:pt x="1550" y="429"/>
                </a:lnTo>
                <a:lnTo>
                  <a:pt x="1560" y="437"/>
                </a:lnTo>
                <a:lnTo>
                  <a:pt x="1571" y="446"/>
                </a:lnTo>
                <a:lnTo>
                  <a:pt x="1579" y="454"/>
                </a:lnTo>
                <a:lnTo>
                  <a:pt x="1588" y="461"/>
                </a:lnTo>
                <a:lnTo>
                  <a:pt x="1596" y="470"/>
                </a:lnTo>
                <a:lnTo>
                  <a:pt x="1604" y="480"/>
                </a:lnTo>
                <a:lnTo>
                  <a:pt x="1611" y="490"/>
                </a:lnTo>
                <a:lnTo>
                  <a:pt x="1619" y="500"/>
                </a:lnTo>
                <a:lnTo>
                  <a:pt x="1625" y="510"/>
                </a:lnTo>
                <a:lnTo>
                  <a:pt x="1630" y="521"/>
                </a:lnTo>
                <a:lnTo>
                  <a:pt x="1636" y="532"/>
                </a:lnTo>
                <a:lnTo>
                  <a:pt x="1641" y="544"/>
                </a:lnTo>
                <a:lnTo>
                  <a:pt x="1647" y="558"/>
                </a:lnTo>
                <a:lnTo>
                  <a:pt x="1652" y="572"/>
                </a:lnTo>
                <a:lnTo>
                  <a:pt x="1655" y="585"/>
                </a:lnTo>
                <a:lnTo>
                  <a:pt x="1660" y="599"/>
                </a:lnTo>
                <a:lnTo>
                  <a:pt x="1663" y="615"/>
                </a:lnTo>
                <a:lnTo>
                  <a:pt x="1664" y="628"/>
                </a:lnTo>
                <a:lnTo>
                  <a:pt x="1668" y="642"/>
                </a:lnTo>
                <a:lnTo>
                  <a:pt x="1669" y="658"/>
                </a:lnTo>
                <a:lnTo>
                  <a:pt x="1671" y="671"/>
                </a:lnTo>
                <a:lnTo>
                  <a:pt x="1671" y="687"/>
                </a:lnTo>
                <a:lnTo>
                  <a:pt x="1671" y="701"/>
                </a:lnTo>
                <a:lnTo>
                  <a:pt x="1671" y="714"/>
                </a:lnTo>
                <a:lnTo>
                  <a:pt x="1671" y="730"/>
                </a:lnTo>
                <a:lnTo>
                  <a:pt x="1669" y="743"/>
                </a:lnTo>
                <a:lnTo>
                  <a:pt x="1668" y="757"/>
                </a:lnTo>
                <a:lnTo>
                  <a:pt x="1664" y="770"/>
                </a:lnTo>
                <a:lnTo>
                  <a:pt x="1661" y="782"/>
                </a:lnTo>
                <a:lnTo>
                  <a:pt x="1658" y="794"/>
                </a:lnTo>
                <a:lnTo>
                  <a:pt x="1655" y="806"/>
                </a:lnTo>
                <a:lnTo>
                  <a:pt x="1650" y="817"/>
                </a:lnTo>
                <a:lnTo>
                  <a:pt x="1645" y="829"/>
                </a:lnTo>
                <a:lnTo>
                  <a:pt x="1639" y="840"/>
                </a:lnTo>
                <a:lnTo>
                  <a:pt x="1634" y="851"/>
                </a:lnTo>
                <a:lnTo>
                  <a:pt x="1625" y="865"/>
                </a:lnTo>
                <a:lnTo>
                  <a:pt x="1617" y="878"/>
                </a:lnTo>
                <a:lnTo>
                  <a:pt x="1607" y="891"/>
                </a:lnTo>
                <a:lnTo>
                  <a:pt x="1596" y="903"/>
                </a:lnTo>
                <a:lnTo>
                  <a:pt x="1587" y="915"/>
                </a:lnTo>
                <a:lnTo>
                  <a:pt x="1576" y="926"/>
                </a:lnTo>
                <a:lnTo>
                  <a:pt x="1563" y="938"/>
                </a:lnTo>
                <a:lnTo>
                  <a:pt x="1552" y="949"/>
                </a:lnTo>
                <a:lnTo>
                  <a:pt x="1542" y="957"/>
                </a:lnTo>
                <a:lnTo>
                  <a:pt x="1533" y="964"/>
                </a:lnTo>
                <a:lnTo>
                  <a:pt x="1523" y="974"/>
                </a:lnTo>
                <a:lnTo>
                  <a:pt x="1514" y="981"/>
                </a:lnTo>
                <a:lnTo>
                  <a:pt x="1503" y="987"/>
                </a:lnTo>
                <a:lnTo>
                  <a:pt x="1493" y="995"/>
                </a:lnTo>
                <a:lnTo>
                  <a:pt x="1482" y="1001"/>
                </a:lnTo>
                <a:lnTo>
                  <a:pt x="1473" y="1007"/>
                </a:lnTo>
                <a:lnTo>
                  <a:pt x="1458" y="1015"/>
                </a:lnTo>
                <a:lnTo>
                  <a:pt x="1444" y="1021"/>
                </a:lnTo>
                <a:lnTo>
                  <a:pt x="1432" y="1027"/>
                </a:lnTo>
                <a:lnTo>
                  <a:pt x="1417" y="1033"/>
                </a:lnTo>
                <a:lnTo>
                  <a:pt x="1403" y="1038"/>
                </a:lnTo>
                <a:lnTo>
                  <a:pt x="1387" y="1043"/>
                </a:lnTo>
                <a:lnTo>
                  <a:pt x="1373" y="1047"/>
                </a:lnTo>
                <a:lnTo>
                  <a:pt x="1359" y="1053"/>
                </a:lnTo>
                <a:lnTo>
                  <a:pt x="1344" y="1058"/>
                </a:lnTo>
                <a:lnTo>
                  <a:pt x="1328" y="1063"/>
                </a:lnTo>
                <a:lnTo>
                  <a:pt x="1314" y="1067"/>
                </a:lnTo>
                <a:lnTo>
                  <a:pt x="1300" y="1073"/>
                </a:lnTo>
                <a:lnTo>
                  <a:pt x="1284" y="1078"/>
                </a:lnTo>
                <a:lnTo>
                  <a:pt x="1270" y="1081"/>
                </a:lnTo>
                <a:lnTo>
                  <a:pt x="1254" y="1086"/>
                </a:lnTo>
                <a:lnTo>
                  <a:pt x="1238" y="1089"/>
                </a:lnTo>
                <a:lnTo>
                  <a:pt x="1221" y="1092"/>
                </a:lnTo>
                <a:lnTo>
                  <a:pt x="1203" y="1095"/>
                </a:lnTo>
                <a:lnTo>
                  <a:pt x="1186" y="1096"/>
                </a:lnTo>
                <a:lnTo>
                  <a:pt x="1167" y="1098"/>
                </a:lnTo>
                <a:lnTo>
                  <a:pt x="1149" y="1099"/>
                </a:lnTo>
                <a:lnTo>
                  <a:pt x="1132" y="1099"/>
                </a:lnTo>
                <a:lnTo>
                  <a:pt x="1115" y="1099"/>
                </a:lnTo>
                <a:lnTo>
                  <a:pt x="1097" y="1099"/>
                </a:lnTo>
                <a:lnTo>
                  <a:pt x="1080" y="1099"/>
                </a:lnTo>
                <a:lnTo>
                  <a:pt x="1064" y="1099"/>
                </a:lnTo>
                <a:lnTo>
                  <a:pt x="1046" y="1098"/>
                </a:lnTo>
                <a:lnTo>
                  <a:pt x="1029" y="1096"/>
                </a:lnTo>
                <a:lnTo>
                  <a:pt x="1012" y="1095"/>
                </a:lnTo>
                <a:lnTo>
                  <a:pt x="996" y="1092"/>
                </a:lnTo>
                <a:lnTo>
                  <a:pt x="981" y="1090"/>
                </a:lnTo>
                <a:lnTo>
                  <a:pt x="966" y="1087"/>
                </a:lnTo>
                <a:lnTo>
                  <a:pt x="951" y="1084"/>
                </a:lnTo>
                <a:lnTo>
                  <a:pt x="937" y="1079"/>
                </a:lnTo>
                <a:lnTo>
                  <a:pt x="923" y="1075"/>
                </a:lnTo>
                <a:lnTo>
                  <a:pt x="907" y="1070"/>
                </a:lnTo>
                <a:lnTo>
                  <a:pt x="894" y="1066"/>
                </a:lnTo>
                <a:lnTo>
                  <a:pt x="880" y="1059"/>
                </a:lnTo>
                <a:lnTo>
                  <a:pt x="864" y="1053"/>
                </a:lnTo>
                <a:lnTo>
                  <a:pt x="848" y="1044"/>
                </a:lnTo>
                <a:lnTo>
                  <a:pt x="832" y="1036"/>
                </a:lnTo>
                <a:lnTo>
                  <a:pt x="818" y="1027"/>
                </a:lnTo>
                <a:lnTo>
                  <a:pt x="802" y="1018"/>
                </a:lnTo>
                <a:lnTo>
                  <a:pt x="788" y="1009"/>
                </a:lnTo>
                <a:lnTo>
                  <a:pt x="772" y="998"/>
                </a:lnTo>
                <a:lnTo>
                  <a:pt x="758" y="989"/>
                </a:lnTo>
                <a:lnTo>
                  <a:pt x="742" y="980"/>
                </a:lnTo>
                <a:lnTo>
                  <a:pt x="731" y="972"/>
                </a:lnTo>
                <a:lnTo>
                  <a:pt x="718" y="964"/>
                </a:lnTo>
                <a:lnTo>
                  <a:pt x="706" y="957"/>
                </a:lnTo>
                <a:lnTo>
                  <a:pt x="695" y="949"/>
                </a:lnTo>
                <a:lnTo>
                  <a:pt x="683" y="941"/>
                </a:lnTo>
                <a:lnTo>
                  <a:pt x="672" y="934"/>
                </a:lnTo>
                <a:lnTo>
                  <a:pt x="661" y="926"/>
                </a:lnTo>
                <a:lnTo>
                  <a:pt x="650" y="917"/>
                </a:lnTo>
                <a:lnTo>
                  <a:pt x="641" y="908"/>
                </a:lnTo>
                <a:lnTo>
                  <a:pt x="631" y="898"/>
                </a:lnTo>
                <a:lnTo>
                  <a:pt x="623" y="888"/>
                </a:lnTo>
                <a:lnTo>
                  <a:pt x="615" y="877"/>
                </a:lnTo>
                <a:lnTo>
                  <a:pt x="609" y="865"/>
                </a:lnTo>
                <a:lnTo>
                  <a:pt x="603" y="854"/>
                </a:lnTo>
                <a:lnTo>
                  <a:pt x="598" y="842"/>
                </a:lnTo>
                <a:lnTo>
                  <a:pt x="593" y="828"/>
                </a:lnTo>
                <a:lnTo>
                  <a:pt x="590" y="816"/>
                </a:lnTo>
                <a:lnTo>
                  <a:pt x="587" y="802"/>
                </a:lnTo>
                <a:lnTo>
                  <a:pt x="585" y="790"/>
                </a:lnTo>
                <a:lnTo>
                  <a:pt x="584" y="776"/>
                </a:lnTo>
                <a:lnTo>
                  <a:pt x="582" y="762"/>
                </a:lnTo>
                <a:lnTo>
                  <a:pt x="582" y="750"/>
                </a:lnTo>
                <a:lnTo>
                  <a:pt x="582" y="737"/>
                </a:lnTo>
                <a:lnTo>
                  <a:pt x="584" y="727"/>
                </a:lnTo>
                <a:lnTo>
                  <a:pt x="585" y="716"/>
                </a:lnTo>
                <a:lnTo>
                  <a:pt x="585" y="705"/>
                </a:lnTo>
                <a:lnTo>
                  <a:pt x="587" y="694"/>
                </a:lnTo>
                <a:lnTo>
                  <a:pt x="590" y="684"/>
                </a:lnTo>
                <a:lnTo>
                  <a:pt x="592" y="671"/>
                </a:lnTo>
                <a:lnTo>
                  <a:pt x="593" y="661"/>
                </a:lnTo>
                <a:lnTo>
                  <a:pt x="595" y="650"/>
                </a:lnTo>
                <a:lnTo>
                  <a:pt x="598" y="639"/>
                </a:lnTo>
                <a:lnTo>
                  <a:pt x="600" y="628"/>
                </a:lnTo>
                <a:lnTo>
                  <a:pt x="603" y="618"/>
                </a:lnTo>
                <a:lnTo>
                  <a:pt x="604" y="607"/>
                </a:lnTo>
                <a:lnTo>
                  <a:pt x="607" y="596"/>
                </a:lnTo>
                <a:lnTo>
                  <a:pt x="611" y="585"/>
                </a:lnTo>
                <a:lnTo>
                  <a:pt x="614" y="576"/>
                </a:lnTo>
                <a:lnTo>
                  <a:pt x="619" y="566"/>
                </a:lnTo>
                <a:lnTo>
                  <a:pt x="623" y="556"/>
                </a:lnTo>
                <a:lnTo>
                  <a:pt x="630" y="546"/>
                </a:lnTo>
                <a:lnTo>
                  <a:pt x="638" y="536"/>
                </a:lnTo>
                <a:lnTo>
                  <a:pt x="645" y="526"/>
                </a:lnTo>
                <a:lnTo>
                  <a:pt x="653" y="516"/>
                </a:lnTo>
                <a:lnTo>
                  <a:pt x="663" y="509"/>
                </a:lnTo>
                <a:lnTo>
                  <a:pt x="674" y="500"/>
                </a:lnTo>
                <a:lnTo>
                  <a:pt x="683" y="492"/>
                </a:lnTo>
                <a:lnTo>
                  <a:pt x="695" y="484"/>
                </a:lnTo>
                <a:lnTo>
                  <a:pt x="706" y="478"/>
                </a:lnTo>
                <a:lnTo>
                  <a:pt x="718" y="469"/>
                </a:lnTo>
                <a:lnTo>
                  <a:pt x="731" y="461"/>
                </a:lnTo>
                <a:lnTo>
                  <a:pt x="745" y="455"/>
                </a:lnTo>
                <a:lnTo>
                  <a:pt x="760" y="449"/>
                </a:lnTo>
                <a:lnTo>
                  <a:pt x="774" y="443"/>
                </a:lnTo>
                <a:lnTo>
                  <a:pt x="788" y="437"/>
                </a:lnTo>
                <a:lnTo>
                  <a:pt x="802" y="431"/>
                </a:lnTo>
                <a:lnTo>
                  <a:pt x="823" y="423"/>
                </a:lnTo>
                <a:lnTo>
                  <a:pt x="844" y="417"/>
                </a:lnTo>
                <a:lnTo>
                  <a:pt x="866" y="409"/>
                </a:lnTo>
                <a:lnTo>
                  <a:pt x="888" y="403"/>
                </a:lnTo>
                <a:lnTo>
                  <a:pt x="910" y="397"/>
                </a:lnTo>
                <a:lnTo>
                  <a:pt x="932" y="391"/>
                </a:lnTo>
                <a:lnTo>
                  <a:pt x="945" y="388"/>
                </a:lnTo>
                <a:lnTo>
                  <a:pt x="958" y="385"/>
                </a:lnTo>
                <a:lnTo>
                  <a:pt x="970" y="381"/>
                </a:lnTo>
                <a:lnTo>
                  <a:pt x="983" y="378"/>
                </a:lnTo>
                <a:lnTo>
                  <a:pt x="996" y="375"/>
                </a:lnTo>
                <a:lnTo>
                  <a:pt x="1010" y="374"/>
                </a:lnTo>
                <a:lnTo>
                  <a:pt x="1023" y="371"/>
                </a:lnTo>
                <a:lnTo>
                  <a:pt x="1035" y="369"/>
                </a:lnTo>
                <a:lnTo>
                  <a:pt x="1050" y="369"/>
                </a:lnTo>
                <a:lnTo>
                  <a:pt x="1062" y="369"/>
                </a:lnTo>
                <a:lnTo>
                  <a:pt x="1077" y="369"/>
                </a:lnTo>
                <a:lnTo>
                  <a:pt x="1089" y="369"/>
                </a:lnTo>
                <a:lnTo>
                  <a:pt x="1103" y="369"/>
                </a:lnTo>
                <a:lnTo>
                  <a:pt x="1116" y="371"/>
                </a:lnTo>
                <a:lnTo>
                  <a:pt x="1130" y="372"/>
                </a:lnTo>
                <a:lnTo>
                  <a:pt x="1143" y="374"/>
                </a:lnTo>
                <a:lnTo>
                  <a:pt x="1159" y="375"/>
                </a:lnTo>
                <a:lnTo>
                  <a:pt x="1173" y="377"/>
                </a:lnTo>
                <a:lnTo>
                  <a:pt x="1189" y="378"/>
                </a:lnTo>
                <a:lnTo>
                  <a:pt x="1205" y="380"/>
                </a:lnTo>
                <a:lnTo>
                  <a:pt x="1219" y="381"/>
                </a:lnTo>
                <a:lnTo>
                  <a:pt x="1235" y="385"/>
                </a:lnTo>
                <a:lnTo>
                  <a:pt x="1249" y="388"/>
                </a:lnTo>
                <a:lnTo>
                  <a:pt x="1267" y="392"/>
                </a:lnTo>
                <a:lnTo>
                  <a:pt x="1283" y="397"/>
                </a:lnTo>
                <a:lnTo>
                  <a:pt x="1298" y="403"/>
                </a:lnTo>
                <a:lnTo>
                  <a:pt x="1316" y="409"/>
                </a:lnTo>
                <a:lnTo>
                  <a:pt x="1332" y="415"/>
                </a:lnTo>
                <a:lnTo>
                  <a:pt x="1348" y="423"/>
                </a:lnTo>
                <a:lnTo>
                  <a:pt x="1362" y="431"/>
                </a:lnTo>
                <a:lnTo>
                  <a:pt x="1374" y="438"/>
                </a:lnTo>
                <a:lnTo>
                  <a:pt x="1387" y="444"/>
                </a:lnTo>
                <a:lnTo>
                  <a:pt x="1398" y="452"/>
                </a:lnTo>
                <a:lnTo>
                  <a:pt x="1409" y="460"/>
                </a:lnTo>
                <a:lnTo>
                  <a:pt x="1420" y="469"/>
                </a:lnTo>
                <a:lnTo>
                  <a:pt x="1432" y="477"/>
                </a:lnTo>
                <a:lnTo>
                  <a:pt x="1441" y="486"/>
                </a:lnTo>
                <a:lnTo>
                  <a:pt x="1451" y="497"/>
                </a:lnTo>
                <a:lnTo>
                  <a:pt x="1458" y="506"/>
                </a:lnTo>
                <a:lnTo>
                  <a:pt x="1466" y="516"/>
                </a:lnTo>
                <a:lnTo>
                  <a:pt x="1473" y="526"/>
                </a:lnTo>
                <a:lnTo>
                  <a:pt x="1479" y="536"/>
                </a:lnTo>
                <a:lnTo>
                  <a:pt x="1484" y="547"/>
                </a:lnTo>
                <a:lnTo>
                  <a:pt x="1489" y="558"/>
                </a:lnTo>
                <a:lnTo>
                  <a:pt x="1493" y="569"/>
                </a:lnTo>
                <a:lnTo>
                  <a:pt x="1498" y="581"/>
                </a:lnTo>
                <a:lnTo>
                  <a:pt x="1503" y="592"/>
                </a:lnTo>
                <a:lnTo>
                  <a:pt x="1508" y="604"/>
                </a:lnTo>
                <a:lnTo>
                  <a:pt x="1511" y="613"/>
                </a:lnTo>
                <a:lnTo>
                  <a:pt x="1515" y="624"/>
                </a:lnTo>
                <a:lnTo>
                  <a:pt x="1519" y="633"/>
                </a:lnTo>
                <a:lnTo>
                  <a:pt x="1522" y="644"/>
                </a:lnTo>
                <a:lnTo>
                  <a:pt x="1525" y="653"/>
                </a:lnTo>
                <a:lnTo>
                  <a:pt x="1527" y="664"/>
                </a:lnTo>
                <a:lnTo>
                  <a:pt x="1530" y="673"/>
                </a:lnTo>
                <a:lnTo>
                  <a:pt x="1531" y="684"/>
                </a:lnTo>
                <a:lnTo>
                  <a:pt x="1531" y="693"/>
                </a:lnTo>
                <a:lnTo>
                  <a:pt x="1531" y="705"/>
                </a:lnTo>
                <a:lnTo>
                  <a:pt x="1531" y="719"/>
                </a:lnTo>
                <a:lnTo>
                  <a:pt x="1530" y="731"/>
                </a:lnTo>
                <a:lnTo>
                  <a:pt x="1527" y="743"/>
                </a:lnTo>
                <a:lnTo>
                  <a:pt x="1523" y="756"/>
                </a:lnTo>
                <a:lnTo>
                  <a:pt x="1519" y="768"/>
                </a:lnTo>
                <a:lnTo>
                  <a:pt x="1514" y="780"/>
                </a:lnTo>
                <a:lnTo>
                  <a:pt x="1509" y="793"/>
                </a:lnTo>
                <a:lnTo>
                  <a:pt x="1504" y="805"/>
                </a:lnTo>
                <a:lnTo>
                  <a:pt x="1498" y="816"/>
                </a:lnTo>
                <a:lnTo>
                  <a:pt x="1492" y="828"/>
                </a:lnTo>
                <a:lnTo>
                  <a:pt x="1484" y="839"/>
                </a:lnTo>
                <a:lnTo>
                  <a:pt x="1477" y="848"/>
                </a:lnTo>
                <a:lnTo>
                  <a:pt x="1470" y="859"/>
                </a:lnTo>
                <a:lnTo>
                  <a:pt x="1462" y="868"/>
                </a:lnTo>
                <a:lnTo>
                  <a:pt x="1452" y="877"/>
                </a:lnTo>
                <a:lnTo>
                  <a:pt x="1443" y="885"/>
                </a:lnTo>
                <a:lnTo>
                  <a:pt x="1433" y="892"/>
                </a:lnTo>
                <a:lnTo>
                  <a:pt x="1424" y="898"/>
                </a:lnTo>
                <a:lnTo>
                  <a:pt x="1414" y="905"/>
                </a:lnTo>
                <a:lnTo>
                  <a:pt x="1405" y="911"/>
                </a:lnTo>
                <a:lnTo>
                  <a:pt x="1393" y="915"/>
                </a:lnTo>
                <a:lnTo>
                  <a:pt x="1384" y="920"/>
                </a:lnTo>
                <a:lnTo>
                  <a:pt x="1373" y="925"/>
                </a:lnTo>
                <a:lnTo>
                  <a:pt x="1362" y="928"/>
                </a:lnTo>
                <a:lnTo>
                  <a:pt x="1351" y="932"/>
                </a:lnTo>
                <a:lnTo>
                  <a:pt x="1340" y="935"/>
                </a:lnTo>
                <a:lnTo>
                  <a:pt x="1321" y="943"/>
                </a:lnTo>
                <a:lnTo>
                  <a:pt x="1302" y="949"/>
                </a:lnTo>
                <a:lnTo>
                  <a:pt x="1283" y="954"/>
                </a:lnTo>
                <a:lnTo>
                  <a:pt x="1264" y="960"/>
                </a:lnTo>
                <a:lnTo>
                  <a:pt x="1245" y="964"/>
                </a:lnTo>
                <a:lnTo>
                  <a:pt x="1225" y="969"/>
                </a:lnTo>
                <a:lnTo>
                  <a:pt x="1206" y="974"/>
                </a:lnTo>
                <a:lnTo>
                  <a:pt x="1189" y="977"/>
                </a:lnTo>
                <a:lnTo>
                  <a:pt x="1170" y="980"/>
                </a:lnTo>
                <a:lnTo>
                  <a:pt x="1153" y="983"/>
                </a:lnTo>
                <a:lnTo>
                  <a:pt x="1134" y="984"/>
                </a:lnTo>
                <a:lnTo>
                  <a:pt x="1116" y="986"/>
                </a:lnTo>
                <a:lnTo>
                  <a:pt x="1097" y="987"/>
                </a:lnTo>
                <a:lnTo>
                  <a:pt x="1080" y="987"/>
                </a:lnTo>
                <a:lnTo>
                  <a:pt x="1061" y="986"/>
                </a:lnTo>
                <a:lnTo>
                  <a:pt x="1043" y="984"/>
                </a:lnTo>
                <a:lnTo>
                  <a:pt x="1026" y="983"/>
                </a:lnTo>
                <a:lnTo>
                  <a:pt x="1008" y="978"/>
                </a:lnTo>
                <a:lnTo>
                  <a:pt x="991" y="975"/>
                </a:lnTo>
                <a:lnTo>
                  <a:pt x="974" y="971"/>
                </a:lnTo>
                <a:lnTo>
                  <a:pt x="956" y="964"/>
                </a:lnTo>
                <a:lnTo>
                  <a:pt x="940" y="958"/>
                </a:lnTo>
                <a:lnTo>
                  <a:pt x="923" y="952"/>
                </a:lnTo>
                <a:lnTo>
                  <a:pt x="907" y="944"/>
                </a:lnTo>
                <a:lnTo>
                  <a:pt x="891" y="938"/>
                </a:lnTo>
                <a:lnTo>
                  <a:pt x="878" y="932"/>
                </a:lnTo>
                <a:lnTo>
                  <a:pt x="866" y="925"/>
                </a:lnTo>
                <a:lnTo>
                  <a:pt x="853" y="918"/>
                </a:lnTo>
                <a:lnTo>
                  <a:pt x="842" y="911"/>
                </a:lnTo>
                <a:lnTo>
                  <a:pt x="829" y="905"/>
                </a:lnTo>
                <a:lnTo>
                  <a:pt x="818" y="895"/>
                </a:lnTo>
                <a:lnTo>
                  <a:pt x="807" y="888"/>
                </a:lnTo>
                <a:lnTo>
                  <a:pt x="798" y="878"/>
                </a:lnTo>
                <a:lnTo>
                  <a:pt x="787" y="869"/>
                </a:lnTo>
                <a:lnTo>
                  <a:pt x="777" y="860"/>
                </a:lnTo>
                <a:lnTo>
                  <a:pt x="769" y="851"/>
                </a:lnTo>
                <a:lnTo>
                  <a:pt x="761" y="840"/>
                </a:lnTo>
                <a:lnTo>
                  <a:pt x="753" y="829"/>
                </a:lnTo>
                <a:lnTo>
                  <a:pt x="747" y="819"/>
                </a:lnTo>
                <a:lnTo>
                  <a:pt x="741" y="808"/>
                </a:lnTo>
                <a:lnTo>
                  <a:pt x="736" y="796"/>
                </a:lnTo>
                <a:lnTo>
                  <a:pt x="731" y="785"/>
                </a:lnTo>
                <a:lnTo>
                  <a:pt x="728" y="773"/>
                </a:lnTo>
                <a:lnTo>
                  <a:pt x="725" y="762"/>
                </a:lnTo>
                <a:lnTo>
                  <a:pt x="723" y="750"/>
                </a:lnTo>
                <a:lnTo>
                  <a:pt x="722" y="739"/>
                </a:lnTo>
                <a:lnTo>
                  <a:pt x="722" y="728"/>
                </a:lnTo>
                <a:lnTo>
                  <a:pt x="722" y="716"/>
                </a:lnTo>
                <a:lnTo>
                  <a:pt x="723" y="705"/>
                </a:lnTo>
                <a:lnTo>
                  <a:pt x="725" y="694"/>
                </a:lnTo>
                <a:lnTo>
                  <a:pt x="726" y="682"/>
                </a:lnTo>
                <a:lnTo>
                  <a:pt x="729" y="671"/>
                </a:lnTo>
                <a:lnTo>
                  <a:pt x="734" y="659"/>
                </a:lnTo>
                <a:lnTo>
                  <a:pt x="739" y="645"/>
                </a:lnTo>
                <a:lnTo>
                  <a:pt x="744" y="633"/>
                </a:lnTo>
                <a:lnTo>
                  <a:pt x="752" y="621"/>
                </a:lnTo>
                <a:lnTo>
                  <a:pt x="758" y="610"/>
                </a:lnTo>
                <a:lnTo>
                  <a:pt x="766" y="599"/>
                </a:lnTo>
                <a:lnTo>
                  <a:pt x="775" y="587"/>
                </a:lnTo>
                <a:lnTo>
                  <a:pt x="785" y="578"/>
                </a:lnTo>
                <a:lnTo>
                  <a:pt x="794" y="567"/>
                </a:lnTo>
                <a:lnTo>
                  <a:pt x="806" y="558"/>
                </a:lnTo>
                <a:lnTo>
                  <a:pt x="817" y="549"/>
                </a:lnTo>
                <a:lnTo>
                  <a:pt x="828" y="539"/>
                </a:lnTo>
                <a:lnTo>
                  <a:pt x="840" y="532"/>
                </a:lnTo>
                <a:lnTo>
                  <a:pt x="853" y="524"/>
                </a:lnTo>
                <a:lnTo>
                  <a:pt x="866" y="516"/>
                </a:lnTo>
                <a:lnTo>
                  <a:pt x="878" y="510"/>
                </a:lnTo>
                <a:lnTo>
                  <a:pt x="893" y="504"/>
                </a:lnTo>
                <a:lnTo>
                  <a:pt x="905" y="500"/>
                </a:lnTo>
                <a:lnTo>
                  <a:pt x="921" y="493"/>
                </a:lnTo>
                <a:lnTo>
                  <a:pt x="939" y="489"/>
                </a:lnTo>
                <a:lnTo>
                  <a:pt x="954" y="486"/>
                </a:lnTo>
                <a:lnTo>
                  <a:pt x="972" y="483"/>
                </a:lnTo>
                <a:lnTo>
                  <a:pt x="988" y="480"/>
                </a:lnTo>
                <a:lnTo>
                  <a:pt x="1005" y="478"/>
                </a:lnTo>
                <a:lnTo>
                  <a:pt x="1023" y="475"/>
                </a:lnTo>
                <a:lnTo>
                  <a:pt x="1040" y="474"/>
                </a:lnTo>
                <a:lnTo>
                  <a:pt x="1053" y="474"/>
                </a:lnTo>
                <a:lnTo>
                  <a:pt x="1067" y="472"/>
                </a:lnTo>
                <a:lnTo>
                  <a:pt x="1081" y="470"/>
                </a:lnTo>
                <a:lnTo>
                  <a:pt x="1096" y="470"/>
                </a:lnTo>
                <a:lnTo>
                  <a:pt x="1110" y="470"/>
                </a:lnTo>
                <a:lnTo>
                  <a:pt x="1122" y="472"/>
                </a:lnTo>
                <a:lnTo>
                  <a:pt x="1137" y="472"/>
                </a:lnTo>
                <a:lnTo>
                  <a:pt x="1151" y="474"/>
                </a:lnTo>
                <a:lnTo>
                  <a:pt x="1165" y="477"/>
                </a:lnTo>
                <a:lnTo>
                  <a:pt x="1180" y="480"/>
                </a:lnTo>
                <a:lnTo>
                  <a:pt x="1194" y="484"/>
                </a:lnTo>
                <a:lnTo>
                  <a:pt x="1208" y="489"/>
                </a:lnTo>
                <a:lnTo>
                  <a:pt x="1222" y="493"/>
                </a:lnTo>
                <a:lnTo>
                  <a:pt x="1237" y="500"/>
                </a:lnTo>
                <a:lnTo>
                  <a:pt x="1251" y="506"/>
                </a:lnTo>
                <a:lnTo>
                  <a:pt x="1264" y="513"/>
                </a:lnTo>
                <a:lnTo>
                  <a:pt x="1275" y="520"/>
                </a:lnTo>
                <a:lnTo>
                  <a:pt x="1284" y="526"/>
                </a:lnTo>
                <a:lnTo>
                  <a:pt x="1294" y="532"/>
                </a:lnTo>
                <a:lnTo>
                  <a:pt x="1303" y="538"/>
                </a:lnTo>
                <a:lnTo>
                  <a:pt x="1313" y="546"/>
                </a:lnTo>
                <a:lnTo>
                  <a:pt x="1321" y="552"/>
                </a:lnTo>
                <a:lnTo>
                  <a:pt x="1330" y="559"/>
                </a:lnTo>
                <a:lnTo>
                  <a:pt x="1336" y="569"/>
                </a:lnTo>
                <a:lnTo>
                  <a:pt x="1344" y="576"/>
                </a:lnTo>
                <a:lnTo>
                  <a:pt x="1351" y="585"/>
                </a:lnTo>
                <a:lnTo>
                  <a:pt x="1355" y="595"/>
                </a:lnTo>
                <a:lnTo>
                  <a:pt x="1360" y="604"/>
                </a:lnTo>
                <a:lnTo>
                  <a:pt x="1365" y="613"/>
                </a:lnTo>
                <a:lnTo>
                  <a:pt x="1370" y="622"/>
                </a:lnTo>
                <a:lnTo>
                  <a:pt x="1373" y="633"/>
                </a:lnTo>
                <a:lnTo>
                  <a:pt x="1376" y="644"/>
                </a:lnTo>
                <a:lnTo>
                  <a:pt x="1379" y="655"/>
                </a:lnTo>
                <a:lnTo>
                  <a:pt x="1382" y="665"/>
                </a:lnTo>
                <a:lnTo>
                  <a:pt x="1386" y="673"/>
                </a:lnTo>
                <a:lnTo>
                  <a:pt x="1387" y="682"/>
                </a:lnTo>
                <a:lnTo>
                  <a:pt x="1389" y="690"/>
                </a:lnTo>
                <a:lnTo>
                  <a:pt x="1390" y="699"/>
                </a:lnTo>
                <a:lnTo>
                  <a:pt x="1392" y="708"/>
                </a:lnTo>
                <a:lnTo>
                  <a:pt x="1392" y="716"/>
                </a:lnTo>
                <a:lnTo>
                  <a:pt x="1392" y="725"/>
                </a:lnTo>
                <a:lnTo>
                  <a:pt x="1392" y="733"/>
                </a:lnTo>
                <a:lnTo>
                  <a:pt x="1390" y="740"/>
                </a:lnTo>
                <a:lnTo>
                  <a:pt x="1389" y="750"/>
                </a:lnTo>
                <a:lnTo>
                  <a:pt x="1386" y="756"/>
                </a:lnTo>
                <a:lnTo>
                  <a:pt x="1382" y="763"/>
                </a:lnTo>
                <a:lnTo>
                  <a:pt x="1378" y="770"/>
                </a:lnTo>
                <a:lnTo>
                  <a:pt x="1373" y="777"/>
                </a:lnTo>
                <a:lnTo>
                  <a:pt x="1368" y="783"/>
                </a:lnTo>
                <a:lnTo>
                  <a:pt x="1362" y="790"/>
                </a:lnTo>
                <a:lnTo>
                  <a:pt x="1355" y="796"/>
                </a:lnTo>
                <a:lnTo>
                  <a:pt x="1349" y="800"/>
                </a:lnTo>
                <a:lnTo>
                  <a:pt x="1343" y="806"/>
                </a:lnTo>
                <a:lnTo>
                  <a:pt x="1336" y="813"/>
                </a:lnTo>
                <a:lnTo>
                  <a:pt x="1327" y="820"/>
                </a:lnTo>
                <a:lnTo>
                  <a:pt x="1317" y="828"/>
                </a:lnTo>
                <a:lnTo>
                  <a:pt x="1306" y="834"/>
                </a:lnTo>
                <a:lnTo>
                  <a:pt x="1297" y="842"/>
                </a:lnTo>
                <a:lnTo>
                  <a:pt x="1287" y="848"/>
                </a:lnTo>
                <a:lnTo>
                  <a:pt x="1276" y="854"/>
                </a:lnTo>
                <a:lnTo>
                  <a:pt x="1265" y="860"/>
                </a:lnTo>
                <a:lnTo>
                  <a:pt x="1254" y="866"/>
                </a:lnTo>
                <a:lnTo>
                  <a:pt x="1238" y="874"/>
                </a:lnTo>
                <a:lnTo>
                  <a:pt x="1222" y="880"/>
                </a:lnTo>
                <a:lnTo>
                  <a:pt x="1205" y="886"/>
                </a:lnTo>
                <a:lnTo>
                  <a:pt x="1187" y="891"/>
                </a:lnTo>
                <a:lnTo>
                  <a:pt x="1170" y="895"/>
                </a:lnTo>
                <a:lnTo>
                  <a:pt x="1153" y="898"/>
                </a:lnTo>
                <a:lnTo>
                  <a:pt x="1134" y="900"/>
                </a:lnTo>
                <a:lnTo>
                  <a:pt x="1116" y="901"/>
                </a:lnTo>
                <a:lnTo>
                  <a:pt x="1102" y="903"/>
                </a:lnTo>
                <a:lnTo>
                  <a:pt x="1089" y="901"/>
                </a:lnTo>
                <a:lnTo>
                  <a:pt x="1075" y="901"/>
                </a:lnTo>
                <a:lnTo>
                  <a:pt x="1062" y="900"/>
                </a:lnTo>
                <a:lnTo>
                  <a:pt x="1048" y="898"/>
                </a:lnTo>
                <a:lnTo>
                  <a:pt x="1035" y="895"/>
                </a:lnTo>
                <a:lnTo>
                  <a:pt x="1023" y="892"/>
                </a:lnTo>
                <a:lnTo>
                  <a:pt x="1010" y="889"/>
                </a:lnTo>
                <a:lnTo>
                  <a:pt x="999" y="883"/>
                </a:lnTo>
                <a:lnTo>
                  <a:pt x="989" y="880"/>
                </a:lnTo>
                <a:lnTo>
                  <a:pt x="980" y="874"/>
                </a:lnTo>
                <a:lnTo>
                  <a:pt x="972" y="869"/>
                </a:lnTo>
                <a:lnTo>
                  <a:pt x="962" y="863"/>
                </a:lnTo>
                <a:lnTo>
                  <a:pt x="954" y="857"/>
                </a:lnTo>
                <a:lnTo>
                  <a:pt x="947" y="851"/>
                </a:lnTo>
                <a:lnTo>
                  <a:pt x="939" y="845"/>
                </a:lnTo>
                <a:lnTo>
                  <a:pt x="931" y="837"/>
                </a:lnTo>
                <a:lnTo>
                  <a:pt x="923" y="829"/>
                </a:lnTo>
                <a:lnTo>
                  <a:pt x="915" y="823"/>
                </a:lnTo>
                <a:lnTo>
                  <a:pt x="909" y="817"/>
                </a:lnTo>
                <a:lnTo>
                  <a:pt x="902" y="811"/>
                </a:lnTo>
                <a:lnTo>
                  <a:pt x="896" y="803"/>
                </a:lnTo>
                <a:lnTo>
                  <a:pt x="890" y="796"/>
                </a:lnTo>
                <a:lnTo>
                  <a:pt x="885" y="790"/>
                </a:lnTo>
                <a:lnTo>
                  <a:pt x="880" y="782"/>
                </a:lnTo>
                <a:lnTo>
                  <a:pt x="875" y="774"/>
                </a:lnTo>
                <a:lnTo>
                  <a:pt x="872" y="767"/>
                </a:lnTo>
                <a:lnTo>
                  <a:pt x="869" y="757"/>
                </a:lnTo>
                <a:lnTo>
                  <a:pt x="866" y="748"/>
                </a:lnTo>
                <a:lnTo>
                  <a:pt x="864" y="739"/>
                </a:lnTo>
                <a:lnTo>
                  <a:pt x="864" y="730"/>
                </a:lnTo>
                <a:lnTo>
                  <a:pt x="864" y="719"/>
                </a:lnTo>
                <a:lnTo>
                  <a:pt x="866" y="710"/>
                </a:lnTo>
                <a:lnTo>
                  <a:pt x="867" y="699"/>
                </a:lnTo>
                <a:lnTo>
                  <a:pt x="869" y="690"/>
                </a:lnTo>
                <a:lnTo>
                  <a:pt x="872" y="681"/>
                </a:lnTo>
                <a:lnTo>
                  <a:pt x="875" y="670"/>
                </a:lnTo>
                <a:lnTo>
                  <a:pt x="880" y="661"/>
                </a:lnTo>
                <a:lnTo>
                  <a:pt x="885" y="651"/>
                </a:lnTo>
                <a:lnTo>
                  <a:pt x="890" y="642"/>
                </a:lnTo>
                <a:lnTo>
                  <a:pt x="896" y="633"/>
                </a:lnTo>
                <a:lnTo>
                  <a:pt x="902" y="625"/>
                </a:lnTo>
                <a:lnTo>
                  <a:pt x="909" y="616"/>
                </a:lnTo>
                <a:lnTo>
                  <a:pt x="915" y="608"/>
                </a:lnTo>
                <a:lnTo>
                  <a:pt x="923" y="602"/>
                </a:lnTo>
                <a:lnTo>
                  <a:pt x="931" y="595"/>
                </a:lnTo>
                <a:lnTo>
                  <a:pt x="939" y="589"/>
                </a:lnTo>
                <a:lnTo>
                  <a:pt x="950" y="582"/>
                </a:lnTo>
                <a:lnTo>
                  <a:pt x="961" y="576"/>
                </a:lnTo>
                <a:lnTo>
                  <a:pt x="972" y="570"/>
                </a:lnTo>
                <a:lnTo>
                  <a:pt x="985" y="566"/>
                </a:lnTo>
                <a:lnTo>
                  <a:pt x="996" y="562"/>
                </a:lnTo>
                <a:lnTo>
                  <a:pt x="1008" y="558"/>
                </a:lnTo>
                <a:lnTo>
                  <a:pt x="1021" y="556"/>
                </a:lnTo>
                <a:lnTo>
                  <a:pt x="1034" y="555"/>
                </a:lnTo>
                <a:lnTo>
                  <a:pt x="1046" y="553"/>
                </a:lnTo>
                <a:lnTo>
                  <a:pt x="1059" y="553"/>
                </a:lnTo>
                <a:lnTo>
                  <a:pt x="1072" y="553"/>
                </a:lnTo>
                <a:lnTo>
                  <a:pt x="1084" y="555"/>
                </a:lnTo>
                <a:lnTo>
                  <a:pt x="1097" y="556"/>
                </a:lnTo>
                <a:lnTo>
                  <a:pt x="1110" y="559"/>
                </a:lnTo>
                <a:lnTo>
                  <a:pt x="1121" y="562"/>
                </a:lnTo>
                <a:lnTo>
                  <a:pt x="1134" y="566"/>
                </a:lnTo>
                <a:lnTo>
                  <a:pt x="1145" y="572"/>
                </a:lnTo>
                <a:lnTo>
                  <a:pt x="1154" y="575"/>
                </a:lnTo>
                <a:lnTo>
                  <a:pt x="1162" y="579"/>
                </a:lnTo>
                <a:lnTo>
                  <a:pt x="1170" y="584"/>
                </a:lnTo>
                <a:lnTo>
                  <a:pt x="1178" y="590"/>
                </a:lnTo>
                <a:lnTo>
                  <a:pt x="1186" y="595"/>
                </a:lnTo>
                <a:lnTo>
                  <a:pt x="1192" y="601"/>
                </a:lnTo>
                <a:lnTo>
                  <a:pt x="1199" y="607"/>
                </a:lnTo>
                <a:lnTo>
                  <a:pt x="1205" y="615"/>
                </a:lnTo>
                <a:lnTo>
                  <a:pt x="1210" y="621"/>
                </a:lnTo>
                <a:lnTo>
                  <a:pt x="1214" y="628"/>
                </a:lnTo>
                <a:lnTo>
                  <a:pt x="1219" y="638"/>
                </a:lnTo>
                <a:lnTo>
                  <a:pt x="1222" y="645"/>
                </a:lnTo>
                <a:lnTo>
                  <a:pt x="1225" y="655"/>
                </a:lnTo>
                <a:lnTo>
                  <a:pt x="1229" y="662"/>
                </a:lnTo>
                <a:lnTo>
                  <a:pt x="1230" y="671"/>
                </a:lnTo>
                <a:lnTo>
                  <a:pt x="1233" y="681"/>
                </a:lnTo>
                <a:lnTo>
                  <a:pt x="1235" y="691"/>
                </a:lnTo>
                <a:lnTo>
                  <a:pt x="1237" y="701"/>
                </a:lnTo>
                <a:lnTo>
                  <a:pt x="1237" y="707"/>
                </a:lnTo>
                <a:lnTo>
                  <a:pt x="1238" y="713"/>
                </a:lnTo>
                <a:lnTo>
                  <a:pt x="1238" y="719"/>
                </a:lnTo>
                <a:lnTo>
                  <a:pt x="1240" y="725"/>
                </a:lnTo>
                <a:lnTo>
                  <a:pt x="1240" y="731"/>
                </a:lnTo>
                <a:lnTo>
                  <a:pt x="1240" y="737"/>
                </a:lnTo>
                <a:lnTo>
                  <a:pt x="1240" y="743"/>
                </a:lnTo>
                <a:lnTo>
                  <a:pt x="1238" y="748"/>
                </a:lnTo>
                <a:lnTo>
                  <a:pt x="1237" y="754"/>
                </a:lnTo>
                <a:lnTo>
                  <a:pt x="1235" y="759"/>
                </a:lnTo>
                <a:lnTo>
                  <a:pt x="1232" y="763"/>
                </a:lnTo>
                <a:lnTo>
                  <a:pt x="1229" y="768"/>
                </a:lnTo>
                <a:lnTo>
                  <a:pt x="1224" y="773"/>
                </a:lnTo>
                <a:lnTo>
                  <a:pt x="1219" y="777"/>
                </a:lnTo>
                <a:lnTo>
                  <a:pt x="1213" y="780"/>
                </a:lnTo>
                <a:lnTo>
                  <a:pt x="1206" y="783"/>
                </a:lnTo>
                <a:lnTo>
                  <a:pt x="1199" y="786"/>
                </a:lnTo>
                <a:lnTo>
                  <a:pt x="1192" y="790"/>
                </a:lnTo>
                <a:lnTo>
                  <a:pt x="1184" y="791"/>
                </a:lnTo>
                <a:lnTo>
                  <a:pt x="1176" y="793"/>
                </a:lnTo>
                <a:lnTo>
                  <a:pt x="1170" y="793"/>
                </a:lnTo>
                <a:lnTo>
                  <a:pt x="1162" y="794"/>
                </a:lnTo>
                <a:lnTo>
                  <a:pt x="1151" y="794"/>
                </a:lnTo>
                <a:lnTo>
                  <a:pt x="1138" y="794"/>
                </a:lnTo>
                <a:lnTo>
                  <a:pt x="1127" y="793"/>
                </a:lnTo>
                <a:lnTo>
                  <a:pt x="1118" y="793"/>
                </a:lnTo>
                <a:lnTo>
                  <a:pt x="1107" y="790"/>
                </a:lnTo>
                <a:lnTo>
                  <a:pt x="1096" y="788"/>
                </a:lnTo>
                <a:lnTo>
                  <a:pt x="1084" y="785"/>
                </a:lnTo>
                <a:lnTo>
                  <a:pt x="1073" y="783"/>
                </a:lnTo>
                <a:lnTo>
                  <a:pt x="1067" y="782"/>
                </a:lnTo>
                <a:lnTo>
                  <a:pt x="1061" y="780"/>
                </a:lnTo>
                <a:lnTo>
                  <a:pt x="1054" y="779"/>
                </a:lnTo>
                <a:lnTo>
                  <a:pt x="1048" y="777"/>
                </a:lnTo>
                <a:lnTo>
                  <a:pt x="1042" y="776"/>
                </a:lnTo>
                <a:lnTo>
                  <a:pt x="1035" y="774"/>
                </a:lnTo>
                <a:lnTo>
                  <a:pt x="1031" y="771"/>
                </a:lnTo>
                <a:lnTo>
                  <a:pt x="1024" y="768"/>
                </a:lnTo>
                <a:lnTo>
                  <a:pt x="1019" y="765"/>
                </a:lnTo>
                <a:lnTo>
                  <a:pt x="1015" y="762"/>
                </a:lnTo>
                <a:lnTo>
                  <a:pt x="1012" y="757"/>
                </a:lnTo>
                <a:lnTo>
                  <a:pt x="1008" y="753"/>
                </a:lnTo>
                <a:lnTo>
                  <a:pt x="1005" y="748"/>
                </a:lnTo>
                <a:lnTo>
                  <a:pt x="1002" y="742"/>
                </a:lnTo>
                <a:lnTo>
                  <a:pt x="1000" y="736"/>
                </a:lnTo>
                <a:lnTo>
                  <a:pt x="1000" y="730"/>
                </a:lnTo>
                <a:lnTo>
                  <a:pt x="999" y="722"/>
                </a:lnTo>
                <a:lnTo>
                  <a:pt x="1000" y="716"/>
                </a:lnTo>
                <a:lnTo>
                  <a:pt x="1000" y="710"/>
                </a:lnTo>
                <a:lnTo>
                  <a:pt x="1002" y="702"/>
                </a:lnTo>
                <a:lnTo>
                  <a:pt x="1004" y="696"/>
                </a:lnTo>
                <a:lnTo>
                  <a:pt x="1005" y="690"/>
                </a:lnTo>
                <a:lnTo>
                  <a:pt x="1008" y="685"/>
                </a:lnTo>
                <a:lnTo>
                  <a:pt x="1012" y="679"/>
                </a:lnTo>
                <a:lnTo>
                  <a:pt x="1015" y="674"/>
                </a:lnTo>
                <a:lnTo>
                  <a:pt x="1018" y="670"/>
                </a:lnTo>
                <a:lnTo>
                  <a:pt x="1023" y="667"/>
                </a:lnTo>
                <a:lnTo>
                  <a:pt x="1027" y="662"/>
                </a:lnTo>
                <a:lnTo>
                  <a:pt x="1031" y="659"/>
                </a:lnTo>
                <a:lnTo>
                  <a:pt x="1037" y="656"/>
                </a:lnTo>
                <a:lnTo>
                  <a:pt x="1042" y="653"/>
                </a:lnTo>
                <a:lnTo>
                  <a:pt x="1048" y="651"/>
                </a:lnTo>
                <a:lnTo>
                  <a:pt x="1056" y="648"/>
                </a:lnTo>
                <a:lnTo>
                  <a:pt x="1062" y="647"/>
                </a:lnTo>
                <a:lnTo>
                  <a:pt x="1070" y="645"/>
                </a:lnTo>
                <a:lnTo>
                  <a:pt x="1078" y="645"/>
                </a:lnTo>
                <a:lnTo>
                  <a:pt x="1086" y="645"/>
                </a:lnTo>
                <a:lnTo>
                  <a:pt x="1094" y="647"/>
                </a:lnTo>
                <a:lnTo>
                  <a:pt x="1100" y="648"/>
                </a:lnTo>
                <a:lnTo>
                  <a:pt x="1108" y="651"/>
                </a:lnTo>
                <a:lnTo>
                  <a:pt x="1116" y="655"/>
                </a:lnTo>
                <a:lnTo>
                  <a:pt x="1122" y="659"/>
                </a:lnTo>
                <a:lnTo>
                  <a:pt x="1129" y="664"/>
                </a:lnTo>
                <a:lnTo>
                  <a:pt x="1134" y="670"/>
                </a:lnTo>
                <a:lnTo>
                  <a:pt x="1138" y="676"/>
                </a:lnTo>
                <a:lnTo>
                  <a:pt x="1143" y="684"/>
                </a:lnTo>
                <a:lnTo>
                  <a:pt x="1148" y="691"/>
                </a:lnTo>
                <a:lnTo>
                  <a:pt x="1149" y="696"/>
                </a:lnTo>
                <a:lnTo>
                  <a:pt x="1151" y="702"/>
                </a:lnTo>
                <a:lnTo>
                  <a:pt x="1151" y="707"/>
                </a:lnTo>
                <a:lnTo>
                  <a:pt x="1153" y="713"/>
                </a:lnTo>
                <a:lnTo>
                  <a:pt x="1153" y="717"/>
                </a:lnTo>
                <a:lnTo>
                  <a:pt x="1153" y="722"/>
                </a:lnTo>
                <a:lnTo>
                  <a:pt x="1153" y="728"/>
                </a:lnTo>
                <a:lnTo>
                  <a:pt x="1151" y="733"/>
                </a:lnTo>
                <a:lnTo>
                  <a:pt x="1149" y="736"/>
                </a:lnTo>
                <a:lnTo>
                  <a:pt x="1148" y="740"/>
                </a:lnTo>
                <a:lnTo>
                  <a:pt x="1145" y="743"/>
                </a:lnTo>
                <a:lnTo>
                  <a:pt x="1141" y="747"/>
                </a:lnTo>
                <a:lnTo>
                  <a:pt x="1138" y="748"/>
                </a:lnTo>
                <a:lnTo>
                  <a:pt x="1134" y="750"/>
                </a:lnTo>
                <a:lnTo>
                  <a:pt x="1129" y="751"/>
                </a:lnTo>
                <a:lnTo>
                  <a:pt x="1124" y="753"/>
                </a:lnTo>
                <a:lnTo>
                  <a:pt x="1119" y="753"/>
                </a:lnTo>
                <a:lnTo>
                  <a:pt x="1115" y="753"/>
                </a:lnTo>
                <a:lnTo>
                  <a:pt x="1108" y="753"/>
                </a:lnTo>
                <a:lnTo>
                  <a:pt x="1103" y="753"/>
                </a:lnTo>
                <a:lnTo>
                  <a:pt x="1097" y="751"/>
                </a:lnTo>
                <a:lnTo>
                  <a:pt x="1091" y="751"/>
                </a:lnTo>
                <a:lnTo>
                  <a:pt x="1086" y="750"/>
                </a:lnTo>
                <a:lnTo>
                  <a:pt x="1081" y="748"/>
                </a:lnTo>
                <a:lnTo>
                  <a:pt x="1077" y="748"/>
                </a:lnTo>
                <a:lnTo>
                  <a:pt x="1072" y="747"/>
                </a:lnTo>
                <a:lnTo>
                  <a:pt x="1067" y="743"/>
                </a:lnTo>
                <a:lnTo>
                  <a:pt x="1064" y="742"/>
                </a:lnTo>
                <a:lnTo>
                  <a:pt x="1059" y="739"/>
                </a:lnTo>
                <a:lnTo>
                  <a:pt x="1057" y="736"/>
                </a:lnTo>
                <a:lnTo>
                  <a:pt x="1054" y="733"/>
                </a:lnTo>
                <a:lnTo>
                  <a:pt x="1053" y="730"/>
                </a:lnTo>
                <a:lnTo>
                  <a:pt x="1051" y="725"/>
                </a:lnTo>
                <a:lnTo>
                  <a:pt x="1050" y="722"/>
                </a:lnTo>
                <a:lnTo>
                  <a:pt x="1050" y="717"/>
                </a:lnTo>
                <a:lnTo>
                  <a:pt x="1050" y="713"/>
                </a:lnTo>
                <a:lnTo>
                  <a:pt x="1051" y="708"/>
                </a:lnTo>
                <a:lnTo>
                  <a:pt x="1053" y="705"/>
                </a:lnTo>
                <a:lnTo>
                  <a:pt x="1054" y="701"/>
                </a:lnTo>
                <a:lnTo>
                  <a:pt x="1056" y="697"/>
                </a:lnTo>
                <a:lnTo>
                  <a:pt x="1059" y="693"/>
                </a:lnTo>
                <a:lnTo>
                  <a:pt x="1062" y="691"/>
                </a:lnTo>
                <a:lnTo>
                  <a:pt x="1065" y="688"/>
                </a:lnTo>
                <a:lnTo>
                  <a:pt x="1069" y="685"/>
                </a:lnTo>
                <a:lnTo>
                  <a:pt x="1072" y="684"/>
                </a:lnTo>
                <a:lnTo>
                  <a:pt x="1077" y="684"/>
                </a:lnTo>
                <a:lnTo>
                  <a:pt x="1080" y="682"/>
                </a:lnTo>
                <a:lnTo>
                  <a:pt x="1084" y="682"/>
                </a:lnTo>
                <a:lnTo>
                  <a:pt x="1088" y="684"/>
                </a:lnTo>
                <a:lnTo>
                  <a:pt x="1089" y="684"/>
                </a:lnTo>
                <a:lnTo>
                  <a:pt x="1092" y="685"/>
                </a:lnTo>
                <a:lnTo>
                  <a:pt x="1096" y="687"/>
                </a:lnTo>
                <a:lnTo>
                  <a:pt x="1097" y="688"/>
                </a:lnTo>
                <a:lnTo>
                  <a:pt x="1100" y="691"/>
                </a:lnTo>
                <a:lnTo>
                  <a:pt x="1102" y="693"/>
                </a:lnTo>
                <a:lnTo>
                  <a:pt x="1105" y="696"/>
                </a:lnTo>
                <a:lnTo>
                  <a:pt x="1107" y="699"/>
                </a:lnTo>
                <a:lnTo>
                  <a:pt x="1108" y="702"/>
                </a:lnTo>
                <a:lnTo>
                  <a:pt x="1110" y="705"/>
                </a:lnTo>
                <a:lnTo>
                  <a:pt x="1111" y="708"/>
                </a:lnTo>
                <a:lnTo>
                  <a:pt x="1111" y="711"/>
                </a:lnTo>
                <a:lnTo>
                  <a:pt x="1111" y="713"/>
                </a:lnTo>
                <a:lnTo>
                  <a:pt x="1111" y="716"/>
                </a:lnTo>
                <a:lnTo>
                  <a:pt x="1110" y="719"/>
                </a:lnTo>
                <a:lnTo>
                  <a:pt x="1107" y="722"/>
                </a:lnTo>
                <a:lnTo>
                  <a:pt x="1103" y="724"/>
                </a:lnTo>
                <a:lnTo>
                  <a:pt x="1099" y="725"/>
                </a:lnTo>
                <a:lnTo>
                  <a:pt x="1092" y="725"/>
                </a:lnTo>
                <a:lnTo>
                  <a:pt x="1088" y="725"/>
                </a:lnTo>
                <a:lnTo>
                  <a:pt x="1083" y="724"/>
                </a:lnTo>
                <a:lnTo>
                  <a:pt x="1078" y="722"/>
                </a:lnTo>
                <a:lnTo>
                  <a:pt x="1075" y="719"/>
                </a:lnTo>
                <a:lnTo>
                  <a:pt x="1073" y="714"/>
                </a:lnTo>
              </a:path>
            </a:pathLst>
          </a:custGeom>
          <a:noFill/>
          <a:ln w="223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5029200" y="3429000"/>
            <a:ext cx="380880" cy="351000"/>
          </a:xfrm>
          <a:custGeom>
            <a:avLst/>
            <a:gdLst/>
            <a:ahLst/>
            <a:rect l="l" t="t" r="r" b="b"/>
            <a:pathLst>
              <a:path w="408" h="413">
                <a:moveTo>
                  <a:pt x="0" y="47"/>
                </a:moveTo>
                <a:cubicBezTo>
                  <a:pt x="32" y="133"/>
                  <a:pt x="37" y="224"/>
                  <a:pt x="81" y="304"/>
                </a:cubicBezTo>
                <a:cubicBezTo>
                  <a:pt x="87" y="314"/>
                  <a:pt x="88" y="327"/>
                  <a:pt x="96" y="335"/>
                </a:cubicBezTo>
                <a:cubicBezTo>
                  <a:pt x="104" y="343"/>
                  <a:pt x="118" y="344"/>
                  <a:pt x="127" y="351"/>
                </a:cubicBezTo>
                <a:cubicBezTo>
                  <a:pt x="168" y="380"/>
                  <a:pt x="188" y="403"/>
                  <a:pt x="237" y="413"/>
                </a:cubicBezTo>
                <a:cubicBezTo>
                  <a:pt x="260" y="410"/>
                  <a:pt x="284" y="411"/>
                  <a:pt x="307" y="405"/>
                </a:cubicBezTo>
                <a:cubicBezTo>
                  <a:pt x="337" y="397"/>
                  <a:pt x="326" y="387"/>
                  <a:pt x="338" y="366"/>
                </a:cubicBezTo>
                <a:cubicBezTo>
                  <a:pt x="359" y="329"/>
                  <a:pt x="385" y="307"/>
                  <a:pt x="408" y="273"/>
                </a:cubicBezTo>
                <a:cubicBezTo>
                  <a:pt x="405" y="255"/>
                  <a:pt x="407" y="235"/>
                  <a:pt x="400" y="218"/>
                </a:cubicBezTo>
                <a:cubicBezTo>
                  <a:pt x="385" y="180"/>
                  <a:pt x="274" y="167"/>
                  <a:pt x="260" y="163"/>
                </a:cubicBezTo>
                <a:cubicBezTo>
                  <a:pt x="257" y="155"/>
                  <a:pt x="253" y="148"/>
                  <a:pt x="252" y="140"/>
                </a:cubicBezTo>
                <a:cubicBezTo>
                  <a:pt x="235" y="33"/>
                  <a:pt x="277" y="65"/>
                  <a:pt x="159" y="54"/>
                </a:cubicBezTo>
                <a:cubicBezTo>
                  <a:pt x="130" y="36"/>
                  <a:pt x="112" y="15"/>
                  <a:pt x="81" y="0"/>
                </a:cubicBezTo>
                <a:cubicBezTo>
                  <a:pt x="58" y="34"/>
                  <a:pt x="34" y="32"/>
                  <a:pt x="0" y="47"/>
                </a:cubicBezTo>
                <a:close/>
              </a:path>
            </a:pathLst>
          </a:custGeom>
          <a:solidFill>
            <a:srgbClr val="ffff00">
              <a:alpha val="50000"/>
            </a:srgbClr>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5" name=""/>
          <p:cNvSpPr/>
          <p:nvPr/>
        </p:nvSpPr>
        <p:spPr>
          <a:xfrm>
            <a:off x="4572000" y="3886200"/>
            <a:ext cx="533520" cy="457200"/>
          </a:xfrm>
          <a:custGeom>
            <a:avLst/>
            <a:gdLst/>
            <a:ahLst/>
            <a:rect l="l" t="t" r="r" b="b"/>
            <a:pathLst>
              <a:path w="408" h="413">
                <a:moveTo>
                  <a:pt x="0" y="47"/>
                </a:moveTo>
                <a:cubicBezTo>
                  <a:pt x="32" y="133"/>
                  <a:pt x="37" y="224"/>
                  <a:pt x="81" y="304"/>
                </a:cubicBezTo>
                <a:cubicBezTo>
                  <a:pt x="87" y="314"/>
                  <a:pt x="88" y="327"/>
                  <a:pt x="96" y="335"/>
                </a:cubicBezTo>
                <a:cubicBezTo>
                  <a:pt x="104" y="343"/>
                  <a:pt x="118" y="344"/>
                  <a:pt x="127" y="351"/>
                </a:cubicBezTo>
                <a:cubicBezTo>
                  <a:pt x="168" y="380"/>
                  <a:pt x="188" y="403"/>
                  <a:pt x="237" y="413"/>
                </a:cubicBezTo>
                <a:cubicBezTo>
                  <a:pt x="260" y="410"/>
                  <a:pt x="284" y="411"/>
                  <a:pt x="307" y="405"/>
                </a:cubicBezTo>
                <a:cubicBezTo>
                  <a:pt x="337" y="397"/>
                  <a:pt x="326" y="387"/>
                  <a:pt x="338" y="366"/>
                </a:cubicBezTo>
                <a:cubicBezTo>
                  <a:pt x="359" y="329"/>
                  <a:pt x="385" y="307"/>
                  <a:pt x="408" y="273"/>
                </a:cubicBezTo>
                <a:cubicBezTo>
                  <a:pt x="405" y="255"/>
                  <a:pt x="407" y="235"/>
                  <a:pt x="400" y="218"/>
                </a:cubicBezTo>
                <a:cubicBezTo>
                  <a:pt x="385" y="180"/>
                  <a:pt x="274" y="167"/>
                  <a:pt x="260" y="163"/>
                </a:cubicBezTo>
                <a:cubicBezTo>
                  <a:pt x="257" y="155"/>
                  <a:pt x="253" y="148"/>
                  <a:pt x="252" y="140"/>
                </a:cubicBezTo>
                <a:cubicBezTo>
                  <a:pt x="235" y="33"/>
                  <a:pt x="277" y="65"/>
                  <a:pt x="159" y="54"/>
                </a:cubicBezTo>
                <a:cubicBezTo>
                  <a:pt x="130" y="36"/>
                  <a:pt x="112" y="15"/>
                  <a:pt x="81" y="0"/>
                </a:cubicBezTo>
                <a:cubicBezTo>
                  <a:pt x="58" y="34"/>
                  <a:pt x="34" y="32"/>
                  <a:pt x="0" y="47"/>
                </a:cubicBezTo>
                <a:close/>
              </a:path>
            </a:pathLst>
          </a:custGeom>
          <a:solidFill>
            <a:srgbClr val="ffff00">
              <a:alpha val="50000"/>
            </a:srgbClr>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46" name=""/>
          <p:cNvGrpSpPr/>
          <p:nvPr/>
        </p:nvGrpSpPr>
        <p:grpSpPr>
          <a:xfrm>
            <a:off x="6324480" y="3029040"/>
            <a:ext cx="914400" cy="761760"/>
            <a:chOff x="6324480" y="3029040"/>
            <a:chExt cx="914400" cy="761760"/>
          </a:xfrm>
        </p:grpSpPr>
        <p:sp>
          <p:nvSpPr>
            <p:cNvPr id="447" name=""/>
            <p:cNvSpPr/>
            <p:nvPr/>
          </p:nvSpPr>
          <p:spPr>
            <a:xfrm>
              <a:off x="6324480" y="3029040"/>
              <a:ext cx="914400" cy="761760"/>
            </a:xfrm>
            <a:custGeom>
              <a:avLst/>
              <a:gdLst/>
              <a:ahLst/>
              <a:rect l="l" t="t" r="r" b="b"/>
              <a:pathLst>
                <a:path w="408" h="413">
                  <a:moveTo>
                    <a:pt x="0" y="47"/>
                  </a:moveTo>
                  <a:cubicBezTo>
                    <a:pt x="32" y="133"/>
                    <a:pt x="37" y="224"/>
                    <a:pt x="81" y="304"/>
                  </a:cubicBezTo>
                  <a:cubicBezTo>
                    <a:pt x="87" y="314"/>
                    <a:pt x="88" y="327"/>
                    <a:pt x="96" y="335"/>
                  </a:cubicBezTo>
                  <a:cubicBezTo>
                    <a:pt x="104" y="343"/>
                    <a:pt x="118" y="344"/>
                    <a:pt x="127" y="351"/>
                  </a:cubicBezTo>
                  <a:cubicBezTo>
                    <a:pt x="168" y="380"/>
                    <a:pt x="188" y="403"/>
                    <a:pt x="237" y="413"/>
                  </a:cubicBezTo>
                  <a:cubicBezTo>
                    <a:pt x="260" y="410"/>
                    <a:pt x="284" y="411"/>
                    <a:pt x="307" y="405"/>
                  </a:cubicBezTo>
                  <a:cubicBezTo>
                    <a:pt x="337" y="397"/>
                    <a:pt x="326" y="387"/>
                    <a:pt x="338" y="366"/>
                  </a:cubicBezTo>
                  <a:cubicBezTo>
                    <a:pt x="359" y="329"/>
                    <a:pt x="385" y="307"/>
                    <a:pt x="408" y="273"/>
                  </a:cubicBezTo>
                  <a:cubicBezTo>
                    <a:pt x="405" y="255"/>
                    <a:pt x="407" y="235"/>
                    <a:pt x="400" y="218"/>
                  </a:cubicBezTo>
                  <a:cubicBezTo>
                    <a:pt x="385" y="180"/>
                    <a:pt x="274" y="167"/>
                    <a:pt x="260" y="163"/>
                  </a:cubicBezTo>
                  <a:cubicBezTo>
                    <a:pt x="257" y="155"/>
                    <a:pt x="253" y="148"/>
                    <a:pt x="252" y="140"/>
                  </a:cubicBezTo>
                  <a:cubicBezTo>
                    <a:pt x="235" y="33"/>
                    <a:pt x="277" y="65"/>
                    <a:pt x="159" y="54"/>
                  </a:cubicBezTo>
                  <a:cubicBezTo>
                    <a:pt x="130" y="36"/>
                    <a:pt x="112" y="15"/>
                    <a:pt x="81" y="0"/>
                  </a:cubicBezTo>
                  <a:cubicBezTo>
                    <a:pt x="58" y="34"/>
                    <a:pt x="34" y="32"/>
                    <a:pt x="0" y="47"/>
                  </a:cubicBezTo>
                  <a:close/>
                </a:path>
              </a:pathLst>
            </a:custGeom>
            <a:solidFill>
              <a:srgbClr val="ff6600">
                <a:alpha val="50000"/>
              </a:srgbClr>
            </a:solidFill>
            <a:ln w="12600">
              <a:solidFill>
                <a:srgbClr val="000000"/>
              </a:solidFill>
              <a:round/>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48" name=""/>
            <p:cNvSpPr/>
            <p:nvPr/>
          </p:nvSpPr>
          <p:spPr>
            <a:xfrm>
              <a:off x="6477120" y="3200400"/>
              <a:ext cx="533160" cy="457200"/>
            </a:xfrm>
            <a:custGeom>
              <a:avLst/>
              <a:gdLst/>
              <a:ahLst/>
              <a:rect l="l" t="t" r="r" b="b"/>
              <a:pathLst>
                <a:path w="408" h="413">
                  <a:moveTo>
                    <a:pt x="0" y="47"/>
                  </a:moveTo>
                  <a:cubicBezTo>
                    <a:pt x="32" y="133"/>
                    <a:pt x="37" y="224"/>
                    <a:pt x="81" y="304"/>
                  </a:cubicBezTo>
                  <a:cubicBezTo>
                    <a:pt x="87" y="314"/>
                    <a:pt x="88" y="327"/>
                    <a:pt x="96" y="335"/>
                  </a:cubicBezTo>
                  <a:cubicBezTo>
                    <a:pt x="104" y="343"/>
                    <a:pt x="118" y="344"/>
                    <a:pt x="127" y="351"/>
                  </a:cubicBezTo>
                  <a:cubicBezTo>
                    <a:pt x="168" y="380"/>
                    <a:pt x="188" y="403"/>
                    <a:pt x="237" y="413"/>
                  </a:cubicBezTo>
                  <a:cubicBezTo>
                    <a:pt x="260" y="410"/>
                    <a:pt x="284" y="411"/>
                    <a:pt x="307" y="405"/>
                  </a:cubicBezTo>
                  <a:cubicBezTo>
                    <a:pt x="337" y="397"/>
                    <a:pt x="326" y="387"/>
                    <a:pt x="338" y="366"/>
                  </a:cubicBezTo>
                  <a:cubicBezTo>
                    <a:pt x="359" y="329"/>
                    <a:pt x="385" y="307"/>
                    <a:pt x="408" y="273"/>
                  </a:cubicBezTo>
                  <a:cubicBezTo>
                    <a:pt x="405" y="255"/>
                    <a:pt x="407" y="235"/>
                    <a:pt x="400" y="218"/>
                  </a:cubicBezTo>
                  <a:cubicBezTo>
                    <a:pt x="385" y="180"/>
                    <a:pt x="274" y="167"/>
                    <a:pt x="260" y="163"/>
                  </a:cubicBezTo>
                  <a:cubicBezTo>
                    <a:pt x="257" y="155"/>
                    <a:pt x="253" y="148"/>
                    <a:pt x="252" y="140"/>
                  </a:cubicBezTo>
                  <a:cubicBezTo>
                    <a:pt x="235" y="33"/>
                    <a:pt x="277" y="65"/>
                    <a:pt x="159" y="54"/>
                  </a:cubicBezTo>
                  <a:cubicBezTo>
                    <a:pt x="130" y="36"/>
                    <a:pt x="112" y="15"/>
                    <a:pt x="81" y="0"/>
                  </a:cubicBezTo>
                  <a:cubicBezTo>
                    <a:pt x="58" y="34"/>
                    <a:pt x="34" y="32"/>
                    <a:pt x="0" y="47"/>
                  </a:cubicBezTo>
                  <a:close/>
                </a:path>
              </a:pathLst>
            </a:custGeom>
            <a:solidFill>
              <a:srgbClr val="ffff00">
                <a:alpha val="50000"/>
              </a:srgbClr>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449" name=""/>
          <p:cNvGrpSpPr/>
          <p:nvPr/>
        </p:nvGrpSpPr>
        <p:grpSpPr>
          <a:xfrm>
            <a:off x="5791320" y="4267080"/>
            <a:ext cx="1523520" cy="1295280"/>
            <a:chOff x="5791320" y="4267080"/>
            <a:chExt cx="1523520" cy="1295280"/>
          </a:xfrm>
        </p:grpSpPr>
        <p:sp>
          <p:nvSpPr>
            <p:cNvPr id="450" name=""/>
            <p:cNvSpPr/>
            <p:nvPr/>
          </p:nvSpPr>
          <p:spPr>
            <a:xfrm>
              <a:off x="5791320" y="4267080"/>
              <a:ext cx="1523520" cy="1295280"/>
            </a:xfrm>
            <a:custGeom>
              <a:avLst/>
              <a:gdLst/>
              <a:ahLst/>
              <a:rect l="l" t="t" r="r" b="b"/>
              <a:pathLst>
                <a:path w="408" h="413">
                  <a:moveTo>
                    <a:pt x="0" y="47"/>
                  </a:moveTo>
                  <a:cubicBezTo>
                    <a:pt x="32" y="133"/>
                    <a:pt x="37" y="224"/>
                    <a:pt x="81" y="304"/>
                  </a:cubicBezTo>
                  <a:cubicBezTo>
                    <a:pt x="87" y="314"/>
                    <a:pt x="88" y="327"/>
                    <a:pt x="96" y="335"/>
                  </a:cubicBezTo>
                  <a:cubicBezTo>
                    <a:pt x="104" y="343"/>
                    <a:pt x="118" y="344"/>
                    <a:pt x="127" y="351"/>
                  </a:cubicBezTo>
                  <a:cubicBezTo>
                    <a:pt x="168" y="380"/>
                    <a:pt x="188" y="403"/>
                    <a:pt x="237" y="413"/>
                  </a:cubicBezTo>
                  <a:cubicBezTo>
                    <a:pt x="260" y="410"/>
                    <a:pt x="284" y="411"/>
                    <a:pt x="307" y="405"/>
                  </a:cubicBezTo>
                  <a:cubicBezTo>
                    <a:pt x="337" y="397"/>
                    <a:pt x="326" y="387"/>
                    <a:pt x="338" y="366"/>
                  </a:cubicBezTo>
                  <a:cubicBezTo>
                    <a:pt x="359" y="329"/>
                    <a:pt x="385" y="307"/>
                    <a:pt x="408" y="273"/>
                  </a:cubicBezTo>
                  <a:cubicBezTo>
                    <a:pt x="405" y="255"/>
                    <a:pt x="407" y="235"/>
                    <a:pt x="400" y="218"/>
                  </a:cubicBezTo>
                  <a:cubicBezTo>
                    <a:pt x="385" y="180"/>
                    <a:pt x="274" y="167"/>
                    <a:pt x="260" y="163"/>
                  </a:cubicBezTo>
                  <a:cubicBezTo>
                    <a:pt x="257" y="155"/>
                    <a:pt x="253" y="148"/>
                    <a:pt x="252" y="140"/>
                  </a:cubicBezTo>
                  <a:cubicBezTo>
                    <a:pt x="235" y="33"/>
                    <a:pt x="277" y="65"/>
                    <a:pt x="159" y="54"/>
                  </a:cubicBezTo>
                  <a:cubicBezTo>
                    <a:pt x="130" y="36"/>
                    <a:pt x="112" y="15"/>
                    <a:pt x="81" y="0"/>
                  </a:cubicBezTo>
                  <a:cubicBezTo>
                    <a:pt x="58" y="34"/>
                    <a:pt x="34" y="32"/>
                    <a:pt x="0" y="47"/>
                  </a:cubicBezTo>
                  <a:close/>
                </a:path>
              </a:pathLst>
            </a:custGeom>
            <a:solidFill>
              <a:srgbClr val="ff6600">
                <a:alpha val="50000"/>
              </a:srgbClr>
            </a:solidFill>
            <a:ln w="12600">
              <a:solidFill>
                <a:srgbClr val="000000"/>
              </a:solidFill>
              <a:round/>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451" name=""/>
            <p:cNvSpPr/>
            <p:nvPr/>
          </p:nvSpPr>
          <p:spPr>
            <a:xfrm>
              <a:off x="6045480" y="4558320"/>
              <a:ext cx="888120" cy="777240"/>
            </a:xfrm>
            <a:custGeom>
              <a:avLst/>
              <a:gdLst/>
              <a:ahLst/>
              <a:rect l="l" t="t" r="r" b="b"/>
              <a:pathLst>
                <a:path w="408" h="413">
                  <a:moveTo>
                    <a:pt x="0" y="47"/>
                  </a:moveTo>
                  <a:cubicBezTo>
                    <a:pt x="32" y="133"/>
                    <a:pt x="37" y="224"/>
                    <a:pt x="81" y="304"/>
                  </a:cubicBezTo>
                  <a:cubicBezTo>
                    <a:pt x="87" y="314"/>
                    <a:pt x="88" y="327"/>
                    <a:pt x="96" y="335"/>
                  </a:cubicBezTo>
                  <a:cubicBezTo>
                    <a:pt x="104" y="343"/>
                    <a:pt x="118" y="344"/>
                    <a:pt x="127" y="351"/>
                  </a:cubicBezTo>
                  <a:cubicBezTo>
                    <a:pt x="168" y="380"/>
                    <a:pt x="188" y="403"/>
                    <a:pt x="237" y="413"/>
                  </a:cubicBezTo>
                  <a:cubicBezTo>
                    <a:pt x="260" y="410"/>
                    <a:pt x="284" y="411"/>
                    <a:pt x="307" y="405"/>
                  </a:cubicBezTo>
                  <a:cubicBezTo>
                    <a:pt x="337" y="397"/>
                    <a:pt x="326" y="387"/>
                    <a:pt x="338" y="366"/>
                  </a:cubicBezTo>
                  <a:cubicBezTo>
                    <a:pt x="359" y="329"/>
                    <a:pt x="385" y="307"/>
                    <a:pt x="408" y="273"/>
                  </a:cubicBezTo>
                  <a:cubicBezTo>
                    <a:pt x="405" y="255"/>
                    <a:pt x="407" y="235"/>
                    <a:pt x="400" y="218"/>
                  </a:cubicBezTo>
                  <a:cubicBezTo>
                    <a:pt x="385" y="180"/>
                    <a:pt x="274" y="167"/>
                    <a:pt x="260" y="163"/>
                  </a:cubicBezTo>
                  <a:cubicBezTo>
                    <a:pt x="257" y="155"/>
                    <a:pt x="253" y="148"/>
                    <a:pt x="252" y="140"/>
                  </a:cubicBezTo>
                  <a:cubicBezTo>
                    <a:pt x="235" y="33"/>
                    <a:pt x="277" y="65"/>
                    <a:pt x="159" y="54"/>
                  </a:cubicBezTo>
                  <a:cubicBezTo>
                    <a:pt x="130" y="36"/>
                    <a:pt x="112" y="15"/>
                    <a:pt x="81" y="0"/>
                  </a:cubicBezTo>
                  <a:cubicBezTo>
                    <a:pt x="58" y="34"/>
                    <a:pt x="34" y="32"/>
                    <a:pt x="0" y="47"/>
                  </a:cubicBezTo>
                  <a:close/>
                </a:path>
              </a:pathLst>
            </a:custGeom>
            <a:solidFill>
              <a:srgbClr val="ffff00">
                <a:alpha val="50000"/>
              </a:srgbClr>
            </a:solidFill>
            <a:ln w="1260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pic>
        <p:nvPicPr>
          <p:cNvPr id="452" name="Satelite01" descr=""/>
          <p:cNvPicPr/>
          <p:nvPr/>
        </p:nvPicPr>
        <p:blipFill>
          <a:blip r:embed="rId1"/>
          <a:stretch/>
        </p:blipFill>
        <p:spPr>
          <a:xfrm>
            <a:off x="7543800" y="5238720"/>
            <a:ext cx="1676520" cy="1162080"/>
          </a:xfrm>
          <a:prstGeom prst="rect">
            <a:avLst/>
          </a:prstGeom>
          <a:ln w="0">
            <a:noFill/>
          </a:ln>
        </p:spPr>
      </p:pic>
      <p:sp>
        <p:nvSpPr>
          <p:cNvPr id="453" name=""/>
          <p:cNvSpPr/>
          <p:nvPr/>
        </p:nvSpPr>
        <p:spPr>
          <a:xfrm>
            <a:off x="3600" y="2590920"/>
            <a:ext cx="1453320" cy="228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Systèmes embarqué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aractéris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Elé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Conception d’un S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ycle en V</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Intégr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cc0000"/>
                </a:solidFill>
                <a:latin typeface="Times New Roman"/>
              </a:rPr>
              <a:t>cycle en spira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Points de v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automatiq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logici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matéri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Intégr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5238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Vues de conception</a:t>
            </a:r>
            <a:endParaRPr b="0" lang="en-US" sz="2800" spc="-1" strike="noStrike">
              <a:solidFill>
                <a:srgbClr val="3333cc"/>
              </a:solidFill>
              <a:latin typeface="Arial"/>
            </a:endParaRPr>
          </a:p>
        </p:txBody>
      </p:sp>
      <p:sp>
        <p:nvSpPr>
          <p:cNvPr id="455" name="PlaceHolder 2"/>
          <p:cNvSpPr>
            <a:spLocks noGrp="1"/>
          </p:cNvSpPr>
          <p:nvPr>
            <p:ph/>
          </p:nvPr>
        </p:nvSpPr>
        <p:spPr>
          <a:xfrm>
            <a:off x="1523880" y="990360"/>
            <a:ext cx="7467840" cy="5638680"/>
          </a:xfrm>
          <a:prstGeom prst="rect">
            <a:avLst/>
          </a:prstGeom>
          <a:noFill/>
          <a:ln w="0">
            <a:noFill/>
          </a:ln>
        </p:spPr>
        <p:txBody>
          <a:bodyPr lIns="90000" rIns="90000" tIns="46800" bIns="46800" anchor="t">
            <a:normAutofit/>
          </a:bodyPr>
          <a:p>
            <a:pPr marL="287280" indent="-287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Modèles métiers cohérents</a:t>
            </a:r>
            <a:endParaRPr b="0" lang="en-US" sz="28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odèles de spécification</a:t>
            </a:r>
            <a:endParaRPr b="0" lang="en-US" sz="2400" spc="-1" strike="noStrike">
              <a:solidFill>
                <a:srgbClr val="000000"/>
              </a:solidFill>
              <a:latin typeface="Times New Roman"/>
            </a:endParaRPr>
          </a:p>
          <a:p>
            <a:pPr lvl="1" marL="574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odèles de conception</a:t>
            </a:r>
            <a:endParaRPr b="0" lang="en-US" sz="2400" spc="-1" strike="noStrike">
              <a:solidFill>
                <a:srgbClr val="000000"/>
              </a:solidFill>
              <a:latin typeface="Times New Roman"/>
            </a:endParaRPr>
          </a:p>
          <a:p>
            <a:pPr lvl="2" marL="952560" indent="-18756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bloc diagrammes</a:t>
            </a:r>
            <a:endParaRPr b="0" lang="en-US" sz="2000" spc="-1" strike="noStrike">
              <a:solidFill>
                <a:srgbClr val="000000"/>
              </a:solidFill>
              <a:latin typeface="Times New Roman"/>
            </a:endParaRPr>
          </a:p>
          <a:p>
            <a:pPr lvl="2" marL="952560" indent="-18756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utomates d ’état</a:t>
            </a:r>
            <a:endParaRPr b="0" lang="en-US" sz="2000" spc="-1" strike="noStrike">
              <a:solidFill>
                <a:srgbClr val="000000"/>
              </a:solidFill>
              <a:latin typeface="Times New Roman"/>
            </a:endParaRPr>
          </a:p>
          <a:p>
            <a:pPr lvl="2" marL="952560" indent="-18756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rchitecture logicielle</a:t>
            </a:r>
            <a:endParaRPr b="0" lang="en-US" sz="2000" spc="-1" strike="noStrike">
              <a:solidFill>
                <a:srgbClr val="000000"/>
              </a:solidFill>
              <a:latin typeface="Times New Roman"/>
            </a:endParaRPr>
          </a:p>
          <a:p>
            <a:pPr lvl="2" marL="95256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odèles d ’implantation</a:t>
            </a:r>
            <a:endParaRPr b="0" lang="en-US" sz="2400" spc="-1" strike="noStrike">
              <a:solidFill>
                <a:srgbClr val="000000"/>
              </a:solidFill>
              <a:latin typeface="Times New Roman"/>
            </a:endParaRPr>
          </a:p>
          <a:p>
            <a:pPr lvl="2" marL="952560" indent="-18756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rchitecture matérielle</a:t>
            </a:r>
            <a:endParaRPr b="0" lang="en-US" sz="2000" spc="-1" strike="noStrike">
              <a:solidFill>
                <a:srgbClr val="000000"/>
              </a:solidFill>
              <a:latin typeface="Times New Roman"/>
            </a:endParaRPr>
          </a:p>
          <a:p>
            <a:pPr lvl="2" marL="952560" indent="-18756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ontrôle d ’exécution (ordonnancement, synchro-communication ...)</a:t>
            </a:r>
            <a:endParaRPr b="0" lang="en-US" sz="2000" spc="-1" strike="noStrike">
              <a:solidFill>
                <a:srgbClr val="000000"/>
              </a:solidFill>
              <a:latin typeface="Times New Roman"/>
            </a:endParaRPr>
          </a:p>
          <a:p>
            <a:pPr lvl="1" marL="574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
          <p:cNvSpPr/>
          <p:nvPr/>
        </p:nvSpPr>
        <p:spPr>
          <a:xfrm>
            <a:off x="3600" y="2590920"/>
            <a:ext cx="1453320" cy="228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Systèmes embarqué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aractéris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Elé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Conception d’un S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ycle en V</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Intégr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ycle en spira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Points de v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automatiq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logici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matéri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Intégr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15238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Fédération des points de vue</a:t>
            </a:r>
            <a:endParaRPr b="0" lang="en-US" sz="2800" spc="-1" strike="noStrike">
              <a:solidFill>
                <a:srgbClr val="3333cc"/>
              </a:solidFill>
              <a:latin typeface="Arial"/>
            </a:endParaRPr>
          </a:p>
        </p:txBody>
      </p:sp>
      <p:sp>
        <p:nvSpPr>
          <p:cNvPr id="458" name="PlaceHolder 2"/>
          <p:cNvSpPr>
            <a:spLocks noGrp="1"/>
          </p:cNvSpPr>
          <p:nvPr>
            <p:ph/>
          </p:nvPr>
        </p:nvSpPr>
        <p:spPr>
          <a:xfrm>
            <a:off x="1523880" y="990360"/>
            <a:ext cx="7467840" cy="5638680"/>
          </a:xfrm>
          <a:prstGeom prst="rect">
            <a:avLst/>
          </a:prstGeom>
          <a:noFill/>
          <a:ln w="0">
            <a:noFill/>
          </a:ln>
        </p:spPr>
        <p:txBody>
          <a:bodyPr lIns="90000" rIns="90000" tIns="46800" bIns="46800" anchor="t">
            <a:normAutofit/>
          </a:bodyPr>
          <a:p>
            <a:pPr marL="287280" indent="-287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ndre les points de vue consistants</a:t>
            </a:r>
            <a:endParaRPr b="0" lang="en-US" sz="2800" spc="-1" strike="noStrike">
              <a:solidFill>
                <a:srgbClr val="000000"/>
              </a:solidFill>
              <a:latin typeface="Times New Roman"/>
            </a:endParaRPr>
          </a:p>
          <a:p>
            <a:pPr marL="287280" indent="-287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s de modèle unifié</a:t>
            </a:r>
            <a:endParaRPr b="0" lang="en-US" sz="28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que point de vue a une « bonne » manière d ’exprimer ses éléments</a:t>
            </a:r>
            <a:endParaRPr b="0" lang="en-US" sz="24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mettre l ’expression (graphique) de chaque métier</a:t>
            </a:r>
            <a:endParaRPr b="0" lang="en-US" sz="2400" spc="-1" strike="noStrike">
              <a:solidFill>
                <a:srgbClr val="000000"/>
              </a:solidFill>
              <a:latin typeface="Times New Roman"/>
            </a:endParaRPr>
          </a:p>
          <a:p>
            <a:pPr marL="287280" indent="-287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ner des cadres d ’expression pour permettre les passerelles</a:t>
            </a:r>
            <a:endParaRPr b="0" lang="en-US" sz="2800" spc="-1" strike="noStrike">
              <a:solidFill>
                <a:srgbClr val="000000"/>
              </a:solidFill>
              <a:latin typeface="Times New Roman"/>
            </a:endParaRPr>
          </a:p>
          <a:p>
            <a:pPr marL="287280" indent="-287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urer</a:t>
            </a:r>
            <a:endParaRPr b="0" lang="en-US" sz="28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sibilité de simuler (faire vivre le modèle)</a:t>
            </a:r>
            <a:endParaRPr b="0" lang="en-US" sz="24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sibilité de générer du code efficace exécutable</a:t>
            </a:r>
            <a:endParaRPr b="0" lang="en-US" sz="2400" spc="-1" strike="noStrike">
              <a:solidFill>
                <a:srgbClr val="000000"/>
              </a:solidFill>
              <a:latin typeface="Times New Roman"/>
            </a:endParaRPr>
          </a:p>
          <a:p>
            <a:pPr lvl="1" marL="574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7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9" name=""/>
          <p:cNvSpPr/>
          <p:nvPr/>
        </p:nvSpPr>
        <p:spPr>
          <a:xfrm>
            <a:off x="3600" y="2590920"/>
            <a:ext cx="1453320" cy="228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Systèmes embarqué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aractéris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Elé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Conception d’un S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ycle en V</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Intégr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ycle en spira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Points de v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automatiq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logici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matéri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Intégr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15238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Partitionnement</a:t>
            </a:r>
            <a:endParaRPr b="0" lang="en-US" sz="2800" spc="-1" strike="noStrike">
              <a:solidFill>
                <a:srgbClr val="3333cc"/>
              </a:solidFill>
              <a:latin typeface="Arial"/>
            </a:endParaRPr>
          </a:p>
        </p:txBody>
      </p:sp>
      <p:sp>
        <p:nvSpPr>
          <p:cNvPr id="461" name="PlaceHolder 2"/>
          <p:cNvSpPr>
            <a:spLocks noGrp="1"/>
          </p:cNvSpPr>
          <p:nvPr>
            <p:ph/>
          </p:nvPr>
        </p:nvSpPr>
        <p:spPr>
          <a:xfrm>
            <a:off x="1523880" y="990360"/>
            <a:ext cx="7467840" cy="5638680"/>
          </a:xfrm>
          <a:prstGeom prst="rect">
            <a:avLst/>
          </a:prstGeom>
          <a:noFill/>
          <a:ln w="0">
            <a:noFill/>
          </a:ln>
        </p:spPr>
        <p:txBody>
          <a:bodyPr lIns="90000" rIns="90000" tIns="46800" bIns="46800" anchor="t">
            <a:normAutofit/>
          </a:bodyPr>
          <a:p>
            <a:pPr marL="287280" indent="-287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Modularité</a:t>
            </a:r>
            <a:endParaRPr b="0" lang="en-US" sz="28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onception disjointe</a:t>
            </a:r>
            <a:endParaRPr b="0" lang="en-US" sz="24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ise en perspective de l ’architecture système</a:t>
            </a:r>
            <a:endParaRPr b="0" lang="en-US" sz="2400" spc="-1" strike="noStrike">
              <a:solidFill>
                <a:srgbClr val="000000"/>
              </a:solidFill>
              <a:latin typeface="Times New Roman"/>
            </a:endParaRPr>
          </a:p>
          <a:p>
            <a:pPr marL="287280" indent="-287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Hiérarchie</a:t>
            </a:r>
            <a:endParaRPr b="0" lang="en-US" sz="28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regrouper /détailler</a:t>
            </a:r>
            <a:endParaRPr b="0" lang="en-US" sz="2400" spc="-1" strike="noStrike">
              <a:solidFill>
                <a:srgbClr val="000000"/>
              </a:solidFill>
              <a:latin typeface="Times New Roman"/>
            </a:endParaRPr>
          </a:p>
          <a:p>
            <a:pPr marL="287280" indent="-287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Granularité</a:t>
            </a:r>
            <a:endParaRPr b="0" lang="en-US" sz="28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Quel découpage ?</a:t>
            </a:r>
            <a:endParaRPr b="0" lang="en-US" sz="2400" spc="-1" strike="noStrike">
              <a:solidFill>
                <a:srgbClr val="000000"/>
              </a:solidFill>
              <a:latin typeface="Times New Roman"/>
            </a:endParaRPr>
          </a:p>
          <a:p>
            <a:pPr lvl="2" marL="952560" indent="-18756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our être réutilisable à un autre niveau (+ -)</a:t>
            </a:r>
            <a:endParaRPr b="0" lang="en-US" sz="2000" spc="-1" strike="noStrike">
              <a:solidFill>
                <a:srgbClr val="000000"/>
              </a:solidFill>
              <a:latin typeface="Times New Roman"/>
            </a:endParaRPr>
          </a:p>
          <a:p>
            <a:pPr lvl="2" marL="952560" indent="-18756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objet / fonction </a:t>
            </a:r>
            <a:endParaRPr b="0" lang="en-US" sz="2000" spc="-1" strike="noStrike">
              <a:solidFill>
                <a:srgbClr val="000000"/>
              </a:solidFill>
              <a:latin typeface="Times New Roman"/>
            </a:endParaRPr>
          </a:p>
          <a:p>
            <a:pPr marL="287280" indent="-287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Mise en évidence des flots de données/ de contrôle pour l ’architecture</a:t>
            </a:r>
            <a:endParaRPr b="0" lang="en-US" sz="2800" spc="-1" strike="noStrike">
              <a:solidFill>
                <a:srgbClr val="000000"/>
              </a:solidFill>
              <a:latin typeface="Times New Roman"/>
            </a:endParaRPr>
          </a:p>
        </p:txBody>
      </p:sp>
      <p:sp>
        <p:nvSpPr>
          <p:cNvPr id="462" name=""/>
          <p:cNvSpPr/>
          <p:nvPr/>
        </p:nvSpPr>
        <p:spPr>
          <a:xfrm>
            <a:off x="3600" y="2590920"/>
            <a:ext cx="1453320" cy="228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Systèmes embarqué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aractéris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Elé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Conception d’un S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ycle en V</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Intégr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ycle en spira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Points de v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automatiq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logici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matéri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Intégr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5238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Différentes perspectives, exemples</a:t>
            </a:r>
            <a:endParaRPr b="0" lang="en-US" sz="2800" spc="-1" strike="noStrike">
              <a:solidFill>
                <a:srgbClr val="3333cc"/>
              </a:solidFill>
              <a:latin typeface="Arial"/>
            </a:endParaRPr>
          </a:p>
        </p:txBody>
      </p:sp>
      <p:sp>
        <p:nvSpPr>
          <p:cNvPr id="464" name="PlaceHolder 2"/>
          <p:cNvSpPr>
            <a:spLocks noGrp="1"/>
          </p:cNvSpPr>
          <p:nvPr>
            <p:ph/>
          </p:nvPr>
        </p:nvSpPr>
        <p:spPr>
          <a:xfrm>
            <a:off x="1523880" y="990360"/>
            <a:ext cx="7467840" cy="5638680"/>
          </a:xfrm>
          <a:prstGeom prst="rect">
            <a:avLst/>
          </a:prstGeom>
          <a:noFill/>
          <a:ln w="0">
            <a:noFill/>
          </a:ln>
        </p:spPr>
        <p:txBody>
          <a:bodyPr lIns="90000" rIns="90000" tIns="46800" bIns="46800" anchor="t">
            <a:normAutofit/>
          </a:bodyPr>
          <a:p>
            <a:pPr marL="287280" indent="-287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Architecture logicielle : UML </a:t>
            </a:r>
            <a:endParaRPr b="0" lang="en-US" sz="2800" spc="-1" strike="noStrike">
              <a:solidFill>
                <a:srgbClr val="000000"/>
              </a:solidFill>
              <a:latin typeface="Times New Roman"/>
            </a:endParaRPr>
          </a:p>
          <a:p>
            <a:pPr marL="287280" indent="-287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Contrôle d ’exécution : OS temps réel, approche synchrone/ syndex</a:t>
            </a:r>
            <a:endParaRPr b="0" lang="en-US" sz="2800" spc="-1" strike="noStrike">
              <a:solidFill>
                <a:srgbClr val="000000"/>
              </a:solidFill>
              <a:latin typeface="Times New Roman"/>
            </a:endParaRPr>
          </a:p>
          <a:p>
            <a:pPr marL="287280" indent="-287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Métier : bloc diagramme </a:t>
            </a:r>
            <a:endParaRPr b="0" lang="en-US" sz="2800" spc="-1" strike="noStrike">
              <a:solidFill>
                <a:srgbClr val="000000"/>
              </a:solidFill>
              <a:latin typeface="Times New Roman"/>
            </a:endParaRPr>
          </a:p>
          <a:p>
            <a:pPr marL="287280" indent="-287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Architecture matérielle : répartition H/S, répartition sur un réseau</a:t>
            </a:r>
            <a:endParaRPr b="0" lang="en-US" sz="2800" spc="-1" strike="noStrike">
              <a:solidFill>
                <a:srgbClr val="000000"/>
              </a:solidFill>
              <a:latin typeface="Times New Roman"/>
            </a:endParaRPr>
          </a:p>
        </p:txBody>
      </p:sp>
      <p:sp>
        <p:nvSpPr>
          <p:cNvPr id="465" name=""/>
          <p:cNvSpPr/>
          <p:nvPr/>
        </p:nvSpPr>
        <p:spPr>
          <a:xfrm>
            <a:off x="3600" y="2590920"/>
            <a:ext cx="1453320" cy="228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Systèmes embarqué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aractéris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Elé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Conception d’un S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ycle en V</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Intégr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ycle en spira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Points de v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automatiq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logici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matéri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Intégr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oncevoir des systèmes embarqués</a:t>
            </a:r>
            <a:endParaRPr b="0" lang="en-US" sz="2800" spc="-1" strike="noStrike">
              <a:solidFill>
                <a:srgbClr val="3333cc"/>
              </a:solidFill>
              <a:latin typeface="Arial"/>
            </a:endParaRPr>
          </a:p>
        </p:txBody>
      </p:sp>
      <p:sp>
        <p:nvSpPr>
          <p:cNvPr id="91" name="PlaceHolder 2"/>
          <p:cNvSpPr>
            <a:spLocks noGrp="1"/>
          </p:cNvSpPr>
          <p:nvPr>
            <p:ph/>
          </p:nvPr>
        </p:nvSpPr>
        <p:spPr>
          <a:xfrm>
            <a:off x="1523880" y="990360"/>
            <a:ext cx="7467840" cy="5638680"/>
          </a:xfrm>
          <a:prstGeom prst="rect">
            <a:avLst/>
          </a:prstGeom>
          <a:noFill/>
          <a:ln w="0">
            <a:noFill/>
          </a:ln>
        </p:spPr>
        <p:txBody>
          <a:bodyPr lIns="90000" rIns="90000" tIns="46800" bIns="46800" anchor="t">
            <a:normAutofit/>
          </a:bodyPr>
          <a:p>
            <a:pPr marL="287280" indent="-287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ystèmes embarqués</a:t>
            </a:r>
            <a:endParaRPr b="0" lang="en-US" sz="28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actérisation </a:t>
            </a:r>
            <a:endParaRPr b="0" lang="en-US" sz="24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éments</a:t>
            </a:r>
            <a:endParaRPr b="0" lang="en-US" sz="2400" spc="-1" strike="noStrike">
              <a:solidFill>
                <a:srgbClr val="000000"/>
              </a:solidFill>
              <a:latin typeface="Times New Roman"/>
            </a:endParaRPr>
          </a:p>
          <a:p>
            <a:pPr marL="287280" indent="-287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eption d ’un système automatisé</a:t>
            </a:r>
            <a:endParaRPr b="0" lang="en-US" sz="28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 cycle en V</a:t>
            </a:r>
            <a:endParaRPr b="0" lang="en-US" sz="24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égration de points de vue</a:t>
            </a:r>
            <a:endParaRPr b="0" lang="en-US" sz="24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 cycle en spirale</a:t>
            </a:r>
            <a:endParaRPr b="0" lang="en-US" sz="2400" spc="-1" strike="noStrike">
              <a:solidFill>
                <a:srgbClr val="000000"/>
              </a:solidFill>
              <a:latin typeface="Times New Roman"/>
            </a:endParaRPr>
          </a:p>
          <a:p>
            <a:pPr marL="287280" indent="-287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ints de vue de conception</a:t>
            </a:r>
            <a:endParaRPr b="0" lang="en-US" sz="28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tomatique</a:t>
            </a:r>
            <a:endParaRPr b="0" lang="en-US" sz="24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iciel</a:t>
            </a:r>
            <a:endParaRPr b="0" lang="en-US" sz="24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tériel</a:t>
            </a:r>
            <a:endParaRPr b="0" lang="en-US" sz="2400" spc="-1" strike="noStrike">
              <a:solidFill>
                <a:srgbClr val="000000"/>
              </a:solidFill>
              <a:latin typeface="Times New Roman"/>
            </a:endParaRPr>
          </a:p>
          <a:p>
            <a:pPr marL="287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15238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Vue automatique</a:t>
            </a:r>
            <a:endParaRPr b="0" lang="en-US" sz="2800" spc="-1" strike="noStrike">
              <a:solidFill>
                <a:srgbClr val="3333cc"/>
              </a:solidFill>
              <a:latin typeface="Arial"/>
            </a:endParaRPr>
          </a:p>
        </p:txBody>
      </p:sp>
      <p:sp>
        <p:nvSpPr>
          <p:cNvPr id="467" name="PlaceHolder 2"/>
          <p:cNvSpPr>
            <a:spLocks noGrp="1"/>
          </p:cNvSpPr>
          <p:nvPr>
            <p:ph/>
          </p:nvPr>
        </p:nvSpPr>
        <p:spPr>
          <a:xfrm>
            <a:off x="1523880" y="990360"/>
            <a:ext cx="7467840" cy="563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68" name="" descr=""/>
          <p:cNvPicPr/>
          <p:nvPr/>
        </p:nvPicPr>
        <p:blipFill>
          <a:blip r:embed="rId1"/>
          <a:stretch/>
        </p:blipFill>
        <p:spPr>
          <a:xfrm>
            <a:off x="990720" y="914400"/>
            <a:ext cx="7800840" cy="4657680"/>
          </a:xfrm>
          <a:prstGeom prst="rect">
            <a:avLst/>
          </a:prstGeom>
          <a:ln w="0">
            <a:noFill/>
          </a:ln>
        </p:spPr>
      </p:pic>
      <p:pic>
        <p:nvPicPr>
          <p:cNvPr id="469" name="" descr=""/>
          <p:cNvPicPr/>
          <p:nvPr/>
        </p:nvPicPr>
        <p:blipFill>
          <a:blip r:embed="rId2"/>
          <a:stretch/>
        </p:blipFill>
        <p:spPr>
          <a:xfrm>
            <a:off x="914400" y="4343400"/>
            <a:ext cx="8458200" cy="3676680"/>
          </a:xfrm>
          <a:prstGeom prst="rect">
            <a:avLst/>
          </a:prstGeom>
          <a:ln w="0">
            <a:noFill/>
          </a:ln>
        </p:spPr>
      </p:pic>
      <p:sp>
        <p:nvSpPr>
          <p:cNvPr id="470" name=""/>
          <p:cNvSpPr/>
          <p:nvPr/>
        </p:nvSpPr>
        <p:spPr>
          <a:xfrm>
            <a:off x="3600" y="2590920"/>
            <a:ext cx="1453320" cy="228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Systèmes embarqué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aractéris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Elé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Conception d’un S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ycle en V</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Intégr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ycle en spira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Points de v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cc0000"/>
                </a:solidFill>
                <a:latin typeface="Times New Roman"/>
              </a:rPr>
              <a:t>automatiq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logici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matéri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Intégr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5238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Vue logicielle</a:t>
            </a:r>
            <a:endParaRPr b="0" lang="en-US" sz="2800" spc="-1" strike="noStrike">
              <a:solidFill>
                <a:srgbClr val="3333cc"/>
              </a:solidFill>
              <a:latin typeface="Arial"/>
            </a:endParaRPr>
          </a:p>
        </p:txBody>
      </p:sp>
      <p:sp>
        <p:nvSpPr>
          <p:cNvPr id="472" name="PlaceHolder 2"/>
          <p:cNvSpPr>
            <a:spLocks noGrp="1"/>
          </p:cNvSpPr>
          <p:nvPr>
            <p:ph/>
          </p:nvPr>
        </p:nvSpPr>
        <p:spPr>
          <a:xfrm>
            <a:off x="1523880" y="990360"/>
            <a:ext cx="7467840" cy="563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73" name="Rhap" descr=""/>
          <p:cNvPicPr/>
          <p:nvPr/>
        </p:nvPicPr>
        <p:blipFill>
          <a:blip r:embed="rId1"/>
          <a:stretch/>
        </p:blipFill>
        <p:spPr>
          <a:xfrm>
            <a:off x="1295280" y="1008000"/>
            <a:ext cx="7667640" cy="5708880"/>
          </a:xfrm>
          <a:prstGeom prst="rect">
            <a:avLst/>
          </a:prstGeom>
          <a:ln w="0">
            <a:noFill/>
          </a:ln>
        </p:spPr>
      </p:pic>
      <p:sp>
        <p:nvSpPr>
          <p:cNvPr id="474" name=""/>
          <p:cNvSpPr/>
          <p:nvPr/>
        </p:nvSpPr>
        <p:spPr>
          <a:xfrm>
            <a:off x="3600" y="2590920"/>
            <a:ext cx="1453320" cy="228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Systèmes embarqué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aractéris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Elé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Conception d’un S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ycle en V</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Intégr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ycle en spira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Points de v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automatiq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cc0000"/>
                </a:solidFill>
                <a:latin typeface="Times New Roman"/>
              </a:rPr>
              <a:t>logici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matéri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Intégr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15238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Vue répartition</a:t>
            </a:r>
            <a:endParaRPr b="0" lang="en-US" sz="2800" spc="-1" strike="noStrike">
              <a:solidFill>
                <a:srgbClr val="3333cc"/>
              </a:solidFill>
              <a:latin typeface="Arial"/>
            </a:endParaRPr>
          </a:p>
        </p:txBody>
      </p:sp>
      <p:pic>
        <p:nvPicPr>
          <p:cNvPr id="476" name="Syndex" descr=""/>
          <p:cNvPicPr/>
          <p:nvPr/>
        </p:nvPicPr>
        <p:blipFill>
          <a:blip r:embed="rId1"/>
          <a:stretch/>
        </p:blipFill>
        <p:spPr>
          <a:xfrm>
            <a:off x="1447920" y="990720"/>
            <a:ext cx="7696080" cy="5730840"/>
          </a:xfrm>
          <a:prstGeom prst="rect">
            <a:avLst/>
          </a:prstGeom>
          <a:ln w="0">
            <a:noFill/>
          </a:ln>
        </p:spPr>
      </p:pic>
      <p:sp>
        <p:nvSpPr>
          <p:cNvPr id="477" name=""/>
          <p:cNvSpPr/>
          <p:nvPr/>
        </p:nvSpPr>
        <p:spPr>
          <a:xfrm>
            <a:off x="3600" y="2590920"/>
            <a:ext cx="1453320" cy="228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Systèmes embarqué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aractéris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Elé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Conception d’un S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ycle en V</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Intégr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ycle en spira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Points de v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automatiq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cc0000"/>
                </a:solidFill>
                <a:latin typeface="Times New Roman"/>
              </a:rPr>
              <a:t>logici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cc0000"/>
                </a:solidFill>
                <a:latin typeface="Times New Roman"/>
              </a:rPr>
              <a:t>matéri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Intégr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15238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Vue liaison Algorithmes Architecture</a:t>
            </a:r>
            <a:endParaRPr b="0" lang="en-US" sz="2800" spc="-1" strike="noStrike">
              <a:solidFill>
                <a:srgbClr val="3333cc"/>
              </a:solidFill>
              <a:latin typeface="Arial"/>
            </a:endParaRPr>
          </a:p>
        </p:txBody>
      </p:sp>
      <p:pic>
        <p:nvPicPr>
          <p:cNvPr id="479" name="" descr=""/>
          <p:cNvPicPr/>
          <p:nvPr/>
        </p:nvPicPr>
        <p:blipFill>
          <a:blip r:embed="rId1"/>
          <a:stretch/>
        </p:blipFill>
        <p:spPr>
          <a:xfrm>
            <a:off x="4562640" y="1143000"/>
            <a:ext cx="4581360" cy="4819680"/>
          </a:xfrm>
          <a:prstGeom prst="rect">
            <a:avLst/>
          </a:prstGeom>
          <a:ln w="0">
            <a:noFill/>
          </a:ln>
        </p:spPr>
      </p:pic>
      <p:pic>
        <p:nvPicPr>
          <p:cNvPr id="480" name="" descr=""/>
          <p:cNvPicPr/>
          <p:nvPr/>
        </p:nvPicPr>
        <p:blipFill>
          <a:blip r:embed="rId2"/>
          <a:stretch/>
        </p:blipFill>
        <p:spPr>
          <a:xfrm>
            <a:off x="0" y="1752480"/>
            <a:ext cx="5276880" cy="4248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15238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Vue macro code</a:t>
            </a:r>
            <a:endParaRPr b="0" lang="en-US" sz="2800" spc="-1" strike="noStrike">
              <a:solidFill>
                <a:srgbClr val="3333cc"/>
              </a:solidFill>
              <a:latin typeface="Arial"/>
            </a:endParaRPr>
          </a:p>
        </p:txBody>
      </p:sp>
      <p:pic>
        <p:nvPicPr>
          <p:cNvPr id="482" name="" descr=""/>
          <p:cNvPicPr/>
          <p:nvPr/>
        </p:nvPicPr>
        <p:blipFill>
          <a:blip r:embed="rId1"/>
          <a:stretch/>
        </p:blipFill>
        <p:spPr>
          <a:xfrm>
            <a:off x="2362320" y="1114560"/>
            <a:ext cx="4228920" cy="5133960"/>
          </a:xfrm>
          <a:prstGeom prst="rect">
            <a:avLst/>
          </a:prstGeom>
          <a:ln w="0">
            <a:noFill/>
          </a:ln>
        </p:spPr>
      </p:pic>
      <p:pic>
        <p:nvPicPr>
          <p:cNvPr id="483" name="" descr=""/>
          <p:cNvPicPr/>
          <p:nvPr/>
        </p:nvPicPr>
        <p:blipFill>
          <a:blip r:embed="rId2"/>
          <a:stretch/>
        </p:blipFill>
        <p:spPr>
          <a:xfrm>
            <a:off x="7696080" y="1676520"/>
            <a:ext cx="619200" cy="550800"/>
          </a:xfrm>
          <a:prstGeom prst="rect">
            <a:avLst/>
          </a:prstGeom>
          <a:ln w="0">
            <a:noFill/>
          </a:ln>
        </p:spPr>
      </p:pic>
      <p:sp>
        <p:nvSpPr>
          <p:cNvPr id="484" name=""/>
          <p:cNvSpPr/>
          <p:nvPr/>
        </p:nvSpPr>
        <p:spPr>
          <a:xfrm>
            <a:off x="7238880" y="3733920"/>
            <a:ext cx="1143000" cy="1523880"/>
          </a:xfrm>
          <a:prstGeom prst="flowChartDocument">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5" name=""/>
          <p:cNvSpPr/>
          <p:nvPr/>
        </p:nvSpPr>
        <p:spPr>
          <a:xfrm flipV="1">
            <a:off x="6858000" y="2209680"/>
            <a:ext cx="838080" cy="533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6858000" y="3124080"/>
            <a:ext cx="762120" cy="457200"/>
          </a:xfrm>
          <a:prstGeom prst="line">
            <a:avLst/>
          </a:prstGeom>
          <a:ln w="2844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7" name=""/>
          <p:cNvSpPr/>
          <p:nvPr/>
        </p:nvSpPr>
        <p:spPr>
          <a:xfrm>
            <a:off x="3600" y="2590920"/>
            <a:ext cx="1453320" cy="228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Systèmes embarqué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aractéris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Elé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Conception d’un S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ycle en V</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Intégr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ycle en spira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Points de v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automatiq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cc0000"/>
                </a:solidFill>
                <a:latin typeface="Times New Roman"/>
              </a:rPr>
              <a:t>logici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cc0000"/>
                </a:solidFill>
                <a:latin typeface="Times New Roman"/>
              </a:rPr>
              <a:t>matéri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Intégr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1143000" y="1066680"/>
            <a:ext cx="6019920" cy="4496040"/>
          </a:xfrm>
          <a:prstGeom prst="roundRect">
            <a:avLst>
              <a:gd name="adj" fmla="val 4995"/>
            </a:avLst>
          </a:prstGeom>
          <a:solidFill>
            <a:srgbClr val="ccffcc">
              <a:alpha val="50000"/>
            </a:srgbClr>
          </a:solid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9" name="PlaceHolder 1"/>
          <p:cNvSpPr>
            <a:spLocks noGrp="1"/>
          </p:cNvSpPr>
          <p:nvPr>
            <p:ph type="title"/>
          </p:nvPr>
        </p:nvSpPr>
        <p:spPr>
          <a:xfrm>
            <a:off x="15238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Interopérabilité des domaines</a:t>
            </a:r>
            <a:br>
              <a:rPr sz="2800"/>
            </a:br>
            <a:r>
              <a:rPr b="0" lang="en-US" sz="2800" spc="-1" strike="noStrike">
                <a:solidFill>
                  <a:srgbClr val="3333cc"/>
                </a:solidFill>
                <a:latin typeface="Arial"/>
              </a:rPr>
              <a:t>Conception Conjointe</a:t>
            </a:r>
            <a:endParaRPr b="0" lang="en-US" sz="2800" spc="-1" strike="noStrike">
              <a:solidFill>
                <a:srgbClr val="3333cc"/>
              </a:solidFill>
              <a:latin typeface="Arial"/>
            </a:endParaRPr>
          </a:p>
        </p:txBody>
      </p:sp>
      <p:pic>
        <p:nvPicPr>
          <p:cNvPr id="490" name="" descr=""/>
          <p:cNvPicPr/>
          <p:nvPr/>
        </p:nvPicPr>
        <p:blipFill>
          <a:blip r:embed="rId1"/>
          <a:stretch/>
        </p:blipFill>
        <p:spPr>
          <a:xfrm>
            <a:off x="1295280" y="1143000"/>
            <a:ext cx="2873520" cy="1714680"/>
          </a:xfrm>
          <a:prstGeom prst="rect">
            <a:avLst/>
          </a:prstGeom>
          <a:ln w="0">
            <a:noFill/>
          </a:ln>
        </p:spPr>
      </p:pic>
      <p:pic>
        <p:nvPicPr>
          <p:cNvPr id="491" name="Syndex" descr=""/>
          <p:cNvPicPr/>
          <p:nvPr/>
        </p:nvPicPr>
        <p:blipFill>
          <a:blip r:embed="rId2"/>
          <a:stretch/>
        </p:blipFill>
        <p:spPr>
          <a:xfrm>
            <a:off x="4419720" y="2590920"/>
            <a:ext cx="2531880" cy="1884240"/>
          </a:xfrm>
          <a:prstGeom prst="rect">
            <a:avLst/>
          </a:prstGeom>
          <a:ln w="0">
            <a:noFill/>
          </a:ln>
        </p:spPr>
      </p:pic>
      <p:pic>
        <p:nvPicPr>
          <p:cNvPr id="492" name="Rhap" descr=""/>
          <p:cNvPicPr/>
          <p:nvPr/>
        </p:nvPicPr>
        <p:blipFill>
          <a:blip r:embed="rId3"/>
          <a:stretch/>
        </p:blipFill>
        <p:spPr>
          <a:xfrm>
            <a:off x="1371600" y="3429000"/>
            <a:ext cx="2668680" cy="1987560"/>
          </a:xfrm>
          <a:prstGeom prst="rect">
            <a:avLst/>
          </a:prstGeom>
          <a:ln w="0">
            <a:noFill/>
          </a:ln>
        </p:spPr>
      </p:pic>
      <p:sp>
        <p:nvSpPr>
          <p:cNvPr id="493" name=""/>
          <p:cNvSpPr txBox="1"/>
          <p:nvPr/>
        </p:nvSpPr>
        <p:spPr>
          <a:xfrm>
            <a:off x="5283360" y="3429000"/>
            <a:ext cx="527040" cy="779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4"/>
                  <a:srcRect/>
                  <a:stretch/>
                </a:blipFill>
                <a:effectLst>
                  <a:outerShdw dist="17819" dir="2700000" blurRad="0" rotWithShape="0">
                    <a:srgbClr val="c0c0c0"/>
                  </a:outerShdw>
                </a:effectLst>
                <a:latin typeface="Impact"/>
              </a:rPr>
              <a:t>H</a:t>
            </a:r>
            <a:endParaRPr b="0" lang="en-US" sz="2400" spc="1" strike="noStrike">
              <a:ln w="0">
                <a:noFill/>
              </a:ln>
              <a:blipFill rotWithShape="0">
                <a:blip r:embed="rId5"/>
                <a:srcRect/>
                <a:stretch/>
              </a:blipFill>
              <a:effectLst>
                <a:outerShdw dist="17819" dir="2700000" blurRad="0" rotWithShape="0">
                  <a:srgbClr val="c0c0c0"/>
                </a:outerShdw>
              </a:effectLst>
              <a:latin typeface="Impact"/>
              <a:ea typeface="Impact"/>
            </a:endParaRPr>
          </a:p>
        </p:txBody>
      </p:sp>
      <p:sp>
        <p:nvSpPr>
          <p:cNvPr id="494" name=""/>
          <p:cNvSpPr txBox="1"/>
          <p:nvPr/>
        </p:nvSpPr>
        <p:spPr>
          <a:xfrm>
            <a:off x="2540160" y="4114800"/>
            <a:ext cx="527040" cy="779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6"/>
                  <a:srcRect/>
                  <a:stretch/>
                </a:blipFill>
                <a:effectLst>
                  <a:outerShdw dist="17819" dir="2700000" blurRad="0" rotWithShape="0">
                    <a:srgbClr val="c0c0c0"/>
                  </a:outerShdw>
                </a:effectLst>
                <a:latin typeface="Impact"/>
              </a:rPr>
              <a:t>S</a:t>
            </a:r>
            <a:endParaRPr b="0" lang="en-US" sz="2400" spc="1" strike="noStrike">
              <a:ln w="0">
                <a:noFill/>
              </a:ln>
              <a:blipFill rotWithShape="0">
                <a:blip r:embed="rId7"/>
                <a:srcRect/>
                <a:stretch/>
              </a:blipFill>
              <a:effectLst>
                <a:outerShdw dist="17819" dir="2700000" blurRad="0" rotWithShape="0">
                  <a:srgbClr val="c0c0c0"/>
                </a:outerShdw>
              </a:effectLst>
              <a:latin typeface="Impact"/>
              <a:ea typeface="Impact"/>
            </a:endParaRPr>
          </a:p>
        </p:txBody>
      </p:sp>
      <p:sp>
        <p:nvSpPr>
          <p:cNvPr id="495" name=""/>
          <p:cNvSpPr txBox="1"/>
          <p:nvPr/>
        </p:nvSpPr>
        <p:spPr>
          <a:xfrm>
            <a:off x="3073320" y="1922400"/>
            <a:ext cx="527040" cy="779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8"/>
                  <a:srcRect/>
                  <a:stretch/>
                </a:blipFill>
                <a:effectLst>
                  <a:outerShdw dist="17819" dir="2700000" blurRad="0" rotWithShape="0">
                    <a:srgbClr val="c0c0c0"/>
                  </a:outerShdw>
                </a:effectLst>
                <a:latin typeface="Impact"/>
              </a:rPr>
              <a:t>C</a:t>
            </a:r>
            <a:endParaRPr b="0" lang="en-US" sz="2400" spc="1" strike="noStrike">
              <a:ln w="0">
                <a:noFill/>
              </a:ln>
              <a:blipFill rotWithShape="0">
                <a:blip r:embed="rId9"/>
                <a:srcRect/>
                <a:stretch/>
              </a:blipFill>
              <a:effectLst>
                <a:outerShdw dist="17819" dir="2700000" blurRad="0" rotWithShape="0">
                  <a:srgbClr val="c0c0c0"/>
                </a:outerShdw>
              </a:effectLst>
              <a:latin typeface="Impact"/>
              <a:ea typeface="Impact"/>
            </a:endParaRPr>
          </a:p>
        </p:txBody>
      </p:sp>
      <p:sp>
        <p:nvSpPr>
          <p:cNvPr id="496" name=""/>
          <p:cNvSpPr/>
          <p:nvPr/>
        </p:nvSpPr>
        <p:spPr>
          <a:xfrm>
            <a:off x="4191120" y="1879560"/>
            <a:ext cx="1093680" cy="550800"/>
          </a:xfrm>
          <a:custGeom>
            <a:avLst/>
            <a:gdLst/>
            <a:ahLst/>
            <a:rect l="l" t="t" r="r" b="b"/>
            <a:pathLst>
              <a:path w="768" h="400">
                <a:moveTo>
                  <a:pt x="0" y="16"/>
                </a:moveTo>
                <a:cubicBezTo>
                  <a:pt x="152" y="8"/>
                  <a:pt x="304" y="0"/>
                  <a:pt x="432" y="64"/>
                </a:cubicBezTo>
                <a:cubicBezTo>
                  <a:pt x="560" y="128"/>
                  <a:pt x="664" y="264"/>
                  <a:pt x="768" y="400"/>
                </a:cubicBezTo>
              </a:path>
            </a:pathLst>
          </a:custGeom>
          <a:noFill/>
          <a:ln w="28440">
            <a:solidFill>
              <a:srgbClr val="000000"/>
            </a:solidFill>
            <a:round/>
            <a:headEnd len="med" type="triangle" w="med"/>
            <a:tailEnd len="med" type="triangle"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7" name=""/>
          <p:cNvSpPr/>
          <p:nvPr/>
        </p:nvSpPr>
        <p:spPr>
          <a:xfrm>
            <a:off x="4267080" y="4648320"/>
            <a:ext cx="684360" cy="330120"/>
          </a:xfrm>
          <a:custGeom>
            <a:avLst/>
            <a:gdLst/>
            <a:ahLst/>
            <a:rect l="l" t="t" r="r" b="b"/>
            <a:pathLst>
              <a:path w="480" h="240">
                <a:moveTo>
                  <a:pt x="480" y="0"/>
                </a:moveTo>
                <a:cubicBezTo>
                  <a:pt x="400" y="76"/>
                  <a:pt x="320" y="152"/>
                  <a:pt x="240" y="192"/>
                </a:cubicBezTo>
                <a:cubicBezTo>
                  <a:pt x="160" y="232"/>
                  <a:pt x="80" y="236"/>
                  <a:pt x="0" y="240"/>
                </a:cubicBezTo>
              </a:path>
            </a:pathLst>
          </a:custGeom>
          <a:noFill/>
          <a:ln w="28440">
            <a:solidFill>
              <a:srgbClr val="000000"/>
            </a:solidFill>
            <a:round/>
            <a:headEnd len="med" type="triangle" w="med"/>
            <a:tailEnd len="med" type="triangle"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8" name=""/>
          <p:cNvSpPr/>
          <p:nvPr/>
        </p:nvSpPr>
        <p:spPr>
          <a:xfrm>
            <a:off x="2286000" y="2895480"/>
            <a:ext cx="228600" cy="463680"/>
          </a:xfrm>
          <a:custGeom>
            <a:avLst/>
            <a:gdLst/>
            <a:ahLst/>
            <a:rect l="l" t="t" r="r" b="b"/>
            <a:pathLst>
              <a:path w="160" h="336">
                <a:moveTo>
                  <a:pt x="160" y="0"/>
                </a:moveTo>
                <a:cubicBezTo>
                  <a:pt x="96" y="44"/>
                  <a:pt x="32" y="88"/>
                  <a:pt x="16" y="144"/>
                </a:cubicBezTo>
                <a:cubicBezTo>
                  <a:pt x="0" y="200"/>
                  <a:pt x="32" y="268"/>
                  <a:pt x="64" y="336"/>
                </a:cubicBezTo>
              </a:path>
            </a:pathLst>
          </a:custGeom>
          <a:noFill/>
          <a:ln w="28440">
            <a:solidFill>
              <a:srgbClr val="000000"/>
            </a:solidFill>
            <a:round/>
            <a:headEnd len="med" type="triangle" w="med"/>
            <a:tailEnd len="med" type="triangle"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499" name="Satelite01" descr=""/>
          <p:cNvPicPr/>
          <p:nvPr/>
        </p:nvPicPr>
        <p:blipFill>
          <a:blip r:embed="rId10"/>
          <a:stretch/>
        </p:blipFill>
        <p:spPr>
          <a:xfrm>
            <a:off x="7391520" y="4648320"/>
            <a:ext cx="1676160" cy="1162080"/>
          </a:xfrm>
          <a:prstGeom prst="rect">
            <a:avLst/>
          </a:prstGeom>
          <a:ln w="0">
            <a:noFill/>
          </a:ln>
        </p:spPr>
      </p:pic>
      <p:sp>
        <p:nvSpPr>
          <p:cNvPr id="500" name=""/>
          <p:cNvSpPr/>
          <p:nvPr/>
        </p:nvSpPr>
        <p:spPr>
          <a:xfrm>
            <a:off x="6400800" y="3809880"/>
            <a:ext cx="1523880" cy="838440"/>
          </a:xfrm>
          <a:prstGeom prst="line">
            <a:avLst/>
          </a:prstGeom>
          <a:ln w="28440">
            <a:solidFill>
              <a:srgbClr val="339966"/>
            </a:solidFill>
            <a:miter/>
            <a:headEnd len="lg" type="oval" w="lg"/>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txBox="1"/>
          <p:nvPr/>
        </p:nvSpPr>
        <p:spPr>
          <a:xfrm>
            <a:off x="5873760" y="3411360"/>
            <a:ext cx="527040" cy="779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1"/>
                  <a:srcRect/>
                  <a:stretch/>
                </a:blipFill>
                <a:effectLst>
                  <a:outerShdw dist="17819" dir="2700000" blurRad="0" rotWithShape="0">
                    <a:srgbClr val="c0c0c0"/>
                  </a:outerShdw>
                </a:effectLst>
                <a:latin typeface="Impact"/>
              </a:rPr>
              <a:t>S</a:t>
            </a:r>
            <a:endParaRPr b="0" lang="en-US" sz="2400" spc="1" strike="noStrike">
              <a:ln w="0">
                <a:noFill/>
              </a:ln>
              <a:blipFill rotWithShape="0">
                <a:blip r:embed="rId12"/>
                <a:srcRect/>
                <a:stretch/>
              </a:blipFill>
              <a:effectLst>
                <a:outerShdw dist="17819" dir="2700000" blurRad="0" rotWithShape="0">
                  <a:srgbClr val="c0c0c0"/>
                </a:outerShdw>
              </a:effectLst>
              <a:latin typeface="Impact"/>
              <a:ea typeface="Impact"/>
            </a:endParaRPr>
          </a:p>
        </p:txBody>
      </p:sp>
      <p:sp>
        <p:nvSpPr>
          <p:cNvPr id="502" name=""/>
          <p:cNvSpPr/>
          <p:nvPr/>
        </p:nvSpPr>
        <p:spPr>
          <a:xfrm>
            <a:off x="3600" y="2590920"/>
            <a:ext cx="1453320" cy="228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Systèmes embarqué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aractéris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Elé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Conception d’un S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ycle en V</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Intégr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ycle en spira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Points de v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automatiq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logici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matéri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Intégr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15238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Fermer la boucle</a:t>
            </a:r>
            <a:endParaRPr b="0" lang="en-US" sz="2800" spc="-1" strike="noStrike">
              <a:solidFill>
                <a:srgbClr val="3333cc"/>
              </a:solidFill>
              <a:latin typeface="Arial"/>
            </a:endParaRPr>
          </a:p>
        </p:txBody>
      </p:sp>
      <p:sp>
        <p:nvSpPr>
          <p:cNvPr id="504" name=""/>
          <p:cNvSpPr txBox="1"/>
          <p:nvPr/>
        </p:nvSpPr>
        <p:spPr>
          <a:xfrm>
            <a:off x="4800600" y="2895480"/>
            <a:ext cx="527040" cy="77976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H</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505" name=""/>
          <p:cNvSpPr txBox="1"/>
          <p:nvPr/>
        </p:nvSpPr>
        <p:spPr>
          <a:xfrm>
            <a:off x="2971800" y="3429000"/>
            <a:ext cx="527040" cy="779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3"/>
                  <a:srcRect/>
                  <a:stretch/>
                </a:blipFill>
                <a:effectLst>
                  <a:outerShdw dist="17819" dir="2700000" blurRad="0" rotWithShape="0">
                    <a:srgbClr val="c0c0c0"/>
                  </a:outerShdw>
                </a:effectLst>
                <a:latin typeface="Impact"/>
              </a:rPr>
              <a:t>S</a:t>
            </a:r>
            <a:endParaRPr b="0" lang="en-US" sz="2400" spc="1" strike="noStrike">
              <a:ln w="0">
                <a:noFill/>
              </a:ln>
              <a:blipFill rotWithShape="0">
                <a:blip r:embed="rId4"/>
                <a:srcRect/>
                <a:stretch/>
              </a:blipFill>
              <a:effectLst>
                <a:outerShdw dist="17819" dir="2700000" blurRad="0" rotWithShape="0">
                  <a:srgbClr val="c0c0c0"/>
                </a:outerShdw>
              </a:effectLst>
              <a:latin typeface="Impact"/>
              <a:ea typeface="Impact"/>
            </a:endParaRPr>
          </a:p>
        </p:txBody>
      </p:sp>
      <p:sp>
        <p:nvSpPr>
          <p:cNvPr id="506" name=""/>
          <p:cNvSpPr txBox="1"/>
          <p:nvPr/>
        </p:nvSpPr>
        <p:spPr>
          <a:xfrm>
            <a:off x="3073320" y="1922400"/>
            <a:ext cx="527040" cy="7794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5"/>
                  <a:srcRect/>
                  <a:stretch/>
                </a:blipFill>
                <a:effectLst>
                  <a:outerShdw dist="17819" dir="2700000" blurRad="0" rotWithShape="0">
                    <a:srgbClr val="c0c0c0"/>
                  </a:outerShdw>
                </a:effectLst>
                <a:latin typeface="Impact"/>
              </a:rPr>
              <a:t>C</a:t>
            </a:r>
            <a:endParaRPr b="0" lang="en-US" sz="2400" spc="1" strike="noStrike">
              <a:ln w="0">
                <a:noFill/>
              </a:ln>
              <a:blipFill rotWithShape="0">
                <a:blip r:embed="rId6"/>
                <a:srcRect/>
                <a:stretch/>
              </a:blipFill>
              <a:effectLst>
                <a:outerShdw dist="17819" dir="2700000" blurRad="0" rotWithShape="0">
                  <a:srgbClr val="c0c0c0"/>
                </a:outerShdw>
              </a:effectLst>
              <a:latin typeface="Impact"/>
              <a:ea typeface="Impact"/>
            </a:endParaRPr>
          </a:p>
        </p:txBody>
      </p:sp>
      <p:sp>
        <p:nvSpPr>
          <p:cNvPr id="507" name=""/>
          <p:cNvSpPr/>
          <p:nvPr/>
        </p:nvSpPr>
        <p:spPr>
          <a:xfrm>
            <a:off x="3886200" y="2057400"/>
            <a:ext cx="1093680" cy="550800"/>
          </a:xfrm>
          <a:custGeom>
            <a:avLst/>
            <a:gdLst/>
            <a:ahLst/>
            <a:rect l="l" t="t" r="r" b="b"/>
            <a:pathLst>
              <a:path w="768" h="400">
                <a:moveTo>
                  <a:pt x="0" y="16"/>
                </a:moveTo>
                <a:cubicBezTo>
                  <a:pt x="152" y="8"/>
                  <a:pt x="304" y="0"/>
                  <a:pt x="432" y="64"/>
                </a:cubicBezTo>
                <a:cubicBezTo>
                  <a:pt x="560" y="128"/>
                  <a:pt x="664" y="264"/>
                  <a:pt x="768" y="400"/>
                </a:cubicBezTo>
              </a:path>
            </a:pathLst>
          </a:custGeom>
          <a:noFill/>
          <a:ln w="28440">
            <a:solidFill>
              <a:srgbClr val="000000"/>
            </a:solidFill>
            <a:round/>
            <a:headEnd len="med" type="triangle" w="med"/>
            <a:tailEnd len="med" type="triangle"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8" name=""/>
          <p:cNvSpPr/>
          <p:nvPr/>
        </p:nvSpPr>
        <p:spPr>
          <a:xfrm>
            <a:off x="3809880" y="3657600"/>
            <a:ext cx="684360" cy="330120"/>
          </a:xfrm>
          <a:custGeom>
            <a:avLst/>
            <a:gdLst/>
            <a:ahLst/>
            <a:rect l="l" t="t" r="r" b="b"/>
            <a:pathLst>
              <a:path w="480" h="240">
                <a:moveTo>
                  <a:pt x="480" y="0"/>
                </a:moveTo>
                <a:cubicBezTo>
                  <a:pt x="400" y="76"/>
                  <a:pt x="320" y="152"/>
                  <a:pt x="240" y="192"/>
                </a:cubicBezTo>
                <a:cubicBezTo>
                  <a:pt x="160" y="232"/>
                  <a:pt x="80" y="236"/>
                  <a:pt x="0" y="240"/>
                </a:cubicBezTo>
              </a:path>
            </a:pathLst>
          </a:custGeom>
          <a:noFill/>
          <a:ln w="28440">
            <a:solidFill>
              <a:srgbClr val="000000"/>
            </a:solidFill>
            <a:round/>
            <a:headEnd len="med" type="triangle" w="med"/>
            <a:tailEnd len="med" type="triangle"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09" name=""/>
          <p:cNvSpPr/>
          <p:nvPr/>
        </p:nvSpPr>
        <p:spPr>
          <a:xfrm>
            <a:off x="2895480" y="2819520"/>
            <a:ext cx="228600" cy="463320"/>
          </a:xfrm>
          <a:custGeom>
            <a:avLst/>
            <a:gdLst/>
            <a:ahLst/>
            <a:rect l="l" t="t" r="r" b="b"/>
            <a:pathLst>
              <a:path w="160" h="336">
                <a:moveTo>
                  <a:pt x="160" y="0"/>
                </a:moveTo>
                <a:cubicBezTo>
                  <a:pt x="96" y="44"/>
                  <a:pt x="32" y="88"/>
                  <a:pt x="16" y="144"/>
                </a:cubicBezTo>
                <a:cubicBezTo>
                  <a:pt x="0" y="200"/>
                  <a:pt x="32" y="268"/>
                  <a:pt x="64" y="336"/>
                </a:cubicBezTo>
              </a:path>
            </a:pathLst>
          </a:custGeom>
          <a:noFill/>
          <a:ln w="28440">
            <a:solidFill>
              <a:srgbClr val="000000"/>
            </a:solidFill>
            <a:round/>
            <a:headEnd len="med" type="triangle" w="med"/>
            <a:tailEnd len="med" type="triangle"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10" name=""/>
          <p:cNvSpPr/>
          <p:nvPr/>
        </p:nvSpPr>
        <p:spPr>
          <a:xfrm>
            <a:off x="5176440" y="1446480"/>
            <a:ext cx="336132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aluer les performance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ème</a:t>
            </a:r>
            <a:endParaRPr b="0" lang="en-US" sz="2400" spc="-1" strike="noStrike">
              <a:solidFill>
                <a:srgbClr val="000000"/>
              </a:solidFill>
              <a:latin typeface="Times New Roman"/>
            </a:endParaRPr>
          </a:p>
        </p:txBody>
      </p:sp>
      <p:sp>
        <p:nvSpPr>
          <p:cNvPr id="511" name=""/>
          <p:cNvSpPr/>
          <p:nvPr/>
        </p:nvSpPr>
        <p:spPr>
          <a:xfrm flipH="1">
            <a:off x="3962520" y="1676520"/>
            <a:ext cx="1218960" cy="228600"/>
          </a:xfrm>
          <a:prstGeom prst="line">
            <a:avLst/>
          </a:prstGeom>
          <a:ln w="28440">
            <a:solidFill>
              <a:srgbClr val="008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flipH="1">
            <a:off x="3657240" y="1676520"/>
            <a:ext cx="1523880" cy="1676160"/>
          </a:xfrm>
          <a:prstGeom prst="line">
            <a:avLst/>
          </a:prstGeom>
          <a:ln w="28440">
            <a:solidFill>
              <a:srgbClr val="008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5028840" y="1676520"/>
            <a:ext cx="152280" cy="990360"/>
          </a:xfrm>
          <a:prstGeom prst="line">
            <a:avLst/>
          </a:prstGeom>
          <a:ln w="28440">
            <a:solidFill>
              <a:srgbClr val="008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3600" y="2590920"/>
            <a:ext cx="1453320" cy="228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Systèmes embarqué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aractéris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Elé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Conception d’un S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ycle en V</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Intégr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ycle en spira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Points de v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automatiq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logici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matéri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Intégr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15238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onclusion</a:t>
            </a:r>
            <a:r>
              <a:rPr b="0" lang="en-US" sz="2800" spc="-1" strike="noStrike">
                <a:solidFill>
                  <a:srgbClr val="3333cc"/>
                </a:solidFill>
                <a:latin typeface="Arial"/>
              </a:rPr>
              <a:t>	</a:t>
            </a:r>
            <a:endParaRPr b="0" lang="en-US" sz="2800" spc="-1" strike="noStrike">
              <a:solidFill>
                <a:srgbClr val="3333cc"/>
              </a:solidFill>
              <a:latin typeface="Arial"/>
            </a:endParaRPr>
          </a:p>
        </p:txBody>
      </p:sp>
      <p:sp>
        <p:nvSpPr>
          <p:cNvPr id="516" name="PlaceHolder 2"/>
          <p:cNvSpPr>
            <a:spLocks noGrp="1"/>
          </p:cNvSpPr>
          <p:nvPr>
            <p:ph/>
          </p:nvPr>
        </p:nvSpPr>
        <p:spPr>
          <a:xfrm>
            <a:off x="1523880" y="990360"/>
            <a:ext cx="7467840" cy="5638680"/>
          </a:xfrm>
          <a:prstGeom prst="rect">
            <a:avLst/>
          </a:prstGeom>
          <a:noFill/>
          <a:ln w="0">
            <a:noFill/>
          </a:ln>
        </p:spPr>
        <p:txBody>
          <a:bodyPr lIns="90000" rIns="90000" tIns="46800" bIns="46800" anchor="t">
            <a:normAutofit/>
          </a:bodyPr>
          <a:p>
            <a:pPr marL="287280" indent="-287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ocier les vues</a:t>
            </a:r>
            <a:endParaRPr b="0" lang="en-US" sz="28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 domaines</a:t>
            </a:r>
            <a:endParaRPr b="0" lang="en-US" sz="24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 niveau</a:t>
            </a:r>
            <a:endParaRPr b="0" lang="en-US" sz="2400" spc="-1" strike="noStrike">
              <a:solidFill>
                <a:srgbClr val="000000"/>
              </a:solidFill>
              <a:latin typeface="Times New Roman"/>
            </a:endParaRPr>
          </a:p>
          <a:p>
            <a:pPr marL="287280" indent="-287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opérabilité des modèles</a:t>
            </a:r>
            <a:endParaRPr b="0" lang="en-US" sz="28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ularité / composition</a:t>
            </a:r>
            <a:endParaRPr b="0" lang="en-US" sz="2400" spc="-1" strike="noStrike">
              <a:solidFill>
                <a:srgbClr val="000000"/>
              </a:solidFill>
              <a:latin typeface="Times New Roman"/>
            </a:endParaRPr>
          </a:p>
          <a:p>
            <a:pPr lvl="1" marL="574560" indent="-96840">
              <a:spcBef>
                <a:spcPts val="601"/>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a:t>
            </a:r>
            <a:endParaRPr b="0" lang="en-US" sz="2400" spc="-1" strike="noStrike">
              <a:solidFill>
                <a:srgbClr val="000000"/>
              </a:solidFill>
              <a:latin typeface="Times New Roman"/>
            </a:endParaRPr>
          </a:p>
          <a:p>
            <a:pPr lvl="1" marL="574560" indent="-96840">
              <a:spcBef>
                <a:spcPts val="601"/>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sualisation</a:t>
            </a:r>
            <a:endParaRPr b="0" lang="en-US" sz="2400" spc="-1" strike="noStrike">
              <a:solidFill>
                <a:srgbClr val="000000"/>
              </a:solidFill>
              <a:latin typeface="Times New Roman"/>
            </a:endParaRPr>
          </a:p>
          <a:p>
            <a:pPr lvl="1" marL="574560" indent="-96840">
              <a:spcBef>
                <a:spcPts val="601"/>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érification</a:t>
            </a:r>
            <a:endParaRPr b="0" lang="en-US" sz="2400" spc="-1" strike="noStrike">
              <a:solidFill>
                <a:srgbClr val="000000"/>
              </a:solidFill>
              <a:latin typeface="Times New Roman"/>
            </a:endParaRPr>
          </a:p>
          <a:p>
            <a:pPr lvl="1" marL="574560" indent="-96840">
              <a:spcBef>
                <a:spcPts val="601"/>
              </a:spcBef>
              <a:buClr>
                <a:srgbClr val="00000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nthè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15238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Questions ouvertes</a:t>
            </a:r>
            <a:endParaRPr b="0" lang="en-US" sz="2800" spc="-1" strike="noStrike">
              <a:solidFill>
                <a:srgbClr val="3333cc"/>
              </a:solidFill>
              <a:latin typeface="Arial"/>
            </a:endParaRPr>
          </a:p>
        </p:txBody>
      </p:sp>
      <p:sp>
        <p:nvSpPr>
          <p:cNvPr id="518" name="PlaceHolder 2"/>
          <p:cNvSpPr>
            <a:spLocks noGrp="1"/>
          </p:cNvSpPr>
          <p:nvPr>
            <p:ph/>
          </p:nvPr>
        </p:nvSpPr>
        <p:spPr>
          <a:xfrm>
            <a:off x="1523880" y="990360"/>
            <a:ext cx="7467840" cy="5638680"/>
          </a:xfrm>
          <a:prstGeom prst="rect">
            <a:avLst/>
          </a:prstGeom>
          <a:noFill/>
          <a:ln w="0">
            <a:noFill/>
          </a:ln>
        </p:spPr>
        <p:txBody>
          <a:bodyPr lIns="90000" rIns="90000" tIns="46800" bIns="46800" anchor="t">
            <a:normAutofit/>
          </a:bodyPr>
          <a:p>
            <a:pPr marL="287280" indent="-287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ment permettre l ’interopérabilité ?</a:t>
            </a:r>
            <a:endParaRPr b="0" lang="en-US" sz="2800" spc="-1" strike="noStrike">
              <a:solidFill>
                <a:srgbClr val="000000"/>
              </a:solidFill>
              <a:latin typeface="Times New Roman"/>
            </a:endParaRPr>
          </a:p>
          <a:p>
            <a:pPr marL="287280" indent="-287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elles informations échanger / traduire ?</a:t>
            </a:r>
            <a:endParaRPr b="0" lang="en-US" sz="28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ression des contraintes, que rendre explicite ?</a:t>
            </a:r>
            <a:endParaRPr b="0" lang="en-US" sz="24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ression du temps</a:t>
            </a:r>
            <a:endParaRPr b="0" lang="en-US" sz="2400" spc="-1" strike="noStrike">
              <a:solidFill>
                <a:srgbClr val="000000"/>
              </a:solidFill>
              <a:latin typeface="Times New Roman"/>
            </a:endParaRPr>
          </a:p>
          <a:p>
            <a:pPr lvl="1" marL="574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7280" indent="-287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523880" y="76320"/>
            <a:ext cx="7467840" cy="7617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Eléments de bibliographie</a:t>
            </a:r>
            <a:endParaRPr b="0" lang="en-US" sz="2800" spc="-1" strike="noStrike">
              <a:solidFill>
                <a:srgbClr val="3333cc"/>
              </a:solidFill>
              <a:latin typeface="Arial"/>
            </a:endParaRPr>
          </a:p>
        </p:txBody>
      </p:sp>
      <p:sp>
        <p:nvSpPr>
          <p:cNvPr id="520" name="PlaceHolder 2"/>
          <p:cNvSpPr>
            <a:spLocks noGrp="1"/>
          </p:cNvSpPr>
          <p:nvPr>
            <p:ph/>
          </p:nvPr>
        </p:nvSpPr>
        <p:spPr>
          <a:xfrm>
            <a:off x="1066320" y="838080"/>
            <a:ext cx="7874280" cy="5754960"/>
          </a:xfrm>
          <a:prstGeom prst="rect">
            <a:avLst/>
          </a:prstGeom>
          <a:noFill/>
          <a:ln w="0">
            <a:noFill/>
          </a:ln>
        </p:spPr>
        <p:txBody>
          <a:bodyPr lIns="90360" rIns="90360" tIns="44280" bIns="44280" anchor="t">
            <a:normAutofit/>
          </a:bodyPr>
          <a:p>
            <a:pPr lvl="2" marL="9525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2" marL="952560" indent="-18756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Times New Roman"/>
              </a:rPr>
              <a:t>"An Introduction to Control and Scheduling Co-Design"</a:t>
            </a:r>
            <a:r>
              <a:rPr b="0" lang="fr-FR" sz="2000" spc="-1" strike="noStrike">
                <a:solidFill>
                  <a:srgbClr val="000000"/>
                </a:solidFill>
                <a:latin typeface="Times New Roman"/>
              </a:rPr>
              <a:t> </a:t>
            </a:r>
            <a:r>
              <a:rPr b="0" lang="fr-FR" sz="1800" spc="-1" strike="noStrike">
                <a:solidFill>
                  <a:srgbClr val="000000"/>
                </a:solidFill>
                <a:latin typeface="Times New Roman"/>
              </a:rPr>
              <a:t>K.E Arzen, A. Cervin, J. Eker, L. Sha, Proceedings of the 39th IEEE Conference on Decision and Control, Sydney, Australia, December 2000</a:t>
            </a:r>
            <a:endParaRPr b="0" lang="en-US" sz="1800" spc="-1" strike="noStrike">
              <a:solidFill>
                <a:srgbClr val="000000"/>
              </a:solidFill>
              <a:latin typeface="Times New Roman"/>
            </a:endParaRPr>
          </a:p>
          <a:p>
            <a:pPr lvl="2" marL="952560" indent="-18756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0" i="1" lang="fr-FR" sz="1800" spc="-1" strike="noStrike">
                <a:solidFill>
                  <a:srgbClr val="000000"/>
                </a:solidFill>
                <a:latin typeface="Times New Roman"/>
              </a:rPr>
              <a:t>Towards the Integration of Control and Real-Time Scheduling Design </a:t>
            </a:r>
            <a:r>
              <a:rPr b="0" lang="fr-FR" sz="1800" spc="-1" strike="noStrike">
                <a:solidFill>
                  <a:srgbClr val="000000"/>
                </a:solidFill>
                <a:latin typeface="Times New Roman"/>
              </a:rPr>
              <a:t>”, A. Cervin. Thesis, Lund University 2000, www.control.lth.se/~anton</a:t>
            </a:r>
            <a:endParaRPr b="0" lang="en-US" sz="1800" spc="-1" strike="noStrike">
              <a:solidFill>
                <a:srgbClr val="000000"/>
              </a:solidFill>
              <a:latin typeface="Times New Roman"/>
            </a:endParaRPr>
          </a:p>
          <a:p>
            <a:pPr lvl="2" marL="952560" indent="-187560" algn="ctr">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0" i="1" lang="fr-FR" sz="1800" spc="-1" strike="noStrike">
                <a:solidFill>
                  <a:srgbClr val="000000"/>
                </a:solidFill>
                <a:latin typeface="Times New Roman"/>
              </a:rPr>
              <a:t>Doing Hard Time. Developping Real-Time Systems with UML. Objects, Frameworks and Patterns </a:t>
            </a:r>
            <a:r>
              <a:rPr b="0" lang="fr-FR" sz="1800" spc="-1" strike="noStrike">
                <a:solidFill>
                  <a:srgbClr val="000000"/>
                </a:solidFill>
                <a:latin typeface="Times New Roman"/>
              </a:rPr>
              <a:t>”, B. P. Douglass. Addison Weisley, 1999 </a:t>
            </a:r>
            <a:endParaRPr b="0" lang="en-US" sz="1800" spc="-1" strike="noStrike">
              <a:solidFill>
                <a:srgbClr val="000000"/>
              </a:solidFill>
              <a:latin typeface="Times New Roman"/>
            </a:endParaRPr>
          </a:p>
          <a:p>
            <a:pPr lvl="2" marL="952560" indent="-18756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Times New Roman"/>
              </a:rPr>
              <a:t>" Modèle d'exécutif distribué temps réel pour SynDEx ",</a:t>
            </a:r>
            <a:r>
              <a:rPr b="0" lang="fr-FR" sz="2000" spc="-1" strike="noStrike">
                <a:solidFill>
                  <a:srgbClr val="000000"/>
                </a:solidFill>
                <a:latin typeface="Times New Roman"/>
              </a:rPr>
              <a:t> </a:t>
            </a:r>
            <a:r>
              <a:rPr b="0" lang="fr-FR" sz="1800" spc="-1" strike="noStrike">
                <a:solidFill>
                  <a:srgbClr val="000000"/>
                </a:solidFill>
                <a:latin typeface="Times New Roman"/>
              </a:rPr>
              <a:t>T. Grandpierre, C. Lavarenne, Y. Sorel - Rapport de Recherche no 3476, INRIA, août 1998</a:t>
            </a:r>
            <a:endParaRPr b="0" lang="en-US" sz="1800" spc="-1" strike="noStrike">
              <a:solidFill>
                <a:srgbClr val="000000"/>
              </a:solidFill>
              <a:latin typeface="Times New Roman"/>
            </a:endParaRPr>
          </a:p>
          <a:p>
            <a:pPr lvl="2" marL="952560" indent="-18756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0" i="1" lang="fr-FR" sz="1800" spc="-1" strike="noStrike">
                <a:solidFill>
                  <a:srgbClr val="000000"/>
                </a:solidFill>
                <a:latin typeface="Times New Roman"/>
              </a:rPr>
              <a:t>Real-Time Systems. Design Principles for Distributed Embedded Applications </a:t>
            </a:r>
            <a:r>
              <a:rPr b="0" lang="fr-FR" sz="1800" spc="-1" strike="noStrike">
                <a:solidFill>
                  <a:srgbClr val="000000"/>
                </a:solidFill>
                <a:latin typeface="Times New Roman"/>
              </a:rPr>
              <a:t>”, H. Kopetz. Kluwer Academic Publishers, 1997</a:t>
            </a:r>
            <a:endParaRPr b="0" lang="en-US" sz="1800" spc="-1" strike="noStrike">
              <a:solidFill>
                <a:srgbClr val="000000"/>
              </a:solidFill>
              <a:latin typeface="Times New Roman"/>
            </a:endParaRPr>
          </a:p>
          <a:p>
            <a:pPr lvl="2" marL="952560" indent="-18756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Times New Roman"/>
              </a:rPr>
              <a:t>"Sur l’optimisation des systèmes distribués temps réel embarqués : application au prototypage rapide d’un véhicule électrique autonome "</a:t>
            </a:r>
            <a:r>
              <a:rPr b="0" lang="fr-FR" sz="2000" spc="-1" strike="noStrike">
                <a:solidFill>
                  <a:srgbClr val="000000"/>
                </a:solidFill>
                <a:latin typeface="Times New Roman"/>
              </a:rPr>
              <a:t> </a:t>
            </a:r>
            <a:r>
              <a:rPr b="0" lang="fr-FR" sz="1800" spc="-1" strike="noStrike">
                <a:solidFill>
                  <a:srgbClr val="000000"/>
                </a:solidFill>
                <a:latin typeface="Times New Roman"/>
              </a:rPr>
              <a:t>R. Kocik, Thèse de doctorat - Université de Rouen, Mars 2000</a:t>
            </a:r>
            <a:endParaRPr b="0" lang="en-US" sz="1800" spc="-1" strike="noStrike">
              <a:solidFill>
                <a:srgbClr val="000000"/>
              </a:solidFill>
              <a:latin typeface="Times New Roman"/>
            </a:endParaRPr>
          </a:p>
          <a:p>
            <a:pPr lvl="2" marL="952560" indent="-18756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Times New Roman"/>
              </a:rPr>
              <a:t>"What's Ahead for Embedded Software?"</a:t>
            </a:r>
            <a:r>
              <a:rPr b="0" lang="fr-FR" sz="2000" spc="-1" strike="noStrike">
                <a:solidFill>
                  <a:srgbClr val="000000"/>
                </a:solidFill>
                <a:latin typeface="Times New Roman"/>
              </a:rPr>
              <a:t> </a:t>
            </a:r>
            <a:r>
              <a:rPr b="0" lang="fr-FR" sz="1800" spc="-1" strike="noStrike">
                <a:solidFill>
                  <a:srgbClr val="000000"/>
                </a:solidFill>
                <a:latin typeface="Times New Roman"/>
              </a:rPr>
              <a:t>E. A. Lee, IEEE Computer, September 2000, pp. 18-26</a:t>
            </a:r>
            <a:endParaRPr b="0" lang="en-US" sz="1800" spc="-1" strike="noStrike">
              <a:solidFill>
                <a:srgbClr val="000000"/>
              </a:solidFill>
              <a:latin typeface="Times New Roman"/>
            </a:endParaRPr>
          </a:p>
          <a:p>
            <a:pPr lvl="2" marL="952560" indent="-187560">
              <a:lnSpc>
                <a:spcPct val="80000"/>
              </a:lnSpc>
              <a:spcBef>
                <a:spcPts val="4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Times New Roman"/>
              </a:rPr>
              <a:t>" Overview of the Ptolemy Project "</a:t>
            </a:r>
            <a:r>
              <a:rPr b="0" lang="fr-FR" sz="2000" spc="-1" strike="noStrike">
                <a:solidFill>
                  <a:srgbClr val="000000"/>
                </a:solidFill>
                <a:latin typeface="Times New Roman"/>
              </a:rPr>
              <a:t> </a:t>
            </a:r>
            <a:r>
              <a:rPr b="0" lang="fr-FR" sz="1800" spc="-1" strike="noStrike">
                <a:solidFill>
                  <a:srgbClr val="000000"/>
                </a:solidFill>
                <a:latin typeface="Times New Roman"/>
              </a:rPr>
              <a:t>E. A. Lee , Technical Memorandum UCB/ERL M01/11 March 6, 2001</a:t>
            </a:r>
            <a:endParaRPr b="0" lang="en-US" sz="1800" spc="-1" strike="noStrike">
              <a:solidFill>
                <a:srgbClr val="000000"/>
              </a:solidFill>
              <a:latin typeface="Times New Roman"/>
            </a:endParaRPr>
          </a:p>
          <a:p>
            <a:pPr lvl="2" marL="95256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21" name="" descr=""/>
          <p:cNvPicPr/>
          <p:nvPr/>
        </p:nvPicPr>
        <p:blipFill>
          <a:blip r:embed="rId1"/>
          <a:stretch/>
        </p:blipFill>
        <p:spPr>
          <a:xfrm>
            <a:off x="228600" y="3505320"/>
            <a:ext cx="852480" cy="8715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aractéristiques</a:t>
            </a:r>
            <a:endParaRPr b="0" lang="en-US" sz="2800" spc="-1" strike="noStrike">
              <a:solidFill>
                <a:srgbClr val="3333cc"/>
              </a:solidFill>
              <a:latin typeface="Arial"/>
            </a:endParaRPr>
          </a:p>
        </p:txBody>
      </p:sp>
      <p:sp>
        <p:nvSpPr>
          <p:cNvPr id="93" name="PlaceHolder 2"/>
          <p:cNvSpPr>
            <a:spLocks noGrp="1"/>
          </p:cNvSpPr>
          <p:nvPr>
            <p:ph/>
          </p:nvPr>
        </p:nvSpPr>
        <p:spPr>
          <a:xfrm>
            <a:off x="2209320" y="990360"/>
            <a:ext cx="6782040" cy="5638680"/>
          </a:xfrm>
          <a:prstGeom prst="rect">
            <a:avLst/>
          </a:prstGeom>
          <a:noFill/>
          <a:ln w="0">
            <a:noFill/>
          </a:ln>
        </p:spPr>
        <p:txBody>
          <a:bodyPr lIns="90000" rIns="90000" tIns="46800" bIns="46800" anchor="t">
            <a:normAutofit/>
          </a:bodyPr>
          <a:p>
            <a:pPr marL="287280" indent="-287280">
              <a:lnSpc>
                <a:spcPct val="16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éactif</a:t>
            </a:r>
            <a:endParaRPr b="0" lang="en-US" sz="2800" spc="-1" strike="noStrike">
              <a:solidFill>
                <a:srgbClr val="000000"/>
              </a:solidFill>
              <a:latin typeface="Times New Roman"/>
            </a:endParaRPr>
          </a:p>
          <a:p>
            <a:pPr marL="287280" indent="-287280">
              <a:lnSpc>
                <a:spcPct val="16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mps réel</a:t>
            </a:r>
            <a:endParaRPr b="0" lang="en-US" sz="2800" spc="-1" strike="noStrike">
              <a:solidFill>
                <a:srgbClr val="000000"/>
              </a:solidFill>
              <a:latin typeface="Times New Roman"/>
            </a:endParaRPr>
          </a:p>
          <a:p>
            <a:pPr marL="287280" indent="-287280">
              <a:lnSpc>
                <a:spcPct val="16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vace</a:t>
            </a:r>
            <a:endParaRPr b="0" lang="en-US" sz="2800" spc="-1" strike="noStrike">
              <a:solidFill>
                <a:srgbClr val="000000"/>
              </a:solidFill>
              <a:latin typeface="Times New Roman"/>
            </a:endParaRPr>
          </a:p>
          <a:p>
            <a:pPr marL="287280" indent="-287280">
              <a:lnSpc>
                <a:spcPct val="16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urrent</a:t>
            </a:r>
            <a:endParaRPr b="0" lang="en-US" sz="2800" spc="-1" strike="noStrike">
              <a:solidFill>
                <a:srgbClr val="000000"/>
              </a:solidFill>
              <a:latin typeface="Times New Roman"/>
            </a:endParaRPr>
          </a:p>
          <a:p>
            <a:pPr marL="287280" indent="-287280">
              <a:lnSpc>
                <a:spcPct val="16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étérogène</a:t>
            </a:r>
            <a:endParaRPr b="0" lang="en-US" sz="2800" spc="-1" strike="noStrike">
              <a:solidFill>
                <a:srgbClr val="000000"/>
              </a:solidFill>
              <a:latin typeface="Times New Roman"/>
            </a:endParaRPr>
          </a:p>
        </p:txBody>
      </p:sp>
      <p:sp>
        <p:nvSpPr>
          <p:cNvPr id="94" name=""/>
          <p:cNvSpPr/>
          <p:nvPr/>
        </p:nvSpPr>
        <p:spPr>
          <a:xfrm>
            <a:off x="3600" y="2590920"/>
            <a:ext cx="1453320" cy="228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Systèmes embarqué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cc0000"/>
                </a:solidFill>
                <a:latin typeface="Times New Roman"/>
              </a:rPr>
              <a:t>Caractéris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Elé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Conception d’un S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ycle en V</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Intégr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ycle en spira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Points de v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automatiq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logici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matéri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Intégr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76320"/>
            <a:ext cx="7467840" cy="7617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Système Réactif</a:t>
            </a:r>
            <a:endParaRPr b="0" lang="en-US" sz="2800" spc="-1" strike="noStrike">
              <a:solidFill>
                <a:srgbClr val="3333cc"/>
              </a:solidFill>
              <a:latin typeface="Arial"/>
            </a:endParaRPr>
          </a:p>
        </p:txBody>
      </p:sp>
      <p:sp>
        <p:nvSpPr>
          <p:cNvPr id="96" name="PlaceHolder 2"/>
          <p:cNvSpPr>
            <a:spLocks noGrp="1"/>
          </p:cNvSpPr>
          <p:nvPr>
            <p:ph/>
          </p:nvPr>
        </p:nvSpPr>
        <p:spPr>
          <a:xfrm>
            <a:off x="1523880" y="990360"/>
            <a:ext cx="7467840" cy="5638680"/>
          </a:xfrm>
          <a:prstGeom prst="rect">
            <a:avLst/>
          </a:prstGeom>
          <a:noFill/>
          <a:ln w="0">
            <a:noFill/>
          </a:ln>
        </p:spPr>
        <p:txBody>
          <a:bodyPr lIns="90360" rIns="90360" tIns="44280" bIns="44280" anchor="t">
            <a:normAutofit fontScale="97000"/>
          </a:bodyPr>
          <a:p>
            <a:pPr marL="278640" indent="0">
              <a:lnSpc>
                <a:spcPct val="90000"/>
              </a:lnSpc>
              <a:spcBef>
                <a:spcPts val="700"/>
              </a:spcBef>
              <a:buNone/>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8640" indent="0">
              <a:lnSpc>
                <a:spcPct val="90000"/>
              </a:lnSpc>
              <a:spcBef>
                <a:spcPts val="700"/>
              </a:spcBef>
              <a:buNone/>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8640" indent="0">
              <a:lnSpc>
                <a:spcPct val="90000"/>
              </a:lnSpc>
              <a:spcBef>
                <a:spcPts val="700"/>
              </a:spcBef>
              <a:buNone/>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8640" indent="0">
              <a:lnSpc>
                <a:spcPct val="90000"/>
              </a:lnSpc>
              <a:spcBef>
                <a:spcPts val="700"/>
              </a:spcBef>
              <a:buNone/>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8640" indent="0">
              <a:lnSpc>
                <a:spcPct val="90000"/>
              </a:lnSpc>
              <a:spcBef>
                <a:spcPts val="700"/>
              </a:spcBef>
              <a:buNone/>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8640" indent="0">
              <a:lnSpc>
                <a:spcPct val="90000"/>
              </a:lnSpc>
              <a:spcBef>
                <a:spcPts val="700"/>
              </a:spcBef>
              <a:buNone/>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8640" indent="0">
              <a:lnSpc>
                <a:spcPct val="90000"/>
              </a:lnSpc>
              <a:spcBef>
                <a:spcPts val="700"/>
              </a:spcBef>
              <a:buNone/>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8640" indent="0">
              <a:lnSpc>
                <a:spcPct val="90000"/>
              </a:lnSpc>
              <a:spcBef>
                <a:spcPts val="700"/>
              </a:spcBef>
              <a:buNone/>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8640" indent="0">
              <a:lnSpc>
                <a:spcPct val="90000"/>
              </a:lnSpc>
              <a:spcBef>
                <a:spcPts val="700"/>
              </a:spcBef>
              <a:buNone/>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8640" indent="0">
              <a:lnSpc>
                <a:spcPct val="90000"/>
              </a:lnSpc>
              <a:spcBef>
                <a:spcPts val="700"/>
              </a:spcBef>
              <a:buNone/>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8640" indent="0">
              <a:lnSpc>
                <a:spcPct val="90000"/>
              </a:lnSpc>
              <a:spcBef>
                <a:spcPts val="700"/>
              </a:spcBef>
              <a:buNone/>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78640" indent="-278640">
              <a:lnSpc>
                <a:spcPct val="90000"/>
              </a:lnSpc>
              <a:spcBef>
                <a:spcPts val="700"/>
              </a:spcBef>
              <a:buClr>
                <a:srgbClr val="000000"/>
              </a:buClr>
              <a:buFont typeface="Times New Roman"/>
              <a:buChar char="•"/>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emple : distributeur de billets</a:t>
            </a:r>
            <a:endParaRPr b="0" lang="en-US" sz="2800" spc="-1" strike="noStrike">
              <a:solidFill>
                <a:srgbClr val="000000"/>
              </a:solidFill>
              <a:latin typeface="Times New Roman"/>
            </a:endParaRPr>
          </a:p>
        </p:txBody>
      </p:sp>
      <p:sp>
        <p:nvSpPr>
          <p:cNvPr id="97" name=""/>
          <p:cNvSpPr/>
          <p:nvPr/>
        </p:nvSpPr>
        <p:spPr>
          <a:xfrm>
            <a:off x="3276720" y="2819520"/>
            <a:ext cx="3429000" cy="18288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ème Réactif</a:t>
            </a:r>
            <a:endParaRPr b="0" lang="en-US" sz="3200" spc="-1" strike="noStrike">
              <a:solidFill>
                <a:srgbClr val="000000"/>
              </a:solidFill>
              <a:latin typeface="Times New Roman"/>
            </a:endParaRPr>
          </a:p>
        </p:txBody>
      </p:sp>
      <p:sp>
        <p:nvSpPr>
          <p:cNvPr id="98" name=""/>
          <p:cNvSpPr/>
          <p:nvPr/>
        </p:nvSpPr>
        <p:spPr>
          <a:xfrm>
            <a:off x="1854360" y="2438280"/>
            <a:ext cx="1174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événement</a:t>
            </a:r>
            <a:endParaRPr b="0" lang="en-US" sz="1800" spc="-1" strike="noStrike">
              <a:solidFill>
                <a:srgbClr val="000000"/>
              </a:solidFill>
              <a:latin typeface="Times New Roman"/>
            </a:endParaRPr>
          </a:p>
        </p:txBody>
      </p:sp>
      <p:sp>
        <p:nvSpPr>
          <p:cNvPr id="99" name=""/>
          <p:cNvSpPr/>
          <p:nvPr/>
        </p:nvSpPr>
        <p:spPr>
          <a:xfrm>
            <a:off x="5977440" y="2247840"/>
            <a:ext cx="2066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éaction/commande</a:t>
            </a:r>
            <a:endParaRPr b="0" lang="en-US" sz="1800" spc="-1" strike="noStrike">
              <a:solidFill>
                <a:srgbClr val="000000"/>
              </a:solidFill>
              <a:latin typeface="Times New Roman"/>
            </a:endParaRPr>
          </a:p>
        </p:txBody>
      </p:sp>
      <p:sp>
        <p:nvSpPr>
          <p:cNvPr id="100" name=""/>
          <p:cNvSpPr/>
          <p:nvPr/>
        </p:nvSpPr>
        <p:spPr>
          <a:xfrm>
            <a:off x="3986280" y="163836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ure</a:t>
            </a:r>
            <a:endParaRPr b="0" lang="en-US" sz="1800" spc="-1" strike="noStrike">
              <a:solidFill>
                <a:srgbClr val="000000"/>
              </a:solidFill>
              <a:latin typeface="Times New Roman"/>
            </a:endParaRPr>
          </a:p>
        </p:txBody>
      </p:sp>
      <p:sp>
        <p:nvSpPr>
          <p:cNvPr id="101" name=""/>
          <p:cNvSpPr/>
          <p:nvPr/>
        </p:nvSpPr>
        <p:spPr>
          <a:xfrm>
            <a:off x="2286000" y="2819520"/>
            <a:ext cx="1219320" cy="533160"/>
          </a:xfrm>
          <a:custGeom>
            <a:avLst/>
            <a:gdLst/>
            <a:ahLst/>
            <a:rect l="l" t="t" r="r" b="b"/>
            <a:pathLst>
              <a:path w="768" h="336">
                <a:moveTo>
                  <a:pt x="0" y="0"/>
                </a:moveTo>
                <a:lnTo>
                  <a:pt x="336" y="192"/>
                </a:lnTo>
                <a:lnTo>
                  <a:pt x="336" y="96"/>
                </a:lnTo>
                <a:lnTo>
                  <a:pt x="768" y="336"/>
                </a:lnTo>
              </a:path>
            </a:pathLst>
          </a:custGeom>
          <a:noFill/>
          <a:ln w="9360">
            <a:solidFill>
              <a:srgbClr val="000000"/>
            </a:solidFill>
            <a:round/>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6172200" y="2590920"/>
            <a:ext cx="990720" cy="457200"/>
          </a:xfrm>
          <a:custGeom>
            <a:avLst/>
            <a:gdLst/>
            <a:ahLst/>
            <a:rect l="l" t="t" r="r" b="b"/>
            <a:pathLst>
              <a:path w="624" h="288">
                <a:moveTo>
                  <a:pt x="0" y="288"/>
                </a:moveTo>
                <a:lnTo>
                  <a:pt x="288" y="144"/>
                </a:lnTo>
                <a:lnTo>
                  <a:pt x="336" y="192"/>
                </a:lnTo>
                <a:lnTo>
                  <a:pt x="624" y="0"/>
                </a:lnTo>
              </a:path>
            </a:pathLst>
          </a:custGeom>
          <a:noFill/>
          <a:ln w="9360">
            <a:solidFill>
              <a:srgbClr val="000000"/>
            </a:solidFill>
            <a:round/>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025880" y="1828800"/>
            <a:ext cx="812880" cy="1447920"/>
          </a:xfrm>
          <a:custGeom>
            <a:avLst/>
            <a:gdLst/>
            <a:ahLst/>
            <a:rect l="l" t="t" r="r" b="b"/>
            <a:pathLst>
              <a:path w="512" h="720">
                <a:moveTo>
                  <a:pt x="104" y="720"/>
                </a:moveTo>
                <a:cubicBezTo>
                  <a:pt x="52" y="408"/>
                  <a:pt x="0" y="96"/>
                  <a:pt x="56" y="48"/>
                </a:cubicBezTo>
                <a:cubicBezTo>
                  <a:pt x="112" y="0"/>
                  <a:pt x="368" y="336"/>
                  <a:pt x="440" y="432"/>
                </a:cubicBezTo>
                <a:cubicBezTo>
                  <a:pt x="512" y="528"/>
                  <a:pt x="500" y="576"/>
                  <a:pt x="488" y="624"/>
                </a:cubicBezTo>
              </a:path>
            </a:pathLst>
          </a:custGeom>
          <a:noFill/>
          <a:ln w="9360">
            <a:solidFill>
              <a:srgbClr val="000000"/>
            </a:solidFill>
            <a:round/>
            <a:tailEnd len="lg"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505320" y="3048120"/>
            <a:ext cx="2666880" cy="380880"/>
          </a:xfrm>
          <a:custGeom>
            <a:avLst/>
            <a:gdLst/>
            <a:ahLst/>
            <a:rect l="l" t="t" r="r" b="b"/>
            <a:pathLst>
              <a:path w="1680" h="240">
                <a:moveTo>
                  <a:pt x="0" y="192"/>
                </a:moveTo>
                <a:lnTo>
                  <a:pt x="576" y="144"/>
                </a:lnTo>
                <a:lnTo>
                  <a:pt x="912" y="0"/>
                </a:lnTo>
                <a:lnTo>
                  <a:pt x="1296" y="240"/>
                </a:lnTo>
                <a:lnTo>
                  <a:pt x="1680" y="0"/>
                </a:lnTo>
              </a:path>
            </a:pathLst>
          </a:custGeom>
          <a:noFill/>
          <a:ln w="9360">
            <a:solidFill>
              <a:srgbClr val="000000"/>
            </a:solidFill>
            <a:prstDash val="dash"/>
            <a:round/>
            <a:headEnd len="med" type="oval"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76520" y="4572000"/>
            <a:ext cx="1174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événement</a:t>
            </a:r>
            <a:endParaRPr b="0" lang="en-US" sz="1800" spc="-1" strike="noStrike">
              <a:solidFill>
                <a:srgbClr val="000000"/>
              </a:solidFill>
              <a:latin typeface="Times New Roman"/>
            </a:endParaRPr>
          </a:p>
        </p:txBody>
      </p:sp>
      <p:sp>
        <p:nvSpPr>
          <p:cNvPr id="106" name=""/>
          <p:cNvSpPr/>
          <p:nvPr/>
        </p:nvSpPr>
        <p:spPr>
          <a:xfrm flipV="1">
            <a:off x="2209680" y="4114800"/>
            <a:ext cx="1219320" cy="533520"/>
          </a:xfrm>
          <a:custGeom>
            <a:avLst/>
            <a:gdLst/>
            <a:ahLst/>
            <a:rect l="l" t="t" r="r" b="b"/>
            <a:pathLst>
              <a:path w="768" h="336">
                <a:moveTo>
                  <a:pt x="0" y="0"/>
                </a:moveTo>
                <a:lnTo>
                  <a:pt x="336" y="192"/>
                </a:lnTo>
                <a:lnTo>
                  <a:pt x="336" y="96"/>
                </a:lnTo>
                <a:lnTo>
                  <a:pt x="768" y="336"/>
                </a:lnTo>
              </a:path>
            </a:pathLst>
          </a:custGeom>
          <a:noFill/>
          <a:ln w="9360">
            <a:solidFill>
              <a:srgbClr val="000000"/>
            </a:solidFill>
            <a:round/>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628320" y="4800600"/>
            <a:ext cx="2066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éaction/commande</a:t>
            </a:r>
            <a:endParaRPr b="0" lang="en-US" sz="1800" spc="-1" strike="noStrike">
              <a:solidFill>
                <a:srgbClr val="000000"/>
              </a:solidFill>
              <a:latin typeface="Times New Roman"/>
            </a:endParaRPr>
          </a:p>
        </p:txBody>
      </p:sp>
      <p:sp>
        <p:nvSpPr>
          <p:cNvPr id="108" name=""/>
          <p:cNvSpPr/>
          <p:nvPr/>
        </p:nvSpPr>
        <p:spPr>
          <a:xfrm>
            <a:off x="4040280" y="525780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ure</a:t>
            </a:r>
            <a:endParaRPr b="0" lang="en-US" sz="1800" spc="-1" strike="noStrike">
              <a:solidFill>
                <a:srgbClr val="000000"/>
              </a:solidFill>
              <a:latin typeface="Times New Roman"/>
            </a:endParaRPr>
          </a:p>
        </p:txBody>
      </p:sp>
      <p:sp>
        <p:nvSpPr>
          <p:cNvPr id="109" name=""/>
          <p:cNvSpPr/>
          <p:nvPr/>
        </p:nvSpPr>
        <p:spPr>
          <a:xfrm flipV="1">
            <a:off x="6172200" y="4419720"/>
            <a:ext cx="990720" cy="457200"/>
          </a:xfrm>
          <a:custGeom>
            <a:avLst/>
            <a:gdLst/>
            <a:ahLst/>
            <a:rect l="l" t="t" r="r" b="b"/>
            <a:pathLst>
              <a:path w="624" h="288">
                <a:moveTo>
                  <a:pt x="0" y="288"/>
                </a:moveTo>
                <a:lnTo>
                  <a:pt x="288" y="144"/>
                </a:lnTo>
                <a:lnTo>
                  <a:pt x="336" y="192"/>
                </a:lnTo>
                <a:lnTo>
                  <a:pt x="624" y="0"/>
                </a:lnTo>
              </a:path>
            </a:pathLst>
          </a:custGeom>
          <a:noFill/>
          <a:ln w="9360">
            <a:solidFill>
              <a:srgbClr val="000000"/>
            </a:solidFill>
            <a:round/>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V="1">
            <a:off x="4191120" y="4190400"/>
            <a:ext cx="812520" cy="1447560"/>
          </a:xfrm>
          <a:custGeom>
            <a:avLst/>
            <a:gdLst/>
            <a:ahLst/>
            <a:rect l="l" t="t" r="r" b="b"/>
            <a:pathLst>
              <a:path w="512" h="720">
                <a:moveTo>
                  <a:pt x="104" y="720"/>
                </a:moveTo>
                <a:cubicBezTo>
                  <a:pt x="52" y="408"/>
                  <a:pt x="0" y="96"/>
                  <a:pt x="56" y="48"/>
                </a:cubicBezTo>
                <a:cubicBezTo>
                  <a:pt x="112" y="0"/>
                  <a:pt x="368" y="336"/>
                  <a:pt x="440" y="432"/>
                </a:cubicBezTo>
                <a:cubicBezTo>
                  <a:pt x="512" y="528"/>
                  <a:pt x="500" y="576"/>
                  <a:pt x="488" y="624"/>
                </a:cubicBezTo>
              </a:path>
            </a:pathLst>
          </a:custGeom>
          <a:noFill/>
          <a:ln w="9360">
            <a:solidFill>
              <a:srgbClr val="000000"/>
            </a:solidFill>
            <a:round/>
            <a:tailEnd len="lg"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3505320" y="4037760"/>
            <a:ext cx="2666880" cy="381240"/>
          </a:xfrm>
          <a:custGeom>
            <a:avLst/>
            <a:gdLst/>
            <a:ahLst/>
            <a:rect l="l" t="t" r="r" b="b"/>
            <a:pathLst>
              <a:path w="1680" h="240">
                <a:moveTo>
                  <a:pt x="0" y="192"/>
                </a:moveTo>
                <a:lnTo>
                  <a:pt x="576" y="144"/>
                </a:lnTo>
                <a:lnTo>
                  <a:pt x="912" y="0"/>
                </a:lnTo>
                <a:lnTo>
                  <a:pt x="1296" y="240"/>
                </a:lnTo>
                <a:lnTo>
                  <a:pt x="1680" y="0"/>
                </a:lnTo>
              </a:path>
            </a:pathLst>
          </a:custGeom>
          <a:noFill/>
          <a:ln w="9360">
            <a:solidFill>
              <a:srgbClr val="000000"/>
            </a:solidFill>
            <a:prstDash val="dash"/>
            <a:round/>
            <a:headEnd len="med" type="oval"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600" y="2590920"/>
            <a:ext cx="1453320" cy="228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Systèmes embarqué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cc0000"/>
                </a:solidFill>
                <a:latin typeface="Times New Roman"/>
              </a:rPr>
              <a:t>Caractéris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Elé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Conception d’un S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ycle en V</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Intégr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ycle en spira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Points de v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automatiq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logici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matéri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Intégration</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76320"/>
            <a:ext cx="7467840" cy="76176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Système temps réel</a:t>
            </a:r>
            <a:endParaRPr b="0" lang="en-US" sz="2800" spc="-1" strike="noStrike">
              <a:solidFill>
                <a:srgbClr val="3333cc"/>
              </a:solidFill>
              <a:latin typeface="Arial"/>
            </a:endParaRPr>
          </a:p>
        </p:txBody>
      </p:sp>
      <p:sp>
        <p:nvSpPr>
          <p:cNvPr id="114" name="PlaceHolder 2"/>
          <p:cNvSpPr>
            <a:spLocks noGrp="1"/>
          </p:cNvSpPr>
          <p:nvPr>
            <p:ph/>
          </p:nvPr>
        </p:nvSpPr>
        <p:spPr>
          <a:xfrm>
            <a:off x="1523880" y="990360"/>
            <a:ext cx="7467840" cy="5638680"/>
          </a:xfrm>
          <a:prstGeom prst="rect">
            <a:avLst/>
          </a:prstGeom>
          <a:noFill/>
          <a:ln w="0">
            <a:noFill/>
          </a:ln>
        </p:spPr>
        <p:txBody>
          <a:bodyPr lIns="90360" rIns="90360" tIns="44280" bIns="44280" anchor="t">
            <a:normAutofit/>
          </a:bodyPr>
          <a:p>
            <a:pPr marL="287280" indent="0">
              <a:lnSpc>
                <a:spcPct val="90000"/>
              </a:lnSpc>
              <a:spcBef>
                <a:spcPts val="700"/>
              </a:spcBef>
              <a:buNone/>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7280" indent="0">
              <a:lnSpc>
                <a:spcPct val="90000"/>
              </a:lnSpc>
              <a:spcBef>
                <a:spcPts val="700"/>
              </a:spcBef>
              <a:buNone/>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7280" indent="0">
              <a:lnSpc>
                <a:spcPct val="90000"/>
              </a:lnSpc>
              <a:spcBef>
                <a:spcPts val="700"/>
              </a:spcBef>
              <a:buNone/>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7280" indent="0">
              <a:lnSpc>
                <a:spcPct val="90000"/>
              </a:lnSpc>
              <a:spcBef>
                <a:spcPts val="700"/>
              </a:spcBef>
              <a:buNone/>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7280" indent="0">
              <a:lnSpc>
                <a:spcPct val="90000"/>
              </a:lnSpc>
              <a:spcBef>
                <a:spcPts val="700"/>
              </a:spcBef>
              <a:buNone/>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7280" indent="0">
              <a:lnSpc>
                <a:spcPct val="90000"/>
              </a:lnSpc>
              <a:spcBef>
                <a:spcPts val="700"/>
              </a:spcBef>
              <a:buNone/>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7280" indent="0">
              <a:lnSpc>
                <a:spcPct val="90000"/>
              </a:lnSpc>
              <a:spcBef>
                <a:spcPts val="700"/>
              </a:spcBef>
              <a:buNone/>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7280" indent="0">
              <a:lnSpc>
                <a:spcPct val="90000"/>
              </a:lnSpc>
              <a:spcBef>
                <a:spcPts val="700"/>
              </a:spcBef>
              <a:buNone/>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7280" indent="0">
              <a:lnSpc>
                <a:spcPct val="90000"/>
              </a:lnSpc>
              <a:spcBef>
                <a:spcPts val="700"/>
              </a:spcBef>
              <a:buNone/>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7280" indent="0">
              <a:lnSpc>
                <a:spcPct val="90000"/>
              </a:lnSpc>
              <a:spcBef>
                <a:spcPts val="700"/>
              </a:spcBef>
              <a:buNone/>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7280" indent="0">
              <a:lnSpc>
                <a:spcPct val="90000"/>
              </a:lnSpc>
              <a:spcBef>
                <a:spcPts val="700"/>
              </a:spcBef>
              <a:buNone/>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7280" indent="0">
              <a:lnSpc>
                <a:spcPct val="90000"/>
              </a:lnSpc>
              <a:spcBef>
                <a:spcPts val="700"/>
              </a:spcBef>
              <a:buNone/>
              <a:tabLst>
                <a:tab algn="l" pos="762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5" name=""/>
          <p:cNvSpPr/>
          <p:nvPr/>
        </p:nvSpPr>
        <p:spPr>
          <a:xfrm>
            <a:off x="3276720" y="2819520"/>
            <a:ext cx="3429000" cy="18288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ème Réactif</a:t>
            </a:r>
            <a:endParaRPr b="0" lang="en-US" sz="3200" spc="-1" strike="noStrike">
              <a:solidFill>
                <a:srgbClr val="000000"/>
              </a:solidFill>
              <a:latin typeface="Times New Roman"/>
            </a:endParaRPr>
          </a:p>
        </p:txBody>
      </p:sp>
      <p:sp>
        <p:nvSpPr>
          <p:cNvPr id="116" name=""/>
          <p:cNvSpPr/>
          <p:nvPr/>
        </p:nvSpPr>
        <p:spPr>
          <a:xfrm>
            <a:off x="1854360" y="2438280"/>
            <a:ext cx="1174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événement</a:t>
            </a:r>
            <a:endParaRPr b="0" lang="en-US" sz="1800" spc="-1" strike="noStrike">
              <a:solidFill>
                <a:srgbClr val="000000"/>
              </a:solidFill>
              <a:latin typeface="Times New Roman"/>
            </a:endParaRPr>
          </a:p>
        </p:txBody>
      </p:sp>
      <p:sp>
        <p:nvSpPr>
          <p:cNvPr id="117" name=""/>
          <p:cNvSpPr/>
          <p:nvPr/>
        </p:nvSpPr>
        <p:spPr>
          <a:xfrm>
            <a:off x="5977440" y="2247840"/>
            <a:ext cx="2066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éaction/commande</a:t>
            </a:r>
            <a:endParaRPr b="0" lang="en-US" sz="1800" spc="-1" strike="noStrike">
              <a:solidFill>
                <a:srgbClr val="000000"/>
              </a:solidFill>
              <a:latin typeface="Times New Roman"/>
            </a:endParaRPr>
          </a:p>
        </p:txBody>
      </p:sp>
      <p:sp>
        <p:nvSpPr>
          <p:cNvPr id="118" name=""/>
          <p:cNvSpPr/>
          <p:nvPr/>
        </p:nvSpPr>
        <p:spPr>
          <a:xfrm>
            <a:off x="3986280" y="163836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ure</a:t>
            </a:r>
            <a:endParaRPr b="0" lang="en-US" sz="1800" spc="-1" strike="noStrike">
              <a:solidFill>
                <a:srgbClr val="000000"/>
              </a:solidFill>
              <a:latin typeface="Times New Roman"/>
            </a:endParaRPr>
          </a:p>
        </p:txBody>
      </p:sp>
      <p:sp>
        <p:nvSpPr>
          <p:cNvPr id="119" name=""/>
          <p:cNvSpPr/>
          <p:nvPr/>
        </p:nvSpPr>
        <p:spPr>
          <a:xfrm>
            <a:off x="2286000" y="2819520"/>
            <a:ext cx="1219320" cy="533160"/>
          </a:xfrm>
          <a:custGeom>
            <a:avLst/>
            <a:gdLst/>
            <a:ahLst/>
            <a:rect l="l" t="t" r="r" b="b"/>
            <a:pathLst>
              <a:path w="768" h="336">
                <a:moveTo>
                  <a:pt x="0" y="0"/>
                </a:moveTo>
                <a:lnTo>
                  <a:pt x="336" y="192"/>
                </a:lnTo>
                <a:lnTo>
                  <a:pt x="336" y="96"/>
                </a:lnTo>
                <a:lnTo>
                  <a:pt x="768" y="336"/>
                </a:lnTo>
              </a:path>
            </a:pathLst>
          </a:custGeom>
          <a:noFill/>
          <a:ln w="9360">
            <a:solidFill>
              <a:srgbClr val="000000"/>
            </a:solidFill>
            <a:round/>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172200" y="2590920"/>
            <a:ext cx="990720" cy="457200"/>
          </a:xfrm>
          <a:custGeom>
            <a:avLst/>
            <a:gdLst/>
            <a:ahLst/>
            <a:rect l="l" t="t" r="r" b="b"/>
            <a:pathLst>
              <a:path w="624" h="288">
                <a:moveTo>
                  <a:pt x="0" y="288"/>
                </a:moveTo>
                <a:lnTo>
                  <a:pt x="288" y="144"/>
                </a:lnTo>
                <a:lnTo>
                  <a:pt x="336" y="192"/>
                </a:lnTo>
                <a:lnTo>
                  <a:pt x="624" y="0"/>
                </a:lnTo>
              </a:path>
            </a:pathLst>
          </a:custGeom>
          <a:noFill/>
          <a:ln w="9360">
            <a:solidFill>
              <a:srgbClr val="000000"/>
            </a:solidFill>
            <a:round/>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025880" y="1828800"/>
            <a:ext cx="812880" cy="1447920"/>
          </a:xfrm>
          <a:custGeom>
            <a:avLst/>
            <a:gdLst/>
            <a:ahLst/>
            <a:rect l="l" t="t" r="r" b="b"/>
            <a:pathLst>
              <a:path w="512" h="720">
                <a:moveTo>
                  <a:pt x="104" y="720"/>
                </a:moveTo>
                <a:cubicBezTo>
                  <a:pt x="52" y="408"/>
                  <a:pt x="0" y="96"/>
                  <a:pt x="56" y="48"/>
                </a:cubicBezTo>
                <a:cubicBezTo>
                  <a:pt x="112" y="0"/>
                  <a:pt x="368" y="336"/>
                  <a:pt x="440" y="432"/>
                </a:cubicBezTo>
                <a:cubicBezTo>
                  <a:pt x="512" y="528"/>
                  <a:pt x="500" y="576"/>
                  <a:pt x="488" y="624"/>
                </a:cubicBezTo>
              </a:path>
            </a:pathLst>
          </a:custGeom>
          <a:noFill/>
          <a:ln w="9360">
            <a:solidFill>
              <a:srgbClr val="000000"/>
            </a:solidFill>
            <a:round/>
            <a:tailEnd len="lg"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505320" y="3048120"/>
            <a:ext cx="2666880" cy="380880"/>
          </a:xfrm>
          <a:custGeom>
            <a:avLst/>
            <a:gdLst/>
            <a:ahLst/>
            <a:rect l="l" t="t" r="r" b="b"/>
            <a:pathLst>
              <a:path w="1680" h="240">
                <a:moveTo>
                  <a:pt x="0" y="192"/>
                </a:moveTo>
                <a:lnTo>
                  <a:pt x="576" y="144"/>
                </a:lnTo>
                <a:lnTo>
                  <a:pt x="912" y="0"/>
                </a:lnTo>
                <a:lnTo>
                  <a:pt x="1296" y="240"/>
                </a:lnTo>
                <a:lnTo>
                  <a:pt x="1680" y="0"/>
                </a:lnTo>
              </a:path>
            </a:pathLst>
          </a:custGeom>
          <a:noFill/>
          <a:ln w="9360">
            <a:solidFill>
              <a:srgbClr val="000000"/>
            </a:solidFill>
            <a:prstDash val="dash"/>
            <a:round/>
            <a:headEnd len="med" type="oval"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676520" y="4572000"/>
            <a:ext cx="1174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événement</a:t>
            </a:r>
            <a:endParaRPr b="0" lang="en-US" sz="1800" spc="-1" strike="noStrike">
              <a:solidFill>
                <a:srgbClr val="000000"/>
              </a:solidFill>
              <a:latin typeface="Times New Roman"/>
            </a:endParaRPr>
          </a:p>
        </p:txBody>
      </p:sp>
      <p:sp>
        <p:nvSpPr>
          <p:cNvPr id="124" name=""/>
          <p:cNvSpPr/>
          <p:nvPr/>
        </p:nvSpPr>
        <p:spPr>
          <a:xfrm flipV="1">
            <a:off x="2209680" y="4114800"/>
            <a:ext cx="1219320" cy="533520"/>
          </a:xfrm>
          <a:custGeom>
            <a:avLst/>
            <a:gdLst/>
            <a:ahLst/>
            <a:rect l="l" t="t" r="r" b="b"/>
            <a:pathLst>
              <a:path w="768" h="336">
                <a:moveTo>
                  <a:pt x="0" y="0"/>
                </a:moveTo>
                <a:lnTo>
                  <a:pt x="336" y="192"/>
                </a:lnTo>
                <a:lnTo>
                  <a:pt x="336" y="96"/>
                </a:lnTo>
                <a:lnTo>
                  <a:pt x="768" y="336"/>
                </a:lnTo>
              </a:path>
            </a:pathLst>
          </a:custGeom>
          <a:noFill/>
          <a:ln w="9360">
            <a:solidFill>
              <a:srgbClr val="000000"/>
            </a:solidFill>
            <a:round/>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628320" y="4800600"/>
            <a:ext cx="2066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éaction/commande</a:t>
            </a:r>
            <a:endParaRPr b="0" lang="en-US" sz="1800" spc="-1" strike="noStrike">
              <a:solidFill>
                <a:srgbClr val="000000"/>
              </a:solidFill>
              <a:latin typeface="Times New Roman"/>
            </a:endParaRPr>
          </a:p>
        </p:txBody>
      </p:sp>
      <p:sp>
        <p:nvSpPr>
          <p:cNvPr id="126" name=""/>
          <p:cNvSpPr/>
          <p:nvPr/>
        </p:nvSpPr>
        <p:spPr>
          <a:xfrm>
            <a:off x="4040280" y="5257800"/>
            <a:ext cx="86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ure</a:t>
            </a:r>
            <a:endParaRPr b="0" lang="en-US" sz="1800" spc="-1" strike="noStrike">
              <a:solidFill>
                <a:srgbClr val="000000"/>
              </a:solidFill>
              <a:latin typeface="Times New Roman"/>
            </a:endParaRPr>
          </a:p>
        </p:txBody>
      </p:sp>
      <p:sp>
        <p:nvSpPr>
          <p:cNvPr id="127" name=""/>
          <p:cNvSpPr/>
          <p:nvPr/>
        </p:nvSpPr>
        <p:spPr>
          <a:xfrm flipV="1">
            <a:off x="6172200" y="4419720"/>
            <a:ext cx="990720" cy="457200"/>
          </a:xfrm>
          <a:custGeom>
            <a:avLst/>
            <a:gdLst/>
            <a:ahLst/>
            <a:rect l="l" t="t" r="r" b="b"/>
            <a:pathLst>
              <a:path w="624" h="288">
                <a:moveTo>
                  <a:pt x="0" y="288"/>
                </a:moveTo>
                <a:lnTo>
                  <a:pt x="288" y="144"/>
                </a:lnTo>
                <a:lnTo>
                  <a:pt x="336" y="192"/>
                </a:lnTo>
                <a:lnTo>
                  <a:pt x="624" y="0"/>
                </a:lnTo>
              </a:path>
            </a:pathLst>
          </a:custGeom>
          <a:noFill/>
          <a:ln w="9360">
            <a:solidFill>
              <a:srgbClr val="000000"/>
            </a:solidFill>
            <a:round/>
            <a:tailEnd len="lg"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4191120" y="4190400"/>
            <a:ext cx="812520" cy="1447560"/>
          </a:xfrm>
          <a:custGeom>
            <a:avLst/>
            <a:gdLst/>
            <a:ahLst/>
            <a:rect l="l" t="t" r="r" b="b"/>
            <a:pathLst>
              <a:path w="512" h="720">
                <a:moveTo>
                  <a:pt x="104" y="720"/>
                </a:moveTo>
                <a:cubicBezTo>
                  <a:pt x="52" y="408"/>
                  <a:pt x="0" y="96"/>
                  <a:pt x="56" y="48"/>
                </a:cubicBezTo>
                <a:cubicBezTo>
                  <a:pt x="112" y="0"/>
                  <a:pt x="368" y="336"/>
                  <a:pt x="440" y="432"/>
                </a:cubicBezTo>
                <a:cubicBezTo>
                  <a:pt x="512" y="528"/>
                  <a:pt x="500" y="576"/>
                  <a:pt x="488" y="624"/>
                </a:cubicBezTo>
              </a:path>
            </a:pathLst>
          </a:custGeom>
          <a:noFill/>
          <a:ln w="9360">
            <a:solidFill>
              <a:srgbClr val="000000"/>
            </a:solidFill>
            <a:round/>
            <a:tailEnd len="lg" type="stealth"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3505320" y="4037760"/>
            <a:ext cx="2666880" cy="381240"/>
          </a:xfrm>
          <a:custGeom>
            <a:avLst/>
            <a:gdLst/>
            <a:ahLst/>
            <a:rect l="l" t="t" r="r" b="b"/>
            <a:pathLst>
              <a:path w="1680" h="240">
                <a:moveTo>
                  <a:pt x="0" y="192"/>
                </a:moveTo>
                <a:lnTo>
                  <a:pt x="576" y="144"/>
                </a:lnTo>
                <a:lnTo>
                  <a:pt x="912" y="0"/>
                </a:lnTo>
                <a:lnTo>
                  <a:pt x="1296" y="240"/>
                </a:lnTo>
                <a:lnTo>
                  <a:pt x="1680" y="0"/>
                </a:lnTo>
              </a:path>
            </a:pathLst>
          </a:custGeom>
          <a:noFill/>
          <a:ln w="9360">
            <a:solidFill>
              <a:srgbClr val="000000"/>
            </a:solidFill>
            <a:prstDash val="dash"/>
            <a:round/>
            <a:headEnd len="med" type="oval"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3429000" y="1066680"/>
            <a:ext cx="0" cy="2362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6172200" y="1066680"/>
            <a:ext cx="0" cy="2362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429000" y="1219320"/>
            <a:ext cx="2743200" cy="0"/>
          </a:xfrm>
          <a:prstGeom prst="line">
            <a:avLst/>
          </a:prstGeom>
          <a:ln w="1908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780720" y="913680"/>
            <a:ext cx="715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Tmax</a:t>
            </a:r>
            <a:endParaRPr b="0" lang="en-US" sz="1800" spc="-1" strike="noStrike">
              <a:solidFill>
                <a:srgbClr val="000000"/>
              </a:solidFill>
              <a:latin typeface="Times New Roman"/>
            </a:endParaRPr>
          </a:p>
        </p:txBody>
      </p:sp>
      <p:sp>
        <p:nvSpPr>
          <p:cNvPr id="134" name=""/>
          <p:cNvSpPr/>
          <p:nvPr/>
        </p:nvSpPr>
        <p:spPr>
          <a:xfrm>
            <a:off x="1890000" y="5835960"/>
            <a:ext cx="4799520" cy="825480"/>
          </a:xfrm>
          <a:prstGeom prst="rect">
            <a:avLst/>
          </a:prstGeom>
          <a:noFill/>
          <a:ln w="0">
            <a:noFill/>
          </a:ln>
        </p:spPr>
        <p:style>
          <a:lnRef idx="0"/>
          <a:fillRef idx="0"/>
          <a:effectRef idx="0"/>
          <a:fontRef idx="minor"/>
        </p:style>
        <p:txBody>
          <a:bodyPr wrap="none" lIns="90000" rIns="90000" tIns="46800" bIns="46800" anchor="ctr">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ir à la vitesse de l ’environnement</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mple : détection d ’obstacle</a:t>
            </a:r>
            <a:endParaRPr b="0" lang="en-US" sz="2400" spc="-1" strike="noStrike">
              <a:solidFill>
                <a:srgbClr val="000000"/>
              </a:solidFill>
              <a:latin typeface="Times New Roman"/>
            </a:endParaRPr>
          </a:p>
        </p:txBody>
      </p:sp>
      <p:sp>
        <p:nvSpPr>
          <p:cNvPr id="135" name=""/>
          <p:cNvSpPr/>
          <p:nvPr/>
        </p:nvSpPr>
        <p:spPr>
          <a:xfrm>
            <a:off x="3600" y="2590920"/>
            <a:ext cx="1453320" cy="228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Systèmes embarqué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cc0000"/>
                </a:solidFill>
                <a:latin typeface="Times New Roman"/>
              </a:rPr>
              <a:t>Caractéris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Elé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Conception d’un S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ycle en V</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Intégr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ycle en spira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Points de v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automatiq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logici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matéri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Intégration</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Vivace</a:t>
            </a:r>
            <a:endParaRPr b="0" lang="en-US" sz="2800" spc="-1" strike="noStrike">
              <a:solidFill>
                <a:srgbClr val="3333cc"/>
              </a:solidFill>
              <a:latin typeface="Arial"/>
            </a:endParaRPr>
          </a:p>
        </p:txBody>
      </p:sp>
      <p:sp>
        <p:nvSpPr>
          <p:cNvPr id="137" name="PlaceHolder 2"/>
          <p:cNvSpPr>
            <a:spLocks noGrp="1"/>
          </p:cNvSpPr>
          <p:nvPr>
            <p:ph/>
          </p:nvPr>
        </p:nvSpPr>
        <p:spPr>
          <a:xfrm>
            <a:off x="1523880" y="990360"/>
            <a:ext cx="7467840" cy="5638680"/>
          </a:xfrm>
          <a:prstGeom prst="rect">
            <a:avLst/>
          </a:prstGeom>
          <a:noFill/>
          <a:ln w="0">
            <a:noFill/>
          </a:ln>
        </p:spPr>
        <p:txBody>
          <a:bodyPr lIns="90000" rIns="90000" tIns="46800" bIns="46800" anchor="t">
            <a:normAutofit/>
          </a:bodyPr>
          <a:p>
            <a:pPr marL="287280" indent="-287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 système ne doit pas se bloquer</a:t>
            </a:r>
            <a:endParaRPr b="0" lang="en-US" sz="2800" spc="-1" strike="noStrike">
              <a:solidFill>
                <a:srgbClr val="000000"/>
              </a:solidFill>
              <a:latin typeface="Times New Roman"/>
            </a:endParaRPr>
          </a:p>
          <a:p>
            <a:pPr marL="287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7280" indent="-287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rantir </a:t>
            </a:r>
            <a:endParaRPr b="0" lang="en-US" sz="28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mps de réponse</a:t>
            </a:r>
            <a:endParaRPr b="0" lang="en-US" sz="24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mmation </a:t>
            </a:r>
            <a:endParaRPr b="0" lang="en-US" sz="24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ouvrement/ traitement des fautes</a:t>
            </a:r>
            <a:endParaRPr b="0" lang="en-US" sz="24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écurité</a:t>
            </a:r>
            <a:endParaRPr b="0" lang="en-US" sz="24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bustesse</a:t>
            </a:r>
            <a:endParaRPr b="0" lang="en-US" sz="2400" spc="-1" strike="noStrike">
              <a:solidFill>
                <a:srgbClr val="000000"/>
              </a:solidFill>
              <a:latin typeface="Times New Roman"/>
            </a:endParaRPr>
          </a:p>
        </p:txBody>
      </p:sp>
      <p:sp>
        <p:nvSpPr>
          <p:cNvPr id="138" name=""/>
          <p:cNvSpPr/>
          <p:nvPr/>
        </p:nvSpPr>
        <p:spPr>
          <a:xfrm>
            <a:off x="3600" y="2590920"/>
            <a:ext cx="1453320" cy="228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Systèmes embarqué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cc0000"/>
                </a:solidFill>
                <a:latin typeface="Times New Roman"/>
              </a:rPr>
              <a:t>Caractéris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Elé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Conception d’un S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ycle en V</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Intégr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ycle en spira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Points de v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automatiq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logici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matéri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Intégr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76320"/>
            <a:ext cx="746784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oncurrent /hétérogène</a:t>
            </a:r>
            <a:endParaRPr b="0" lang="en-US" sz="2800" spc="-1" strike="noStrike">
              <a:solidFill>
                <a:srgbClr val="3333cc"/>
              </a:solidFill>
              <a:latin typeface="Arial"/>
            </a:endParaRPr>
          </a:p>
        </p:txBody>
      </p:sp>
      <p:sp>
        <p:nvSpPr>
          <p:cNvPr id="140" name="PlaceHolder 2"/>
          <p:cNvSpPr>
            <a:spLocks noGrp="1"/>
          </p:cNvSpPr>
          <p:nvPr>
            <p:ph/>
          </p:nvPr>
        </p:nvSpPr>
        <p:spPr>
          <a:xfrm>
            <a:off x="1523880" y="990360"/>
            <a:ext cx="7467840" cy="5638680"/>
          </a:xfrm>
          <a:prstGeom prst="rect">
            <a:avLst/>
          </a:prstGeom>
          <a:noFill/>
          <a:ln w="0">
            <a:noFill/>
          </a:ln>
        </p:spPr>
        <p:txBody>
          <a:bodyPr lIns="90000" rIns="90000" tIns="46800" bIns="46800" anchor="t">
            <a:normAutofit/>
          </a:bodyPr>
          <a:p>
            <a:pPr marL="287280" indent="-287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Concurrent </a:t>
            </a:r>
            <a:endParaRPr b="0" lang="en-US" sz="28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lusieurs réponses à des événements quasi simultanés</a:t>
            </a:r>
            <a:endParaRPr b="0" lang="en-US" sz="2400" spc="-1" strike="noStrike">
              <a:solidFill>
                <a:srgbClr val="000000"/>
              </a:solidFill>
              <a:latin typeface="Times New Roman"/>
            </a:endParaRPr>
          </a:p>
          <a:p>
            <a:pPr marL="287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87280" indent="-287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rPr>
              <a:t>Hétérogène </a:t>
            </a:r>
            <a:endParaRPr b="0" lang="en-US" sz="28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 tous les niveaux </a:t>
            </a:r>
            <a:endParaRPr b="0" lang="en-US" sz="2400" spc="-1" strike="noStrike">
              <a:solidFill>
                <a:srgbClr val="000000"/>
              </a:solidFill>
              <a:latin typeface="Times New Roman"/>
            </a:endParaRPr>
          </a:p>
          <a:p>
            <a:pPr lvl="2" marL="952560" indent="-18756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matérielle</a:t>
            </a:r>
            <a:endParaRPr b="0" lang="en-US" sz="2000" spc="-1" strike="noStrike">
              <a:solidFill>
                <a:srgbClr val="000000"/>
              </a:solidFill>
              <a:latin typeface="Times New Roman"/>
            </a:endParaRPr>
          </a:p>
          <a:p>
            <a:pPr lvl="2" marL="952560" indent="-18756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fonctionnelle (algorithmes) </a:t>
            </a:r>
            <a:endParaRPr b="0" lang="en-US" sz="2000" spc="-1" strike="noStrike">
              <a:solidFill>
                <a:srgbClr val="000000"/>
              </a:solidFill>
              <a:latin typeface="Times New Roman"/>
            </a:endParaRPr>
          </a:p>
          <a:p>
            <a:pPr lvl="2" marL="952560" indent="-18756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ontrôle d ’exécution, logiciel</a:t>
            </a:r>
            <a:endParaRPr b="0" lang="en-US" sz="20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Réponse dédiée pour chaque ensemble de caractéristiques</a:t>
            </a:r>
            <a:endParaRPr b="0" lang="en-US" sz="24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natures différentes de contraintres</a:t>
            </a:r>
            <a:endParaRPr b="0" lang="en-US" sz="2400" spc="-1" strike="noStrike">
              <a:solidFill>
                <a:srgbClr val="000000"/>
              </a:solidFill>
              <a:latin typeface="Times New Roman"/>
            </a:endParaRPr>
          </a:p>
          <a:p>
            <a:pPr lvl="2" marL="952560" indent="-18756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ontrôle/commande, communication, </a:t>
            </a:r>
            <a:endParaRPr b="0" lang="en-US" sz="2000" spc="-1" strike="noStrike">
              <a:solidFill>
                <a:srgbClr val="000000"/>
              </a:solidFill>
              <a:latin typeface="Times New Roman"/>
            </a:endParaRPr>
          </a:p>
          <a:p>
            <a:pPr lvl="2" marL="952560" indent="-18756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llocation statique, dynamique</a:t>
            </a:r>
            <a:endParaRPr b="0" lang="en-US" sz="2000" spc="-1" strike="noStrike">
              <a:solidFill>
                <a:srgbClr val="000000"/>
              </a:solidFill>
              <a:latin typeface="Times New Roman"/>
            </a:endParaRPr>
          </a:p>
          <a:p>
            <a:pPr marL="287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1" name=""/>
          <p:cNvSpPr/>
          <p:nvPr/>
        </p:nvSpPr>
        <p:spPr>
          <a:xfrm>
            <a:off x="3600" y="2590920"/>
            <a:ext cx="1453320" cy="228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Systèmes embarqué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cc0000"/>
                </a:solidFill>
                <a:latin typeface="Times New Roman"/>
              </a:rPr>
              <a:t>Caractéris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Elé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Conception d’un S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ycle en V</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Intégr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ycle en spira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Points de v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automatiq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logici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matéri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Intégration</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371240" y="-360"/>
            <a:ext cx="76201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Système Embarqué</a:t>
            </a:r>
            <a:endParaRPr b="0" lang="en-US" sz="2800" spc="-1" strike="noStrike">
              <a:solidFill>
                <a:srgbClr val="3333cc"/>
              </a:solidFill>
              <a:latin typeface="Arial"/>
            </a:endParaRPr>
          </a:p>
        </p:txBody>
      </p:sp>
      <p:sp>
        <p:nvSpPr>
          <p:cNvPr id="143" name="PlaceHolder 2"/>
          <p:cNvSpPr>
            <a:spLocks noGrp="1"/>
          </p:cNvSpPr>
          <p:nvPr>
            <p:ph/>
          </p:nvPr>
        </p:nvSpPr>
        <p:spPr>
          <a:xfrm>
            <a:off x="1523880" y="990360"/>
            <a:ext cx="7467840" cy="5638680"/>
          </a:xfrm>
          <a:prstGeom prst="rect">
            <a:avLst/>
          </a:prstGeom>
          <a:noFill/>
          <a:ln w="0">
            <a:noFill/>
          </a:ln>
        </p:spPr>
        <p:txBody>
          <a:bodyPr lIns="90000" rIns="90000" tIns="46800" bIns="46800" anchor="t">
            <a:normAutofit/>
          </a:bodyPr>
          <a:p>
            <a:pPr marL="287280" indent="-2872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rPr>
              <a:t>Définition </a:t>
            </a:r>
            <a:r>
              <a:rPr b="0" lang="fr-FR" sz="2800" spc="-1" strike="noStrike">
                <a:solidFill>
                  <a:srgbClr val="000000"/>
                </a:solidFill>
                <a:latin typeface="Times New Roman"/>
              </a:rPr>
              <a:t>: </a:t>
            </a:r>
            <a:endParaRPr b="0" lang="en-US" sz="2800" spc="-1" strike="noStrike">
              <a:solidFill>
                <a:srgbClr val="000000"/>
              </a:solidFill>
              <a:latin typeface="Times New Roman"/>
            </a:endParaRPr>
          </a:p>
          <a:p>
            <a:pPr marL="287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ystème intégré dans un système plus large avec lequel il est interfacé, et pour lequel il réalise des fonctions particulières (contrôle, surveillance, communication) </a:t>
            </a:r>
            <a:endParaRPr b="0" lang="en-US" sz="24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ystème intégrant un ou des composants programmables</a:t>
            </a:r>
            <a:endParaRPr b="0" lang="en-US" sz="24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ystème soumis à des contraintes fortes en terme de respect d’échéances temporelles (temps réel), de sûreté de fonctionnement, de conception. </a:t>
            </a:r>
            <a:endParaRPr b="0" lang="en-US" sz="2400" spc="-1" strike="noStrike">
              <a:solidFill>
                <a:srgbClr val="000000"/>
              </a:solidFill>
              <a:latin typeface="Times New Roman"/>
            </a:endParaRPr>
          </a:p>
          <a:p>
            <a:pPr lvl="1" marL="574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574560" indent="-96840">
              <a:spcBef>
                <a:spcPts val="60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e + en + : système communicant :Intra/Inter net</a:t>
            </a:r>
            <a:endParaRPr b="0" lang="en-US" sz="2400" spc="-1" strike="noStrike">
              <a:solidFill>
                <a:srgbClr val="000000"/>
              </a:solidFill>
              <a:latin typeface="Times New Roman"/>
            </a:endParaRPr>
          </a:p>
        </p:txBody>
      </p:sp>
      <p:sp>
        <p:nvSpPr>
          <p:cNvPr id="144" name=""/>
          <p:cNvSpPr/>
          <p:nvPr/>
        </p:nvSpPr>
        <p:spPr>
          <a:xfrm>
            <a:off x="3600" y="2590920"/>
            <a:ext cx="1453320" cy="228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Systèmes embarqué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cc0000"/>
                </a:solidFill>
                <a:latin typeface="Times New Roman"/>
              </a:rPr>
              <a:t>Caractéris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Elément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Conception d’un S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ycle en V</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Intégratio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cycle en spira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Points de v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automatiqu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logici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   </a:t>
            </a:r>
            <a:r>
              <a:rPr b="0" lang="en-US" sz="1200" spc="-1" strike="noStrike">
                <a:solidFill>
                  <a:srgbClr val="3333cc"/>
                </a:solidFill>
                <a:latin typeface="Times New Roman"/>
              </a:rPr>
              <a:t>matérie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imes New Roman"/>
              </a:rPr>
              <a:t>Intégration</a:t>
            </a:r>
            <a:endParaRPr b="0" lang="en-US" sz="1200" spc="-1" strike="noStrike">
              <a:solidFill>
                <a:srgbClr val="000000"/>
              </a:solidFill>
              <a:latin typeface="Times New Roman"/>
            </a:endParaRPr>
          </a:p>
        </p:txBody>
      </p:sp>
    </p:spTree>
  </p:cSld>
  <p:transition>
    <p:pull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16T11:25:03Z</dcterms:created>
  <dc:creator>gilliotj</dc:creator>
  <dc:description/>
  <dc:language>en-US</dc:language>
  <cp:lastModifiedBy>Groupe E.S.I.E.E.</cp:lastModifiedBy>
  <cp:lastPrinted>2001-11-28T08:16:00Z</cp:lastPrinted>
  <dcterms:modified xsi:type="dcterms:W3CDTF">2001-12-06T09:42:52Z</dcterms:modified>
  <cp:revision>84</cp:revision>
  <dc:subject/>
  <dc:title>Objectifs</dc:title>
</cp:coreProperties>
</file>